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gif" ContentType="image/gif"/>
  <Override PartName="/ppt/media/image2.jpeg" ContentType="image/jpeg"/>
  <Override PartName="/ppt/media/image3.png" ContentType="image/png"/>
  <Override PartName="/ppt/media/image4.gif" ContentType="image/gif"/>
  <Override PartName="/ppt/media/image5.gif" ContentType="image/gif"/>
  <Override PartName="/ppt/media/image6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E5583-9403-4987-B04E-AB0B7719D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DD07B-0637-4A0F-9CC9-E5D6CFA06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3035C-C8D4-4377-AE28-0680AB0DC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FA115-B70A-4829-BE1A-EA311C4B2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B8733A-4E6B-41D6-9293-F66F5C72F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42762E-1207-477A-885B-7808E431D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2861C9-9D5A-48C6-999A-B97492511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6AF457-7EC9-4566-A20B-E88BBC7BA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5C3006-518B-411D-9BC8-7EEE3280B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15707F-CFE2-46F4-8496-CB7867FB7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3F0CB9-ABE9-433E-85BE-C80A1915D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CC167-60F2-45AA-B8F8-DF2777F79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98CC0A-ADF6-4418-AA17-46FB54F23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0F8C63-4E31-4FE0-9E2C-94D831D79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5FBC59-21CE-4FCE-9AD5-2DCDEF412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15813B-ADA2-47E5-A36A-28A47E8A2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B8427E-ED35-42D7-8835-507607EEC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D0C7F4-5477-4171-BE10-791758AC6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5EDDC2-DE1E-41AF-8802-6250E38E1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9E3AF6-28F7-478A-BCE9-C59CC6C83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DC3D1A-2998-4056-8436-5D17BFA87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FBD7BC-0A06-444E-BCF8-67CFE3F51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A5BD8-544C-4FDC-AF37-DD474FB96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D74B5A-16E6-48F4-83AB-1C88C837C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C36FA7-773F-4136-8E09-3716A9CE3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5D5BD0-9462-43D9-82F5-0E2328B1C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F57F93-95A3-4F18-A5C9-D0A86AF70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1A1F89-DF2F-4A31-BB2C-3905C9F41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4C6430-B23C-4DCF-BDF5-0207E197F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E08403-B5B4-4344-AFCC-8D55C39F8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8684D-077E-4658-BE68-D8705F32E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F55EB-4E1D-474D-AA21-17B2EAF16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1C6F8-2B7A-4774-A3D2-095ECB386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23990-1AD9-4213-9318-FD552A55E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9FFAE-5B4A-47D6-A574-9C0CB8134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86778-5356-4B6B-B59C-3078805D0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EEE0D-90F1-4CF7-B15C-F5627E8EF05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BF574-BE4F-4039-9C31-AEA07E07814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58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07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0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0" name="PlaceHolder 1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08031-2354-4D0A-BD30-D9A50396DB5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Конкурс программистов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Какие имена правильные?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95280" y="980640"/>
            <a:ext cx="8229600" cy="33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z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&amp;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Whe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а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tya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[Qu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ABB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+B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Сколько раз выполнится цикл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a :=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for i:=3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1</a:t>
            </a: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 d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 := a+1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a :=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0</a:t>
            </a: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for i:=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 dow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1</a:t>
            </a: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 d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 := a+1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WordArt 2"/>
          <p:cNvSpPr txBox="1"/>
          <p:nvPr/>
        </p:nvSpPr>
        <p:spPr>
          <a:xfrm>
            <a:off x="6516720" y="5229360"/>
            <a:ext cx="23144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1  тур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4" name="WordArt 3"/>
          <p:cNvSpPr txBox="1"/>
          <p:nvPr/>
        </p:nvSpPr>
        <p:spPr>
          <a:xfrm>
            <a:off x="1692360" y="1268280"/>
            <a:ext cx="6769080" cy="13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онкурс корректоров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85" name="Picture 5" descr="214"/>
          <p:cNvPicPr/>
          <p:nvPr/>
        </p:nvPicPr>
        <p:blipFill>
          <a:blip r:embed="rId3"/>
          <a:stretch/>
        </p:blipFill>
        <p:spPr>
          <a:xfrm>
            <a:off x="1476360" y="5013360"/>
            <a:ext cx="1943280" cy="11764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6" descr="214"/>
          <p:cNvPicPr/>
          <p:nvPr/>
        </p:nvPicPr>
        <p:blipFill>
          <a:blip r:embed="rId4"/>
          <a:stretch/>
        </p:blipFill>
        <p:spPr>
          <a:xfrm>
            <a:off x="3780000" y="5445000"/>
            <a:ext cx="1296720" cy="785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68360" y="836640"/>
            <a:ext cx="8229600" cy="92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Найдите ошибки в программа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68360" y="1699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дача_1. Решить квадратное уравнени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x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Найти и исправить ошиб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urav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,c: integer; x:real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ln(a,b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=0 then if c=0 then writeln(‘x -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юбо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’) else writeln(‘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шени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’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se if c=0 then writeln(‘x=0’) else writeln(‘x1=’,-sqrt(c/a),’x2=’,sqrt(c/a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468360" y="1699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дача_2. Определить наименьшую цифру чис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minimim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 min,z,a:intege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ln(a);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:=1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le a&gt;1 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:=a mod 1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z&lt;min then min:=z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=a div 1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ln(z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Найдите ошибки в программа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468360" y="1483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дача 3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уществить реверс элементов одномерного масси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rev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 a:array[1..10] of intege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:intege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i:=1 to 10 do readln(a[i]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i:=1 to 10 do a[10+1-i]:=a[i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i:=1 to 10 do write(a[i]: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Найдите ошибки в программа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WordArt 2"/>
          <p:cNvSpPr txBox="1"/>
          <p:nvPr/>
        </p:nvSpPr>
        <p:spPr>
          <a:xfrm>
            <a:off x="6516720" y="5229360"/>
            <a:ext cx="23144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2  тур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4" name="WordArt 3"/>
          <p:cNvSpPr txBox="1"/>
          <p:nvPr/>
        </p:nvSpPr>
        <p:spPr>
          <a:xfrm>
            <a:off x="1692360" y="1268280"/>
            <a:ext cx="6769080" cy="13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онкурс разработчиков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95" name="Picture 6" descr="230"/>
          <p:cNvPicPr/>
          <p:nvPr/>
        </p:nvPicPr>
        <p:blipFill>
          <a:blip r:embed="rId3"/>
          <a:stretch/>
        </p:blipFill>
        <p:spPr>
          <a:xfrm>
            <a:off x="2556000" y="4365720"/>
            <a:ext cx="1523880" cy="1676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3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ходной файл – </a:t>
            </a:r>
            <a:r>
              <a:rPr b="1" i="1" lang="en-US" sz="4000" spc="-1" strike="noStrike">
                <a:solidFill>
                  <a:srgbClr val="ff0000"/>
                </a:solidFill>
                <a:latin typeface="Arial"/>
              </a:rPr>
              <a:t>zadanie.i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ыходной файл – </a:t>
            </a:r>
            <a:r>
              <a:rPr b="1" i="1" lang="en-US" sz="4000" spc="-1" strike="noStrike">
                <a:solidFill>
                  <a:srgbClr val="ff0000"/>
                </a:solidFill>
                <a:latin typeface="Arial"/>
              </a:rPr>
              <a:t>zadanie.ou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Задания для 1-ой команд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воичное число, введенное пользователем преобразовать в десятичное числ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ределить, какие различные числа входят в целое числ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Задания для 2-ой команд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исло, представленное в шестнадцатеричной системе счисления, перевести в десятичную систему счисл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ределить, есть ли в целом числе две подряд идущие одинаковые цифры и как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WordArt 2"/>
          <p:cNvSpPr txBox="1"/>
          <p:nvPr/>
        </p:nvSpPr>
        <p:spPr>
          <a:xfrm>
            <a:off x="6516720" y="5229360"/>
            <a:ext cx="23144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3  тур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9" name="WordArt 3"/>
          <p:cNvSpPr txBox="1"/>
          <p:nvPr/>
        </p:nvSpPr>
        <p:spPr>
          <a:xfrm>
            <a:off x="1692360" y="1268280"/>
            <a:ext cx="6769080" cy="13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онкурс болельщиков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00" name="Picture 6" descr="230"/>
          <p:cNvPicPr/>
          <p:nvPr/>
        </p:nvPicPr>
        <p:blipFill>
          <a:blip r:embed="rId3"/>
          <a:stretch/>
        </p:blipFill>
        <p:spPr>
          <a:xfrm>
            <a:off x="2556000" y="4365720"/>
            <a:ext cx="1523880" cy="1676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0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айте ответы на следующие вопрос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39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каком году был разработан язык Паскал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ведения об окружающем мире и о нас сами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ледовательность действий, которая приводит к решению поставленной задач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инимальная единица хранения информ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ногократное повторение одних и тех же действ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ваш класс приходит новый ученик по фамилии Афанасенко. Вы справшиваете учителя, кто это: девочка или мальчик. Какое количество информации содержит ответ учител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8" descr="209"/>
          <p:cNvPicPr/>
          <p:nvPr/>
        </p:nvPicPr>
        <p:blipFill>
          <a:blip r:embed="rId1"/>
          <a:stretch/>
        </p:blipFill>
        <p:spPr>
          <a:xfrm>
            <a:off x="1762200" y="3500280"/>
            <a:ext cx="2592360" cy="1795680"/>
          </a:xfrm>
          <a:prstGeom prst="rect">
            <a:avLst/>
          </a:prstGeom>
          <a:ln w="0">
            <a:noFill/>
          </a:ln>
        </p:spPr>
      </p:pic>
      <p:sp>
        <p:nvSpPr>
          <p:cNvPr id="163" name="WordArt 5"/>
          <p:cNvSpPr txBox="1"/>
          <p:nvPr/>
        </p:nvSpPr>
        <p:spPr>
          <a:xfrm rot="21144600">
            <a:off x="324000" y="1412640"/>
            <a:ext cx="82296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528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00007d"/>
                  </a:solidFill>
                  <a:miter/>
                </a:ln>
                <a:solidFill>
                  <a:srgbClr val="cc00cc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тборочный тур</a:t>
            </a:r>
            <a:endParaRPr b="1" lang="en-US" sz="1800" spc="1" strike="noStrike">
              <a:ln w="25560">
                <a:solidFill>
                  <a:srgbClr val="00007d"/>
                </a:solidFill>
                <a:miter/>
              </a:ln>
              <a:solidFill>
                <a:srgbClr val="cc00cc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64" name="Picture 7" descr="i1"/>
          <p:cNvPicPr/>
          <p:nvPr/>
        </p:nvPicPr>
        <p:blipFill>
          <a:blip r:embed="rId2"/>
          <a:stretch/>
        </p:blipFill>
        <p:spPr>
          <a:xfrm>
            <a:off x="6443640" y="2924280"/>
            <a:ext cx="1716120" cy="2074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WordArt 5"/>
          <p:cNvSpPr txBox="1"/>
          <p:nvPr/>
        </p:nvSpPr>
        <p:spPr>
          <a:xfrm>
            <a:off x="250920" y="1484280"/>
            <a:ext cx="7561080" cy="106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Он всегда имел запас калькуляторов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204" name="WordArt 6"/>
          <p:cNvSpPr txBox="1"/>
          <p:nvPr/>
        </p:nvSpPr>
        <p:spPr>
          <a:xfrm>
            <a:off x="3924360" y="1700280"/>
            <a:ext cx="1704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пас каль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.Найдите знакомые термины в следующих фразах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WordArt 4"/>
          <p:cNvSpPr txBox="1"/>
          <p:nvPr/>
        </p:nvSpPr>
        <p:spPr>
          <a:xfrm>
            <a:off x="1042920" y="2708280"/>
            <a:ext cx="649152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По приказу директор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мы шкаф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переставили в угол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207" name="WordArt 5"/>
          <p:cNvSpPr txBox="1"/>
          <p:nvPr/>
        </p:nvSpPr>
        <p:spPr>
          <a:xfrm>
            <a:off x="2844720" y="3467160"/>
            <a:ext cx="2374920" cy="322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мы шк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6"/>
          <p:cNvSpPr/>
          <p:nvPr/>
        </p:nvSpPr>
        <p:spPr>
          <a:xfrm>
            <a:off x="684360" y="692280"/>
            <a:ext cx="7848360" cy="42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8.   В коробке лежат 5 карандашей: </a:t>
            </a:r>
            <a:r>
              <a:rPr b="1" lang="en-US" sz="2800" spc="-1" strike="noStrike">
                <a:solidFill>
                  <a:srgbClr val="6600cc"/>
                </a:solidFill>
                <a:latin typeface="Arial"/>
              </a:rPr>
              <a:t>2 синих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3 красных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 Сколько карандашей надо взять из коробки, не заглядывая в неё, чтобы среди них был хотя бы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один красный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карандаш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9. Отгадайте анаграм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5"/>
          <p:cNvSpPr/>
          <p:nvPr/>
        </p:nvSpPr>
        <p:spPr>
          <a:xfrm>
            <a:off x="395280" y="3500280"/>
            <a:ext cx="7705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Молодая наука, рожденная компьютерам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WordArt 6"/>
          <p:cNvSpPr txBox="1"/>
          <p:nvPr/>
        </p:nvSpPr>
        <p:spPr>
          <a:xfrm>
            <a:off x="1187280" y="5084640"/>
            <a:ext cx="619308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24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ДОК  +  УМ  +  НЕТ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1" name="Rectangle 2"/>
          <p:cNvSpPr/>
          <p:nvPr/>
        </p:nvSpPr>
        <p:spPr>
          <a:xfrm>
            <a:off x="457200" y="457200"/>
            <a:ext cx="7570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Средства взаимодействия программы и пользовател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WordArt 4"/>
          <p:cNvSpPr txBox="1"/>
          <p:nvPr/>
        </p:nvSpPr>
        <p:spPr>
          <a:xfrm>
            <a:off x="1042920" y="2060640"/>
            <a:ext cx="619128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ЕЙФ  +  РЕ  +  НИТ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8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468000" y="691920"/>
            <a:ext cx="74883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.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Компьютерное зазеркаль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олговременный склероз.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(Оперативная память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Локальный компьют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(Глобальная сеть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тцовский бло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(Материнская плат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99" dur="1000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11" dur="1000"/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2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2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2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3" dur="1000"/>
                                        <p:tgtEl>
                                          <p:spTgt spid="2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WordArt 2"/>
          <p:cNvSpPr txBox="1"/>
          <p:nvPr/>
        </p:nvSpPr>
        <p:spPr>
          <a:xfrm>
            <a:off x="6516720" y="5229360"/>
            <a:ext cx="23144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4  тур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5" name="WordArt 3"/>
          <p:cNvSpPr txBox="1"/>
          <p:nvPr/>
        </p:nvSpPr>
        <p:spPr>
          <a:xfrm>
            <a:off x="1692360" y="1268280"/>
            <a:ext cx="6769080" cy="13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онкурс оптимизаторов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16" name="Picture 14" descr="218"/>
          <p:cNvPicPr/>
          <p:nvPr/>
        </p:nvPicPr>
        <p:blipFill>
          <a:blip r:embed="rId3"/>
          <a:stretch/>
        </p:blipFill>
        <p:spPr>
          <a:xfrm>
            <a:off x="2411280" y="3645000"/>
            <a:ext cx="1905120" cy="1571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30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cc"/>
                </a:solidFill>
                <a:latin typeface="Arial"/>
              </a:rPr>
              <a:t>Друзья мои!</a:t>
            </a:r>
            <a:br>
              <a:rPr sz="3200"/>
            </a:br>
            <a:r>
              <a:rPr b="1" i="1" lang="en-US" sz="3200" spc="-1" strike="noStrike">
                <a:solidFill>
                  <a:srgbClr val="6600cc"/>
                </a:solidFill>
                <a:latin typeface="Arial"/>
              </a:rPr>
              <a:t> Поверьте: год за годом</a:t>
            </a:r>
            <a:br>
              <a:rPr sz="3200"/>
            </a:br>
            <a:r>
              <a:rPr b="1" i="1" lang="en-US" sz="3200" spc="-1" strike="noStrike">
                <a:solidFill>
                  <a:srgbClr val="6600cc"/>
                </a:solidFill>
                <a:latin typeface="Arial"/>
              </a:rPr>
              <a:t>Не отпадет нам в информатике нужда,</a:t>
            </a:r>
            <a:br>
              <a:rPr sz="3200"/>
            </a:br>
            <a:r>
              <a:rPr b="1" i="1" lang="en-US" sz="3200" spc="-1" strike="noStrike">
                <a:solidFill>
                  <a:srgbClr val="6600cc"/>
                </a:solidFill>
                <a:latin typeface="Arial"/>
              </a:rPr>
              <a:t>компьютер перестане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cc"/>
                </a:solidFill>
                <a:latin typeface="Arial"/>
              </a:rPr>
              <a:t>быть нам богом –</a:t>
            </a:r>
            <a:br>
              <a:rPr sz="3200"/>
            </a:br>
            <a:r>
              <a:rPr b="1" i="1" lang="en-US" sz="3200" spc="-1" strike="noStrike">
                <a:solidFill>
                  <a:srgbClr val="6600cc"/>
                </a:solidFill>
                <a:latin typeface="Arial"/>
              </a:rPr>
              <a:t>Мы подчиним его себе, и – НАВСЕГД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Точное и понятное предписание исполнителю совершить указанную последовательность команд называется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39640" y="2492280"/>
            <a:ext cx="8229600" cy="345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ограмм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лгоритм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од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лок-схем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507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Первую модель вычислительной машины, которая могла выполнять арифметические операции, созда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ильгельм Лейбни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рл Гау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арльз Бэббид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лез Паска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афнутий Чебыш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Первая программа была написан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арльзом Бэббидж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дой Августой Лавлей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овардом Айкен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лом Аллен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.Возможность применения алгоритма для решения любой задачи из круга задач, для которого он был предназначен. О каком свойстве идёт реч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24000" y="2852640"/>
            <a:ext cx="8229600" cy="22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езультатив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ассов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днознач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искрет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Циклический алгоритм – эт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68360" y="1483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ногократное повторение однотипных действий при различных значениях параметров, определяющих эти действ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ыполнение операций, предполагающих различные варианты действи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следовательное выполнение операций в порядке их следова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лгоритм перехода на начало программ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08000" y="1268280"/>
            <a:ext cx="8856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ан фрагмент программы на языке Паскаль: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:=27;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f a&gt;0 then a:=a*2 else a:=a+2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writeln(a);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то будет выведено на экран?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24000" y="3284280"/>
            <a:ext cx="82296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ообщение об ошибк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50560" y="456840"/>
            <a:ext cx="8713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Расставьте строки программы в правильном порядке, чтобы получилась программа, которая находит сумму первых десяти натуральных чисел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11280" y="2565360"/>
            <a:ext cx="822960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lnSpc>
                <a:spcPct val="80000"/>
              </a:lnSpc>
              <a:spcBef>
                <a:spcPts val="901"/>
              </a:spcBef>
              <a:buClr>
                <a:srgbClr val="9999cc"/>
              </a:buClr>
              <a:buSzPct val="80000"/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:=0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901"/>
              </a:spcBef>
              <a:buClr>
                <a:srgbClr val="9999cc"/>
              </a:buClr>
              <a:buSzPct val="80000"/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riteln(s)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901"/>
              </a:spcBef>
              <a:buClr>
                <a:srgbClr val="9999cc"/>
              </a:buClr>
              <a:buSzPct val="80000"/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901"/>
              </a:spcBef>
              <a:buClr>
                <a:srgbClr val="9999cc"/>
              </a:buClr>
              <a:buSzPct val="80000"/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var i,s:integer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901"/>
              </a:spcBef>
              <a:buClr>
                <a:srgbClr val="9999cc"/>
              </a:buClr>
              <a:buSzPct val="80000"/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:=s+i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901"/>
              </a:spcBef>
              <a:buClr>
                <a:srgbClr val="9999cc"/>
              </a:buClr>
              <a:buSzPct val="80000"/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nd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1001"/>
              </a:spcBef>
              <a:buClr>
                <a:srgbClr val="9999cc"/>
              </a:buClr>
              <a:buSzPct val="80000"/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r i:=1 to 10 do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4T10:57:42Z</dcterms:created>
  <dc:creator>щзщз</dc:creator>
  <dc:description/>
  <dc:language>en-US</dc:language>
  <cp:lastModifiedBy>acer pc</cp:lastModifiedBy>
  <dcterms:modified xsi:type="dcterms:W3CDTF">2013-11-27T17:01:33Z</dcterms:modified>
  <cp:revision>36</cp:revision>
  <dc:subject/>
  <dc:title>Слайд 1</dc:title>
</cp:coreProperties>
</file>