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903-D742-4EFB-BFEE-7DCFE242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1F94-91A0-4098-A2BA-B47740E0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B92-896C-49BC-AC59-5758C2D7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96E-A5A9-4331-8D98-A91903CA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1EE86-AF5A-495B-AF9F-8A5B4DD2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DDFB4-547B-4592-A0F6-29313C7D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7D081-8E51-4B2A-84D0-6BEE55D9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5D09B-D935-43B8-8245-D415E329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52C0B-25DC-4ABF-9C0C-2E7D5F5B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7594B-A740-4F36-9390-61DAC437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FAE6B-75A7-4250-96C1-DD7E079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91E-E76F-49BA-81EF-176B018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B9575-9FF6-4A54-AC9F-2097908B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D50A7-DB84-4F1D-B179-48445AAC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F56F5-8F74-4278-BD4F-61A03286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9D821-5825-4056-97C1-BF445239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4AB71-5189-489B-8A25-3F681CE2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9A1C-C545-4190-ABA6-441BD424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D50D-2D52-4681-9798-A80BA04A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B49C5-9886-47AD-9D39-57D41F89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37A9-A51C-4BA6-AED1-DD722045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08984-02F7-4AF9-8C89-D19EF2CB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F79-1FD9-410A-8FA0-EB71C3C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EB18F-972A-4C4A-A68E-3EF71DF2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1ECA-20E2-4C27-9A10-9F3710A1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02324-9AB7-4373-80C2-BA3AB50A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3EDF-49AB-4F1D-8297-8958996F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CD7E-96AC-476B-A7B4-0BEB0143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1231-9661-4F0D-9FB8-F21911E3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919C-A96D-43DA-8CC6-E8745242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CE5-67FF-4DDC-B909-BC22DBF8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8BD-94F1-4FB9-81C9-CAB66817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12B-FC3C-4A6C-80F1-00BA39C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83D-438D-48BA-93A6-96F25A0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970-783A-43AD-8012-00460BF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CEA-8138-4668-BCAB-E300DF71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C9FF-3B63-4E1C-8442-62F7FCE3F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7D0F-3327-4BFC-9BE2-D0D2C1254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1EA5-4DFA-4738-9C85-49E48ADF72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программисто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кие имена правильны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z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y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Qu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раз выполнится цик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: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1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:= a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оррек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5" descr="214"/>
          <p:cNvPicPr/>
          <p:nvPr/>
        </p:nvPicPr>
        <p:blipFill>
          <a:blip r:embed="rId3"/>
          <a:stretch/>
        </p:blipFill>
        <p:spPr>
          <a:xfrm>
            <a:off x="1476360" y="5013360"/>
            <a:ext cx="1943280" cy="1176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214"/>
          <p:cNvPicPr/>
          <p:nvPr/>
        </p:nvPicPr>
        <p:blipFill>
          <a:blip r:embed="rId4"/>
          <a:stretch/>
        </p:blipFill>
        <p:spPr>
          <a:xfrm>
            <a:off x="3780000" y="5445000"/>
            <a:ext cx="129672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1. Решить квадратное урав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йти и исправить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ur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c: integer; 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ln(a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=0 then if c=0 then writeln(‘x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 else writeln(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c=0 then writeln(‘x=0’) else writeln(‘x1=’,-sqrt(c/a),’x2=’,sqrt(c/a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_2. Определить наименьшую цифру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minimi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min,z,a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ln(a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&gt;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:=a mod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z&lt;min then min:=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=a div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ln(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ить реверс элементов одномерного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re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 a:array[1..10] of 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readln(a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a[10+1-i]:=a[i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:=1 to 10 do write(a[i]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и в програм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разработч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ходной файл –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zadanie.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1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ичное число, введенное пользователем преобразовать в десятичн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какие различные числа входят в цел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ания для 2-ой кома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, представленное в шестнадцатеричной системе счисления, перевести в десятичную систему с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, есть ли в целом числе две подряд идущие одинаковые цифры и ка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болельщик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6" descr="230"/>
          <p:cNvPicPr/>
          <p:nvPr/>
        </p:nvPicPr>
        <p:blipFill>
          <a:blip r:embed="rId3"/>
          <a:stretch/>
        </p:blipFill>
        <p:spPr>
          <a:xfrm>
            <a:off x="2556000" y="43657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йте ответы на следующи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м году был разработан язык 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дения об окружающем мире и о нас сам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действий, которая приводит к решению поставленной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ая единица хран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кратное повторение одних и тех же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аш класс приходит новый ученик по фамилии Афанасенко. Вы справшиваете учителя, кто это: девочка или мальчик. Какое количество информации содержит ответ учи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209"/>
          <p:cNvPicPr/>
          <p:nvPr/>
        </p:nvPicPr>
        <p:blipFill>
          <a:blip r:embed="rId1"/>
          <a:stretch/>
        </p:blipFill>
        <p:spPr>
          <a:xfrm>
            <a:off x="1762200" y="3500280"/>
            <a:ext cx="2592360" cy="17956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 rot="21144600">
            <a:off x="324000" y="141264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7d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борочный тур</a:t>
            </a:r>
            <a:endParaRPr b="1" lang="en-US" sz="1800" spc="1" strike="noStrike">
              <a:ln w="25560">
                <a:solidFill>
                  <a:srgbClr val="00007d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Picture 7" descr="i1"/>
          <p:cNvPicPr/>
          <p:nvPr/>
        </p:nvPicPr>
        <p:blipFill>
          <a:blip r:embed="rId2"/>
          <a:stretch/>
        </p:blipFill>
        <p:spPr>
          <a:xfrm>
            <a:off x="6443640" y="2924280"/>
            <a:ext cx="1716120" cy="20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5"/>
          <p:cNvSpPr txBox="1"/>
          <p:nvPr/>
        </p:nvSpPr>
        <p:spPr>
          <a:xfrm>
            <a:off x="250920" y="1484280"/>
            <a:ext cx="756108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н всегда имел запас калькуляторов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3924360" y="170028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с ка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Найдите знакомые термины в следующих фраз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42920" y="2708280"/>
            <a:ext cx="64915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 приказу директо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ы шка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еставили в угол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2844720" y="3467160"/>
            <a:ext cx="23749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692280"/>
            <a:ext cx="784836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  В коробке лежат 5 карандашей: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2 си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 крас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Сколько карандашей надо взять из коробки, не заглядывая в неё, чтобы среди них был хотя б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дин красны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аранда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Отгадайте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5280" y="3500280"/>
            <a:ext cx="7705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лодая наука, рожденная компьютер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1187280" y="5084640"/>
            <a:ext cx="61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К  +  УМ  +  НЕ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45720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заимодействия программы и пользова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1042920" y="2060640"/>
            <a:ext cx="6191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ЙФ  +  РЕ  +  Н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748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ьютерное зазеркал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говременный склероз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перативная памя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кальный 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Глобальная с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цовский бл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Материнская пла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6516720" y="5229360"/>
            <a:ext cx="231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  ту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1692360" y="1268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оптимизатор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Picture 14" descr="218"/>
          <p:cNvPicPr/>
          <p:nvPr/>
        </p:nvPicPr>
        <p:blipFill>
          <a:blip r:embed="rId3"/>
          <a:stretch/>
        </p:blipFill>
        <p:spPr>
          <a:xfrm>
            <a:off x="2411280" y="3645000"/>
            <a:ext cx="1905120" cy="157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Друзья мои!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 Поверьте: год за годом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Не отпадет нам в информатике нужда,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компьютер перестан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быть нам богом –</a:t>
            </a:r>
            <a:br>
              <a:rPr sz="3200"/>
            </a:br>
            <a:r>
              <a:rPr b="1" i="1" lang="en-US" sz="3200" spc="-1" strike="noStrike">
                <a:solidFill>
                  <a:srgbClr val="6600cc"/>
                </a:solidFill>
                <a:latin typeface="Arial"/>
              </a:rPr>
              <a:t>Мы подчиним его себе, и –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очное и понятное предписание исполнителю совершить указанную последовательность команд назыв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-сх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ую модель вычислительной машины, которая могла выполнять арифметические операции, соз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льгельм Лейб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л Гау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фнутий Чеб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ая программа была напис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рльзом Бэббидж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ой Августой Лавл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ардом Айк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м Алл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Возможность применения алгоритма для решения любой задачи из круга задач, для которого он был предназначен. О каком свойстве идёт реч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с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озна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р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иклический алгоритм – э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кратное повторение однотипных действий при различных значениях параметров, определяющих эти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операций, предполагающих различные варианты действ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овательное выполнение операций в порядке их 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горитм перехода на начало програм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1268280"/>
            <a:ext cx="885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 фрагмент программы на языке Паскаль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:=27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 a&gt;0 then a:=a*2 else a:=a+2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ln(a)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будет выведено на экран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общение об ошиб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сставьте строки программы в правильном порядке, чтобы получилась программа, которая находит сумму первых десяти натуральных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ln(s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 i,s:integer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:=s+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9999cc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i:=1 to 10 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0:57:42Z</dcterms:created>
  <dc:creator>щзщз</dc:creator>
  <dc:description/>
  <dc:language>en-US</dc:language>
  <cp:lastModifiedBy>acer pc</cp:lastModifiedBy>
  <dcterms:modified xsi:type="dcterms:W3CDTF">2013-11-27T17:01:33Z</dcterms:modified>
  <cp:revision>36</cp:revision>
  <dc:subject/>
  <dc:title>Слайд 1</dc:title>
</cp:coreProperties>
</file>