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074-F8AA-430A-8720-1BE68108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7CD6-8F4F-44CE-8A27-2BBCA765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AFF-448E-4F28-96C4-184DF15E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26D-2C37-48D6-B839-A213CB2A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D422-59FF-41C4-BB21-03937B0F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F89F-1AEF-4500-A607-186F3AE2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1CC2-6B2D-440A-90C7-24AB01EA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6FDE-7518-45A6-A502-F6472D22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3E62-F493-46EC-9FDA-F02AC635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B593-8C6C-4CDD-BE44-DAF544C1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DA03-081D-45AD-8615-77C5F7B5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C0F-C549-48A6-AD9B-D4A6026F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BDD4-13BE-44FC-8795-DCAF3D4F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CEE8-1502-4DCB-B73A-18442910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1955-82D6-456D-9142-58661573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E3D0-C65F-493D-902E-9840E6E5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EF4A-8FE6-424E-B0F8-0E9FA375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FB41-487D-4A63-AC5E-5F1F802B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F32-B1CC-414B-A765-FBAAFA9B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143-EF05-4A6F-901A-40CF3DB7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476-A156-4081-A40C-653DBE31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207F-DB04-443B-9006-01A24299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96B-AA66-4B1E-88EA-349EBB2A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9B58-3116-41CC-9096-72F59AA6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79B5-0F7E-447B-9D77-563A6A4821C9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1124-B1AE-4477-9496-FEB52F4BB917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Дано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Выразим</a:t>
            </a: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404176"/>
                </a:solidFill>
                <a:latin typeface="Times New Roman"/>
              </a:rPr>
              <a:t>h</a:t>
            </a: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из прямоугольного треугольника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1523880" y="2538360"/>
                <a:ext cx="6096240" cy="30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Это следует из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a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·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 b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·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 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= h / b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176"/>
                </a:solidFill>
                <a:latin typeface="Times New Roman"/>
              </a:rPr>
              <a:t>Доказать</a:t>
            </a: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Доказательство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692360" y="1773360"/>
            <a:ext cx="5040000" cy="3411000"/>
            <a:chOff x="1692360" y="1773360"/>
            <a:chExt cx="5040000" cy="3411000"/>
          </a:xfrm>
        </p:grpSpPr>
        <p:sp>
          <p:nvSpPr>
            <p:cNvPr id="345" name=""/>
            <p:cNvSpPr/>
            <p:nvPr/>
          </p:nvSpPr>
          <p:spPr>
            <a:xfrm>
              <a:off x="2430000" y="2493000"/>
              <a:ext cx="3344400" cy="2159280"/>
            </a:xfrm>
            <a:prstGeom prst="triangle">
              <a:avLst>
                <a:gd name="adj" fmla="val 67889"/>
              </a:avLst>
            </a:prstGeom>
            <a:solidFill>
              <a:srgbClr val="33ccff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57520" y="177336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А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92360" y="436032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04280" y="425664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30000" y="4652640"/>
              <a:ext cx="330408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389320" y="2472480"/>
              <a:ext cx="2300040" cy="2179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53120" y="4488480"/>
              <a:ext cx="84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58240" y="3129840"/>
              <a:ext cx="84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41320" y="4425480"/>
              <a:ext cx="78120" cy="247320"/>
            </a:xfrm>
            <a:custGeom>
              <a:avLst/>
              <a:gdLst/>
              <a:ahLst/>
              <a:rect l="l" t="t" r="r" b="b"/>
              <a:pathLst>
                <a:path w="37" h="110">
                  <a:moveTo>
                    <a:pt x="0" y="0"/>
                  </a:moveTo>
                  <a:cubicBezTo>
                    <a:pt x="33" y="33"/>
                    <a:pt x="37" y="67"/>
                    <a:pt x="37" y="11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50200" y="3950640"/>
              <a:ext cx="8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3200" spc="-1" strike="noStrike">
                  <a:solidFill>
                    <a:srgbClr val="404176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671000" y="2452320"/>
              <a:ext cx="2160" cy="2220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13520" y="472464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Н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06520" y="3291480"/>
              <a:ext cx="8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4826160" cy="21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Это следует из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176"/>
                </a:solidFill>
                <a:latin typeface="Times New Roman"/>
              </a:rPr>
              <a:t>Проведем высоту </a:t>
            </a: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2781360"/>
            <a:ext cx="338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h = b 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= b / h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176"/>
                </a:solidFill>
                <a:latin typeface="Symbol"/>
                <a:ea typeface="Symbol"/>
              </a:rPr>
              <a:t>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А</a:t>
            </a:r>
            <a:r>
              <a:rPr b="1" i="1" lang="en-US" sz="5400" spc="-1" strike="noStrike">
                <a:solidFill>
                  <a:srgbClr val="404176"/>
                </a:solidFill>
                <a:latin typeface="Times New Roman"/>
              </a:rPr>
              <a:t>BC, </a:t>
            </a:r>
            <a:br>
              <a:rPr sz="5400"/>
            </a:br>
            <a:r>
              <a:rPr b="1" i="1" lang="en-US" sz="5400" spc="-1" strike="noStrike">
                <a:solidFill>
                  <a:srgbClr val="404176"/>
                </a:solidFill>
                <a:latin typeface="Times New Roman"/>
              </a:rPr>
              <a:t>a, b – 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стороны,</a:t>
            </a:r>
            <a:br>
              <a:rPr sz="5400"/>
            </a:b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el-GR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- угол</a:t>
            </a:r>
            <a:endParaRPr b="0" lang="en-US" sz="5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9:43:02Z</dcterms:created>
  <dc:creator>Учитель</dc:creator>
  <dc:description/>
  <dc:language>en-US</dc:language>
  <cp:lastModifiedBy>Учитель</cp:lastModifiedBy>
  <dcterms:modified xsi:type="dcterms:W3CDTF">2007-11-30T11:49:20Z</dcterms:modified>
  <cp:revision>4</cp:revision>
  <dc:subject/>
  <dc:title>Дано:</dc:title>
</cp:coreProperties>
</file>