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PlaceHolder 2"/>
          <p:cNvSpPr>
            <a:spLocks noGrp="1"/>
          </p:cNvSpPr>
          <p:nvPr>
            <p:ph type="dt" idx="5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8" name="PlaceHolder 5"/>
          <p:cNvSpPr>
            <a:spLocks noGrp="1"/>
          </p:cNvSpPr>
          <p:nvPr>
            <p:ph type="ftr" idx="5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PlaceHolder 6"/>
          <p:cNvSpPr>
            <a:spLocks noGrp="1"/>
          </p:cNvSpPr>
          <p:nvPr>
            <p:ph type="sldNum" idx="5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0433B-3A95-4F7C-A250-C4DC9D25B05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D82F7-3127-41B4-9DFA-97C840404068}" type="slidenum">
              <a:rPr b="0" lang="ru-RU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2FF2-FE79-4912-8FD8-6E2B14EB3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6114-99CF-44CA-BFDE-71E761AAC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D02160-5C79-4444-852E-14374B315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750983-FE3A-46AC-9A81-128CC7B16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64571B-D93B-4A90-B922-28FA66214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66C959-98CC-4411-B6B3-CCD9C87D9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713819-C832-45FE-9828-B6E74BCE2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1FC6C9-1C76-4521-8B71-EFEF02DB6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79A5BA-00F7-4744-8373-483C6EA36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9D380D-6DB1-4358-93E4-BD47A12F6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216DBE-B290-4755-AABD-8B68473B8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96E009-61B5-48B2-B0C9-364B88D1E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87C1-643D-4F3E-BE54-03CECCC78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8E5570-F295-4B4B-B9D5-9053D120C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76E035-90AA-414C-998A-0A0FA2180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E9531A-6B9C-4F74-8880-A4D118271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E716DF-0267-4DEF-A4FD-D73E8A0C1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61817C-6346-4CE9-BFC9-18391901A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F01179-99ED-49D9-AB78-1524E765E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1EBDF5-1497-4F10-A0FB-111336ACB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7A428F-5E4C-4B6D-909B-D64A56ECA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B539F8-58D3-4807-8924-66120B6C7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AD0E75-6804-4650-9512-006FBE746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FEDD-A808-4C89-8598-47815A8E6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72D788-56BF-4129-9E2B-7ECE9C17E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1EC94B-8FA6-47EE-BECB-441513B7A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FA427C-95B6-48B2-81F7-505F9FB54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27566F-618C-44BC-94C1-18B5FC132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0E943D-9655-46BA-826B-459A6C8D8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A4D23B-ABE8-42A3-9CA7-7DFFFF33D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DCCDE0-C3C1-4E72-AD18-E6AC9C231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348207-B3D6-4F18-B780-80A65265E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0CC1AE-D4BF-4FD7-A3D2-463DE6ED8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DD0C83-B31A-490F-BF7C-F61CC01EB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E8149-8E68-4093-9DB8-D46AE9F2E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CAA9F0-F512-4B35-8826-EB18B7F89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6C2D2F-4A5F-4310-8464-292B9BAF3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BC592B-8ECD-46F4-977E-53500CD30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48FC4A-2661-4214-8F6A-8663CBA73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0BCD7B-947B-41CA-8348-B2F71017F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7B743A-CE03-4849-8929-98DE0A8CE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928935-40EB-46DD-9541-231D804D1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E843FE-A44E-40E6-A106-B2D554699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ED494D-65DB-4079-B3D0-49AF6E849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D72898-86BF-4200-885C-08C4923FF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D2918-A6A0-408E-BCC6-69FF4E135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2EDB00-677C-489F-BF0D-395D01920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B9F15C-0EB8-4CCE-BF51-91CD91AFF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88D0E1-4C59-4887-AB31-2E0C38A1B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C5997F-3C15-41F7-930D-698632AFB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1AE894-04D2-430E-B5D0-709EEC3E9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C8BE3E-E4C6-48A2-80F8-FD414DAC7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92AF3B-435D-4AAF-B9E4-788701556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C4F0A8-62AA-4375-A261-30553200A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884A97-40AE-4884-BB38-B2A5FB937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84F5C8-1300-4B5A-AB33-363B3CBEF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9AD07-888F-4B6C-9074-8A9E285DC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E6EBC9-6D0B-4B62-B27E-751952857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83568F-8FEA-4003-8F3B-D34E4D483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C989E7-EFDB-4492-880A-9C2CF4B34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A92958-3FA9-4D08-9F7E-238CD56E0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133722-26B6-40EC-AE9A-34871B097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6BA6FE-74FD-4CA9-B564-444EE4F4E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2F0F28-593D-4F39-82B0-25BFEFDA8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299A3D-FDCB-4A56-954D-3B44D0BD7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0234F77-0F2B-483C-8496-BFD43F254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9E08471-1EBE-4252-A8DD-7B3DCC062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EC78C-C2E1-4F64-BAA9-D9E29858B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13F42D-DF6B-4329-8206-A417A1A22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5AACED-0FF5-4778-A970-0375759C6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F8189D-107B-4BBE-A387-AEDE2966D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1BA06F-4E85-4220-BE9A-81A6AE97D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64B024C-4DEB-4935-990C-4A45DE7C0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86B627-9EF5-48F9-BC50-F0DFF4DED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8FFD41-F2DD-43CE-BAFF-652A2F33A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ACFA21-3CCE-46E8-ABF8-A52DFAC02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D41D1D-E7F6-4B61-943F-2EDE4DF4D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0AE508A-23F4-4A28-85D5-2F9068A7A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FAFE0-A130-48D2-BD7B-4DAF56167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0664D19-E3A2-4BA7-815F-FA4BEC712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19E2A45-6AC9-4787-8C06-3C2305F8A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9FB65B2-1811-4809-87A2-A34C827E2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035C97F-1AE8-414B-9E40-238B8F0D8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40E2D0B-B9DF-483A-8D82-B4183A714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07A20FA-C891-4984-B595-964CC7338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8654E0B-0019-4324-89EB-57FC913DB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17064C4-FC50-4319-9C2F-B4C9B92B2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157F699-B7B3-4986-9162-134E01047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F74E523-31E4-4EAB-AAE4-B2F1733E7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9BFC7-D8B9-4207-B4D0-655D937AF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A878A02-EDEF-4C74-B3D3-9D5033ECB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C8CBF97-A2B1-4D29-B39B-754B2D6B8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CC3088C-3FEB-4205-AE4B-D5271C3B3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1A61892-2470-47FC-AC9F-61343B6EE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4B11D65-A712-4133-9C8B-C6AD98392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C20C580-D3EE-4C23-A9AA-DBA98CD24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12EAB40-D545-4006-9C87-9C46C6CBF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A50B17E-BA69-44DC-B252-E8F1FC5B9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9153364-E819-4CA2-9033-32F479D27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37F4627-8812-4FB4-8FD7-4668F2584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19BB3-FDA1-480B-B52D-9F64F8305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8EC5C90-5428-47B4-8E93-52F5122B1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E2ABE4B-8E98-4895-83F3-730E1B0C8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9DEB4F7-4C25-471C-874C-E4F8C9817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01FFBC9-B8CB-44BA-8E87-69846D17B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7E91172-276E-4153-8F6D-A4A136D23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6A3DB8C-0F95-4278-93AF-31B709E78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3218EE4-CDCA-42CC-A5B7-B9459E8EC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959BB8A-C708-4F2F-BE3C-42259666B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0509AD7-6BEA-46A7-8E5C-60735FDD1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BDF8231-8296-43A3-8B62-3CB76B1AA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AAAE-68A0-4377-A498-0C2A06FF2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F9E43-EB7E-4DCA-8CCA-9CAFDCC8D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FE3A52E-E470-496D-90F9-363606CA3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7E3C31F-F63F-42A2-8C30-8127DDFDE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0DBA681-9295-49CC-B487-DA8E651A8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A4B444A-B966-413B-BAAC-49177282C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84F1FCA-2F03-4CC5-A967-C5118A6FC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1F4326A-8791-4F2F-AF9C-016E8D94A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7859CA7-76BD-49CE-8CE3-E6DC2C696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BBDF1BF-294D-4826-AA93-68CF7381F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98986A8-FE0A-4308-BF1B-3911D1498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DEFA8B8-64F6-49BB-836B-B456BBA78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88714-21E1-4C97-B4D4-265DBDF37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95DC0F8-1094-42F4-B23A-B16FBE606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5039A0F-FFC8-466E-94C4-94D5F8255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8D76C2C-1EEC-4E7E-8A1B-496A54F6E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F2A1A4D-A1B3-461D-94AB-ECAF1B1BD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F85946C-9338-4040-871F-B95EEE1E7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0AB4DB3-76B5-4713-B2B0-E14AD31E4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3219583-EDD8-475D-9B41-08A767178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F9196-CA4B-40FD-A7C3-788B6FB3B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D37C3-2E5B-4625-8C62-079324AD9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2B330-9D85-4409-BC9D-5E578ED6B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1D22FF-B12C-404A-BD01-756E04749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2CBC9E-6661-4AF5-B9C0-757DF21A8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14D08E-734D-4351-856C-E93C9F998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22FE52-0144-46E4-AB40-FE3949EFA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D29279-451F-4B93-9C4B-76265B997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6A39-C184-4EF8-8D1F-15CF21DD1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3C5EBF-3B79-4A6B-A720-F968F4A19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CEDDFE-94D6-4B0C-9B7C-4DE49BE43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583952-8075-4E0C-9041-163991D20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42F8F5-E0C6-4AB4-9CC5-6E81B940C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A97472-8FCC-4731-A640-A00D4DBFD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5C74EF-2471-4F26-81DE-ADCE40693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215857-EDD4-445C-BCD7-68561EA19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F52548-04BC-489F-8480-788A0A39E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FCA669-A552-4CB4-BD7C-C0238A20B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CC8649-93C3-4E53-A649-3F3FE9D1F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DF4D-2C5B-4899-A82A-867EA27EA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4B8F98-72AB-4D9F-9493-66DA6A16E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2F4F32-519D-49D0-91A3-9E9CEBDA7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DA9273-FF9A-442E-8168-DCC5561D1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2A2126-C764-4C69-8105-A401F7A87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BB13C1-D92C-43C2-B3B6-0684FE601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4E0C74-3D67-49D3-A8DE-22B7EDBB6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2C3D14-AC1E-4818-B704-1B6403913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30418E-48FB-440A-8908-C81B9E97F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49F2D3-DB7F-464A-B05A-DAC4E5647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217CE4-8C54-4C8B-AC65-DD8C735D0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3857-FBD1-4F6B-BD31-8039BFF75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18EF3A-55F3-44DA-81A1-7F4864439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FEBC96-59D1-40E4-A656-2B8201033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687566-B447-4EB7-A9EF-E63CD2804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90064D-3339-4C1E-9226-49D0208D4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EB3777-EDBF-4324-A3C9-7D90AD721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3C9238-7D49-4E5C-A2B4-C22D5FA4B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4F7493-483E-4136-894B-26681C233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EC341B-5D1A-48BF-865A-E69B3701B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5C82EA-4384-44B6-96DD-E3B234583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96A45E-898C-4FB7-AB76-CF1AD5D82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962B-D039-443F-834E-60797DB06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34AB3F-FD51-4AAB-9486-7C93D62BF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1AC9AB-AD4E-4FD3-A302-0351CCED9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B98BEE-9E6E-4ED8-9465-DF1A0BF01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D8E48E-799D-478A-BC68-CF842ADCB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02F4A6-6B6A-4143-AB4F-ED0CD36A4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18D2FD-E57A-49A1-8DB9-5C10757F4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BA87A8-6665-4CFF-BD2E-F635B49A9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08FFD9-FA1E-4C43-9C92-BB5F7F642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FE4EA6-02ED-4264-868B-58BC60AEA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3500DD-8AE8-457D-89CD-930CA09D0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C162-22DA-43A1-AF90-D6356628A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3D6A68-A590-4FE0-85A7-40DEED485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F1B542-1619-42F1-8F54-4C4AFA402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B1B443-D564-4918-BB09-CB6FCD741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EADAFE-4214-4C22-8FC1-CCC98FC00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3F7CDB-8273-499D-8848-F997F3B0A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15DF31-208D-4499-8862-2BCC78976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D60A4C-1D62-47F1-9E2B-E483C7F07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083261-9FBB-4821-8AB9-A51D9DC1E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581112-BF64-406A-9D82-2A2362D0F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607787-7FD3-4E63-8BA3-F28B25A16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588E-B2F5-4E75-9583-45D94610E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0D6BFF-C095-422C-BAA9-EC71C13FB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3DE5B3-3BBD-40DC-97EE-55D2FBCB6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E2E4DE-DD27-426E-8995-2E905D1FC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993401-86A4-4C93-BDC0-127F0E5E0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22C3C6-13A3-4BE2-A061-3B7BF76C6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A04CBE-EE84-4133-8531-CF2CB0BD3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2DA236-31F4-4400-95D4-02EACB14A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3F1C7F-B2AF-496E-BB5E-C1D8F93CB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7F2894-F31B-4424-BFA3-9BEF6E9A9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93423A-A235-4623-B957-41930C2E8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7141-8A2D-4378-952E-0E8205E35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09DACA-CF02-4779-B46A-EFAE16577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DB0131-9339-4B5C-92F3-1EE9F4F22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F1EF51-0DB5-49C1-AEA8-0EB0E3C36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D88CF3-341E-4934-A4BF-2AB7D9FA4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2C7250-653A-49DE-94B9-FDA6B91FE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B4B340-F68D-46D2-9C58-4F59233A6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508C18-7654-4442-801F-5AC7C3D3D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E05256-D1FE-47ED-9C65-AC3055301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05B614-1606-4518-9870-7F5668EEB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DCB1A6-7994-415A-877F-43ACB5C34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3839C-15E3-4771-A537-B2C3F2C4D7E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>
                    <a:gd name="textAreaLeft" fmla="*/ 0 w 245160"/>
                    <a:gd name="textAreaRight" fmla="*/ 245520 w 24516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29440" y="516240"/>
                  <a:ext cx="431280" cy="695520"/>
                </a:xfrm>
                <a:custGeom>
                  <a:avLst/>
                  <a:gdLst>
                    <a:gd name="textAreaLeft" fmla="*/ 0 w 431280"/>
                    <a:gd name="textAreaRight" fmla="*/ 431640 w 43128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26320" y="278640"/>
                  <a:ext cx="809640" cy="1425600"/>
                </a:xfrm>
                <a:custGeom>
                  <a:avLst/>
                  <a:gdLst>
                    <a:gd name="textAreaLeft" fmla="*/ 0 w 809640"/>
                    <a:gd name="textAreaRight" fmla="*/ 810000 w 80964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>
                    <a:gd name="textAreaLeft" fmla="*/ 0 w 1215720"/>
                    <a:gd name="textAreaRight" fmla="*/ 1216080 w 121572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26160" y="1419480"/>
                  <a:ext cx="270720" cy="193680"/>
                </a:xfrm>
                <a:custGeom>
                  <a:avLst/>
                  <a:gdLst>
                    <a:gd name="textAreaLeft" fmla="*/ 0 w 270720"/>
                    <a:gd name="textAreaRight" fmla="*/ 271080 w 27072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74040"/>
                  <a:ext cx="290160" cy="22860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69960" y="208800"/>
                  <a:ext cx="286920" cy="219240"/>
                </a:xfrm>
                <a:custGeom>
                  <a:avLst/>
                  <a:gdLst>
                    <a:gd name="textAreaLeft" fmla="*/ 0 w 286920"/>
                    <a:gd name="textAreaRight" fmla="*/ 287280 w 2869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1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2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763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764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5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6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7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8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9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0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1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2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773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774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775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76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77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778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79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80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781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782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83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84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85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86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87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88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89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790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91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2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793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794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795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796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797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>
                    <a:gd name="textAreaLeft" fmla="*/ 0 w 245160"/>
                    <a:gd name="textAreaRight" fmla="*/ 245520 w 24516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98" name="Freeform 45"/>
                <p:cNvSpPr/>
                <p:nvPr/>
              </p:nvSpPr>
              <p:spPr>
                <a:xfrm rot="18427200">
                  <a:off x="8029440" y="516240"/>
                  <a:ext cx="431280" cy="695520"/>
                </a:xfrm>
                <a:custGeom>
                  <a:avLst/>
                  <a:gdLst>
                    <a:gd name="textAreaLeft" fmla="*/ 0 w 431280"/>
                    <a:gd name="textAreaRight" fmla="*/ 431640 w 43128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99" name="Freeform 46"/>
                <p:cNvSpPr/>
                <p:nvPr/>
              </p:nvSpPr>
              <p:spPr>
                <a:xfrm rot="18427200">
                  <a:off x="7726320" y="278640"/>
                  <a:ext cx="809640" cy="1425600"/>
                </a:xfrm>
                <a:custGeom>
                  <a:avLst/>
                  <a:gdLst>
                    <a:gd name="textAreaLeft" fmla="*/ 0 w 809640"/>
                    <a:gd name="textAreaRight" fmla="*/ 810000 w 80964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00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>
                    <a:gd name="textAreaLeft" fmla="*/ 0 w 1215720"/>
                    <a:gd name="textAreaRight" fmla="*/ 1216080 w 121572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01" name="Freeform 48"/>
                <p:cNvSpPr/>
                <p:nvPr/>
              </p:nvSpPr>
              <p:spPr>
                <a:xfrm rot="18427200">
                  <a:off x="8426160" y="1419480"/>
                  <a:ext cx="270720" cy="193680"/>
                </a:xfrm>
                <a:custGeom>
                  <a:avLst/>
                  <a:gdLst>
                    <a:gd name="textAreaLeft" fmla="*/ 0 w 270720"/>
                    <a:gd name="textAreaRight" fmla="*/ 271080 w 27072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02" name="Freeform 49"/>
                <p:cNvSpPr/>
                <p:nvPr/>
              </p:nvSpPr>
              <p:spPr>
                <a:xfrm rot="18427200">
                  <a:off x="8338320" y="1274040"/>
                  <a:ext cx="290160" cy="22860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03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04" name="Freeform 51"/>
                <p:cNvSpPr/>
                <p:nvPr/>
              </p:nvSpPr>
              <p:spPr>
                <a:xfrm rot="18427200">
                  <a:off x="7869960" y="208800"/>
                  <a:ext cx="286920" cy="219240"/>
                </a:xfrm>
                <a:custGeom>
                  <a:avLst/>
                  <a:gdLst>
                    <a:gd name="textAreaLeft" fmla="*/ 0 w 286920"/>
                    <a:gd name="textAreaRight" fmla="*/ 287280 w 2869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805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 type="dt" idx="28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 type="ftr" idx="29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0" name="PlaceHolder 5"/>
          <p:cNvSpPr>
            <a:spLocks noGrp="1"/>
          </p:cNvSpPr>
          <p:nvPr>
            <p:ph type="sldNum" idx="30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FEADD-8878-44B5-BF71-79CF6918746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8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9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50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851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2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3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4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5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6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7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8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9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860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861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862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63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64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865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66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67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868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869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70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71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72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73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74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75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76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877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878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9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880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881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882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883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884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>
                    <a:gd name="textAreaLeft" fmla="*/ 0 w 245160"/>
                    <a:gd name="textAreaRight" fmla="*/ 245520 w 24516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85" name="Freeform 45"/>
                <p:cNvSpPr/>
                <p:nvPr/>
              </p:nvSpPr>
              <p:spPr>
                <a:xfrm rot="18427200">
                  <a:off x="8029440" y="516240"/>
                  <a:ext cx="431280" cy="695520"/>
                </a:xfrm>
                <a:custGeom>
                  <a:avLst/>
                  <a:gdLst>
                    <a:gd name="textAreaLeft" fmla="*/ 0 w 431280"/>
                    <a:gd name="textAreaRight" fmla="*/ 431640 w 43128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86" name="Freeform 46"/>
                <p:cNvSpPr/>
                <p:nvPr/>
              </p:nvSpPr>
              <p:spPr>
                <a:xfrm rot="18427200">
                  <a:off x="7726320" y="278640"/>
                  <a:ext cx="809640" cy="1425600"/>
                </a:xfrm>
                <a:custGeom>
                  <a:avLst/>
                  <a:gdLst>
                    <a:gd name="textAreaLeft" fmla="*/ 0 w 809640"/>
                    <a:gd name="textAreaRight" fmla="*/ 810000 w 80964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87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>
                    <a:gd name="textAreaLeft" fmla="*/ 0 w 1215720"/>
                    <a:gd name="textAreaRight" fmla="*/ 1216080 w 121572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88" name="Freeform 48"/>
                <p:cNvSpPr/>
                <p:nvPr/>
              </p:nvSpPr>
              <p:spPr>
                <a:xfrm rot="18427200">
                  <a:off x="8426160" y="1419480"/>
                  <a:ext cx="270720" cy="193680"/>
                </a:xfrm>
                <a:custGeom>
                  <a:avLst/>
                  <a:gdLst>
                    <a:gd name="textAreaLeft" fmla="*/ 0 w 270720"/>
                    <a:gd name="textAreaRight" fmla="*/ 271080 w 27072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89" name="Freeform 49"/>
                <p:cNvSpPr/>
                <p:nvPr/>
              </p:nvSpPr>
              <p:spPr>
                <a:xfrm rot="18427200">
                  <a:off x="8338320" y="1274040"/>
                  <a:ext cx="290160" cy="22860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90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91" name="Freeform 51"/>
                <p:cNvSpPr/>
                <p:nvPr/>
              </p:nvSpPr>
              <p:spPr>
                <a:xfrm rot="18427200">
                  <a:off x="7869960" y="208800"/>
                  <a:ext cx="286920" cy="219240"/>
                </a:xfrm>
                <a:custGeom>
                  <a:avLst/>
                  <a:gdLst>
                    <a:gd name="textAreaLeft" fmla="*/ 0 w 286920"/>
                    <a:gd name="textAreaRight" fmla="*/ 287280 w 2869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892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 type="dt" idx="3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 type="ftr" idx="3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7" name="PlaceHolder 5"/>
          <p:cNvSpPr>
            <a:spLocks noGrp="1"/>
          </p:cNvSpPr>
          <p:nvPr>
            <p:ph type="sldNum" idx="3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9AB3F-D0D9-48BD-BC26-CF0D7FDBF92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5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6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937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38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39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0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1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2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3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4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5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6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47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948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949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50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51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952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3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4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955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956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57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58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59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60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61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62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63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964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965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6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967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968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969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970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971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>
                    <a:gd name="textAreaLeft" fmla="*/ 0 w 245160"/>
                    <a:gd name="textAreaRight" fmla="*/ 245520 w 24516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72" name="Freeform 45"/>
                <p:cNvSpPr/>
                <p:nvPr/>
              </p:nvSpPr>
              <p:spPr>
                <a:xfrm rot="18427200">
                  <a:off x="8029440" y="516240"/>
                  <a:ext cx="431280" cy="695520"/>
                </a:xfrm>
                <a:custGeom>
                  <a:avLst/>
                  <a:gdLst>
                    <a:gd name="textAreaLeft" fmla="*/ 0 w 431280"/>
                    <a:gd name="textAreaRight" fmla="*/ 431640 w 43128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73" name="Freeform 46"/>
                <p:cNvSpPr/>
                <p:nvPr/>
              </p:nvSpPr>
              <p:spPr>
                <a:xfrm rot="18427200">
                  <a:off x="7726320" y="278640"/>
                  <a:ext cx="809640" cy="1425600"/>
                </a:xfrm>
                <a:custGeom>
                  <a:avLst/>
                  <a:gdLst>
                    <a:gd name="textAreaLeft" fmla="*/ 0 w 809640"/>
                    <a:gd name="textAreaRight" fmla="*/ 810000 w 80964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74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>
                    <a:gd name="textAreaLeft" fmla="*/ 0 w 1215720"/>
                    <a:gd name="textAreaRight" fmla="*/ 1216080 w 121572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75" name="Freeform 48"/>
                <p:cNvSpPr/>
                <p:nvPr/>
              </p:nvSpPr>
              <p:spPr>
                <a:xfrm rot="18427200">
                  <a:off x="8426160" y="1419480"/>
                  <a:ext cx="270720" cy="193680"/>
                </a:xfrm>
                <a:custGeom>
                  <a:avLst/>
                  <a:gdLst>
                    <a:gd name="textAreaLeft" fmla="*/ 0 w 270720"/>
                    <a:gd name="textAreaRight" fmla="*/ 271080 w 27072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76" name="Freeform 49"/>
                <p:cNvSpPr/>
                <p:nvPr/>
              </p:nvSpPr>
              <p:spPr>
                <a:xfrm rot="18427200">
                  <a:off x="8338320" y="1274040"/>
                  <a:ext cx="290160" cy="22860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77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78" name="Freeform 51"/>
                <p:cNvSpPr/>
                <p:nvPr/>
              </p:nvSpPr>
              <p:spPr>
                <a:xfrm rot="18427200">
                  <a:off x="7869960" y="208800"/>
                  <a:ext cx="286920" cy="219240"/>
                </a:xfrm>
                <a:custGeom>
                  <a:avLst/>
                  <a:gdLst>
                    <a:gd name="textAreaLeft" fmla="*/ 0 w 286920"/>
                    <a:gd name="textAreaRight" fmla="*/ 287280 w 2869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979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 type="dt" idx="3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 type="ftr" idx="3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4" name="PlaceHolder 5"/>
          <p:cNvSpPr>
            <a:spLocks noGrp="1"/>
          </p:cNvSpPr>
          <p:nvPr>
            <p:ph type="sldNum" idx="3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746F4-69B8-4196-890B-11C6B61FA34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2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3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024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025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26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27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28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29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30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31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32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33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34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035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036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37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38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039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0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1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042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043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44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45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46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47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48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49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50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1051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052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53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054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1055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1056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057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1058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>
                    <a:gd name="textAreaLeft" fmla="*/ 0 w 245160"/>
                    <a:gd name="textAreaRight" fmla="*/ 245520 w 24516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59" name="Freeform 45"/>
                <p:cNvSpPr/>
                <p:nvPr/>
              </p:nvSpPr>
              <p:spPr>
                <a:xfrm rot="18427200">
                  <a:off x="8029440" y="516240"/>
                  <a:ext cx="431280" cy="695520"/>
                </a:xfrm>
                <a:custGeom>
                  <a:avLst/>
                  <a:gdLst>
                    <a:gd name="textAreaLeft" fmla="*/ 0 w 431280"/>
                    <a:gd name="textAreaRight" fmla="*/ 431640 w 43128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60" name="Freeform 46"/>
                <p:cNvSpPr/>
                <p:nvPr/>
              </p:nvSpPr>
              <p:spPr>
                <a:xfrm rot="18427200">
                  <a:off x="7726320" y="278640"/>
                  <a:ext cx="809640" cy="1425600"/>
                </a:xfrm>
                <a:custGeom>
                  <a:avLst/>
                  <a:gdLst>
                    <a:gd name="textAreaLeft" fmla="*/ 0 w 809640"/>
                    <a:gd name="textAreaRight" fmla="*/ 810000 w 80964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61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>
                    <a:gd name="textAreaLeft" fmla="*/ 0 w 1215720"/>
                    <a:gd name="textAreaRight" fmla="*/ 1216080 w 121572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62" name="Freeform 48"/>
                <p:cNvSpPr/>
                <p:nvPr/>
              </p:nvSpPr>
              <p:spPr>
                <a:xfrm rot="18427200">
                  <a:off x="8426160" y="1419480"/>
                  <a:ext cx="270720" cy="193680"/>
                </a:xfrm>
                <a:custGeom>
                  <a:avLst/>
                  <a:gdLst>
                    <a:gd name="textAreaLeft" fmla="*/ 0 w 270720"/>
                    <a:gd name="textAreaRight" fmla="*/ 271080 w 27072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63" name="Freeform 49"/>
                <p:cNvSpPr/>
                <p:nvPr/>
              </p:nvSpPr>
              <p:spPr>
                <a:xfrm rot="18427200">
                  <a:off x="8338320" y="1274040"/>
                  <a:ext cx="290160" cy="22860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64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65" name="Freeform 51"/>
                <p:cNvSpPr/>
                <p:nvPr/>
              </p:nvSpPr>
              <p:spPr>
                <a:xfrm rot="18427200">
                  <a:off x="7869960" y="208800"/>
                  <a:ext cx="286920" cy="219240"/>
                </a:xfrm>
                <a:custGeom>
                  <a:avLst/>
                  <a:gdLst>
                    <a:gd name="textAreaLeft" fmla="*/ 0 w 286920"/>
                    <a:gd name="textAreaRight" fmla="*/ 287280 w 2869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066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dt" idx="3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0" name="PlaceHolder 4"/>
          <p:cNvSpPr>
            <a:spLocks noGrp="1"/>
          </p:cNvSpPr>
          <p:nvPr>
            <p:ph type="ftr" idx="3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1" name="PlaceHolder 5"/>
          <p:cNvSpPr>
            <a:spLocks noGrp="1"/>
          </p:cNvSpPr>
          <p:nvPr>
            <p:ph type="sldNum" idx="3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81DFB-5B3A-445E-9350-94268E540E4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9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0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111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112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3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4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5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6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7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8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9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20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121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122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123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24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25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126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27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28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129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130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31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32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33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34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35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36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37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1138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139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40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141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1142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1143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144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1145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>
                    <a:gd name="textAreaLeft" fmla="*/ 0 w 245160"/>
                    <a:gd name="textAreaRight" fmla="*/ 245520 w 24516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46" name="Freeform 45"/>
                <p:cNvSpPr/>
                <p:nvPr/>
              </p:nvSpPr>
              <p:spPr>
                <a:xfrm rot="18427200">
                  <a:off x="8029440" y="516240"/>
                  <a:ext cx="431280" cy="695520"/>
                </a:xfrm>
                <a:custGeom>
                  <a:avLst/>
                  <a:gdLst>
                    <a:gd name="textAreaLeft" fmla="*/ 0 w 431280"/>
                    <a:gd name="textAreaRight" fmla="*/ 431640 w 43128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47" name="Freeform 46"/>
                <p:cNvSpPr/>
                <p:nvPr/>
              </p:nvSpPr>
              <p:spPr>
                <a:xfrm rot="18427200">
                  <a:off x="7726320" y="278640"/>
                  <a:ext cx="809640" cy="1425600"/>
                </a:xfrm>
                <a:custGeom>
                  <a:avLst/>
                  <a:gdLst>
                    <a:gd name="textAreaLeft" fmla="*/ 0 w 809640"/>
                    <a:gd name="textAreaRight" fmla="*/ 810000 w 80964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48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>
                    <a:gd name="textAreaLeft" fmla="*/ 0 w 1215720"/>
                    <a:gd name="textAreaRight" fmla="*/ 1216080 w 121572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49" name="Freeform 48"/>
                <p:cNvSpPr/>
                <p:nvPr/>
              </p:nvSpPr>
              <p:spPr>
                <a:xfrm rot="18427200">
                  <a:off x="8426160" y="1419480"/>
                  <a:ext cx="270720" cy="193680"/>
                </a:xfrm>
                <a:custGeom>
                  <a:avLst/>
                  <a:gdLst>
                    <a:gd name="textAreaLeft" fmla="*/ 0 w 270720"/>
                    <a:gd name="textAreaRight" fmla="*/ 271080 w 27072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50" name="Freeform 49"/>
                <p:cNvSpPr/>
                <p:nvPr/>
              </p:nvSpPr>
              <p:spPr>
                <a:xfrm rot="18427200">
                  <a:off x="8338320" y="1274040"/>
                  <a:ext cx="290160" cy="22860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51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52" name="Freeform 51"/>
                <p:cNvSpPr/>
                <p:nvPr/>
              </p:nvSpPr>
              <p:spPr>
                <a:xfrm rot="18427200">
                  <a:off x="7869960" y="208800"/>
                  <a:ext cx="286920" cy="219240"/>
                </a:xfrm>
                <a:custGeom>
                  <a:avLst/>
                  <a:gdLst>
                    <a:gd name="textAreaLeft" fmla="*/ 0 w 286920"/>
                    <a:gd name="textAreaRight" fmla="*/ 287280 w 2869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153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 type="dt" idx="4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 type="ftr" idx="4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8" name="PlaceHolder 5"/>
          <p:cNvSpPr>
            <a:spLocks noGrp="1"/>
          </p:cNvSpPr>
          <p:nvPr>
            <p:ph type="sldNum" idx="4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672B9-7581-4DC2-856E-0D19363AC06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19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19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0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0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0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0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0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0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0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0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20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20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21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1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1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21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1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1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21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21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1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1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2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2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2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2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2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122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22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2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22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122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123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23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123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>
                    <a:gd name="textAreaLeft" fmla="*/ 0 w 245160"/>
                    <a:gd name="textAreaRight" fmla="*/ 245520 w 24516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33" name="Freeform 45"/>
                <p:cNvSpPr/>
                <p:nvPr/>
              </p:nvSpPr>
              <p:spPr>
                <a:xfrm rot="18427200">
                  <a:off x="8029440" y="516240"/>
                  <a:ext cx="431280" cy="695520"/>
                </a:xfrm>
                <a:custGeom>
                  <a:avLst/>
                  <a:gdLst>
                    <a:gd name="textAreaLeft" fmla="*/ 0 w 431280"/>
                    <a:gd name="textAreaRight" fmla="*/ 431640 w 43128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34" name="Freeform 46"/>
                <p:cNvSpPr/>
                <p:nvPr/>
              </p:nvSpPr>
              <p:spPr>
                <a:xfrm rot="18427200">
                  <a:off x="7726320" y="278640"/>
                  <a:ext cx="809640" cy="1425600"/>
                </a:xfrm>
                <a:custGeom>
                  <a:avLst/>
                  <a:gdLst>
                    <a:gd name="textAreaLeft" fmla="*/ 0 w 809640"/>
                    <a:gd name="textAreaRight" fmla="*/ 810000 w 80964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3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>
                    <a:gd name="textAreaLeft" fmla="*/ 0 w 1215720"/>
                    <a:gd name="textAreaRight" fmla="*/ 1216080 w 121572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36" name="Freeform 48"/>
                <p:cNvSpPr/>
                <p:nvPr/>
              </p:nvSpPr>
              <p:spPr>
                <a:xfrm rot="18427200">
                  <a:off x="8426160" y="1419480"/>
                  <a:ext cx="270720" cy="193680"/>
                </a:xfrm>
                <a:custGeom>
                  <a:avLst/>
                  <a:gdLst>
                    <a:gd name="textAreaLeft" fmla="*/ 0 w 270720"/>
                    <a:gd name="textAreaRight" fmla="*/ 271080 w 27072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37" name="Freeform 49"/>
                <p:cNvSpPr/>
                <p:nvPr/>
              </p:nvSpPr>
              <p:spPr>
                <a:xfrm rot="18427200">
                  <a:off x="8338320" y="1274040"/>
                  <a:ext cx="290160" cy="22860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3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39" name="Freeform 51"/>
                <p:cNvSpPr/>
                <p:nvPr/>
              </p:nvSpPr>
              <p:spPr>
                <a:xfrm rot="18427200">
                  <a:off x="7869960" y="208800"/>
                  <a:ext cx="286920" cy="219240"/>
                </a:xfrm>
                <a:custGeom>
                  <a:avLst/>
                  <a:gdLst>
                    <a:gd name="textAreaLeft" fmla="*/ 0 w 286920"/>
                    <a:gd name="textAreaRight" fmla="*/ 287280 w 2869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24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 type="dt" idx="43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4" name="PlaceHolder 4"/>
          <p:cNvSpPr>
            <a:spLocks noGrp="1"/>
          </p:cNvSpPr>
          <p:nvPr>
            <p:ph type="ftr" idx="44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5" name="PlaceHolder 5"/>
          <p:cNvSpPr>
            <a:spLocks noGrp="1"/>
          </p:cNvSpPr>
          <p:nvPr>
            <p:ph type="sldNum" idx="45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21964-ED08-4B07-8004-7CE06C0C5F3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3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4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285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286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87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88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89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90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91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92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93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94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295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296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297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98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99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300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01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02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303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304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05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06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07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08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09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10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11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1312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313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14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315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1316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1317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318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1319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>
                    <a:gd name="textAreaLeft" fmla="*/ 0 w 245160"/>
                    <a:gd name="textAreaRight" fmla="*/ 245520 w 24516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20" name="Freeform 45"/>
                <p:cNvSpPr/>
                <p:nvPr/>
              </p:nvSpPr>
              <p:spPr>
                <a:xfrm rot="18427200">
                  <a:off x="8029440" y="516240"/>
                  <a:ext cx="431280" cy="695520"/>
                </a:xfrm>
                <a:custGeom>
                  <a:avLst/>
                  <a:gdLst>
                    <a:gd name="textAreaLeft" fmla="*/ 0 w 431280"/>
                    <a:gd name="textAreaRight" fmla="*/ 431640 w 43128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21" name="Freeform 46"/>
                <p:cNvSpPr/>
                <p:nvPr/>
              </p:nvSpPr>
              <p:spPr>
                <a:xfrm rot="18427200">
                  <a:off x="7726320" y="278640"/>
                  <a:ext cx="809640" cy="1425600"/>
                </a:xfrm>
                <a:custGeom>
                  <a:avLst/>
                  <a:gdLst>
                    <a:gd name="textAreaLeft" fmla="*/ 0 w 809640"/>
                    <a:gd name="textAreaRight" fmla="*/ 810000 w 80964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22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>
                    <a:gd name="textAreaLeft" fmla="*/ 0 w 1215720"/>
                    <a:gd name="textAreaRight" fmla="*/ 1216080 w 121572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23" name="Freeform 48"/>
                <p:cNvSpPr/>
                <p:nvPr/>
              </p:nvSpPr>
              <p:spPr>
                <a:xfrm rot="18427200">
                  <a:off x="8426160" y="1419480"/>
                  <a:ext cx="270720" cy="193680"/>
                </a:xfrm>
                <a:custGeom>
                  <a:avLst/>
                  <a:gdLst>
                    <a:gd name="textAreaLeft" fmla="*/ 0 w 270720"/>
                    <a:gd name="textAreaRight" fmla="*/ 271080 w 27072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24" name="Freeform 49"/>
                <p:cNvSpPr/>
                <p:nvPr/>
              </p:nvSpPr>
              <p:spPr>
                <a:xfrm rot="18427200">
                  <a:off x="8338320" y="1274040"/>
                  <a:ext cx="290160" cy="22860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25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26" name="Freeform 51"/>
                <p:cNvSpPr/>
                <p:nvPr/>
              </p:nvSpPr>
              <p:spPr>
                <a:xfrm rot="18427200">
                  <a:off x="7869960" y="208800"/>
                  <a:ext cx="286920" cy="219240"/>
                </a:xfrm>
                <a:custGeom>
                  <a:avLst/>
                  <a:gdLst>
                    <a:gd name="textAreaLeft" fmla="*/ 0 w 286920"/>
                    <a:gd name="textAreaRight" fmla="*/ 287280 w 2869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327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 type="dt" idx="46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 type="ftr" idx="47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2" name="PlaceHolder 5"/>
          <p:cNvSpPr>
            <a:spLocks noGrp="1"/>
          </p:cNvSpPr>
          <p:nvPr>
            <p:ph type="sldNum" idx="48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3AE71-59A7-4EFE-BDDF-95E876D438D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0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1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372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373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74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75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76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77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78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79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80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81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382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383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384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85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86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387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88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89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390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391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92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93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94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95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96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97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98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1399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400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01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402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1403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1404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405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1406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>
                    <a:gd name="textAreaLeft" fmla="*/ 0 w 245160"/>
                    <a:gd name="textAreaRight" fmla="*/ 245520 w 24516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07" name="Freeform 45"/>
                <p:cNvSpPr/>
                <p:nvPr/>
              </p:nvSpPr>
              <p:spPr>
                <a:xfrm rot="18427200">
                  <a:off x="8029440" y="516240"/>
                  <a:ext cx="431280" cy="695520"/>
                </a:xfrm>
                <a:custGeom>
                  <a:avLst/>
                  <a:gdLst>
                    <a:gd name="textAreaLeft" fmla="*/ 0 w 431280"/>
                    <a:gd name="textAreaRight" fmla="*/ 431640 w 43128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08" name="Freeform 46"/>
                <p:cNvSpPr/>
                <p:nvPr/>
              </p:nvSpPr>
              <p:spPr>
                <a:xfrm rot="18427200">
                  <a:off x="7726320" y="278640"/>
                  <a:ext cx="809640" cy="1425600"/>
                </a:xfrm>
                <a:custGeom>
                  <a:avLst/>
                  <a:gdLst>
                    <a:gd name="textAreaLeft" fmla="*/ 0 w 809640"/>
                    <a:gd name="textAreaRight" fmla="*/ 810000 w 80964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09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>
                    <a:gd name="textAreaLeft" fmla="*/ 0 w 1215720"/>
                    <a:gd name="textAreaRight" fmla="*/ 1216080 w 121572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10" name="Freeform 48"/>
                <p:cNvSpPr/>
                <p:nvPr/>
              </p:nvSpPr>
              <p:spPr>
                <a:xfrm rot="18427200">
                  <a:off x="8426160" y="1419480"/>
                  <a:ext cx="270720" cy="193680"/>
                </a:xfrm>
                <a:custGeom>
                  <a:avLst/>
                  <a:gdLst>
                    <a:gd name="textAreaLeft" fmla="*/ 0 w 270720"/>
                    <a:gd name="textAreaRight" fmla="*/ 271080 w 27072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11" name="Freeform 49"/>
                <p:cNvSpPr/>
                <p:nvPr/>
              </p:nvSpPr>
              <p:spPr>
                <a:xfrm rot="18427200">
                  <a:off x="8338320" y="1274040"/>
                  <a:ext cx="290160" cy="22860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12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13" name="Freeform 51"/>
                <p:cNvSpPr/>
                <p:nvPr/>
              </p:nvSpPr>
              <p:spPr>
                <a:xfrm rot="18427200">
                  <a:off x="7869960" y="208800"/>
                  <a:ext cx="286920" cy="219240"/>
                </a:xfrm>
                <a:custGeom>
                  <a:avLst/>
                  <a:gdLst>
                    <a:gd name="textAreaLeft" fmla="*/ 0 w 286920"/>
                    <a:gd name="textAreaRight" fmla="*/ 287280 w 2869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414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7" name="PlaceHolder 3"/>
          <p:cNvSpPr>
            <a:spLocks noGrp="1"/>
          </p:cNvSpPr>
          <p:nvPr>
            <p:ph type="dt" idx="49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8" name="PlaceHolder 4"/>
          <p:cNvSpPr>
            <a:spLocks noGrp="1"/>
          </p:cNvSpPr>
          <p:nvPr>
            <p:ph type="ftr" idx="50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9" name="PlaceHolder 5"/>
          <p:cNvSpPr>
            <a:spLocks noGrp="1"/>
          </p:cNvSpPr>
          <p:nvPr>
            <p:ph type="sldNum" idx="51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1DADB-4187-4879-9289-E8BCAE88BF5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7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8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459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460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61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62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63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64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65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66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67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68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469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470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471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72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73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474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75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76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477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478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79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80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81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82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83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84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85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148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487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88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489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1490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1491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492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1493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>
                    <a:gd name="textAreaLeft" fmla="*/ 0 w 245160"/>
                    <a:gd name="textAreaRight" fmla="*/ 245520 w 24516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94" name="Freeform 45"/>
                <p:cNvSpPr/>
                <p:nvPr/>
              </p:nvSpPr>
              <p:spPr>
                <a:xfrm rot="18427200">
                  <a:off x="8029440" y="516240"/>
                  <a:ext cx="431280" cy="695520"/>
                </a:xfrm>
                <a:custGeom>
                  <a:avLst/>
                  <a:gdLst>
                    <a:gd name="textAreaLeft" fmla="*/ 0 w 431280"/>
                    <a:gd name="textAreaRight" fmla="*/ 431640 w 43128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95" name="Freeform 46"/>
                <p:cNvSpPr/>
                <p:nvPr/>
              </p:nvSpPr>
              <p:spPr>
                <a:xfrm rot="18427200">
                  <a:off x="7726320" y="278640"/>
                  <a:ext cx="809640" cy="1425600"/>
                </a:xfrm>
                <a:custGeom>
                  <a:avLst/>
                  <a:gdLst>
                    <a:gd name="textAreaLeft" fmla="*/ 0 w 809640"/>
                    <a:gd name="textAreaRight" fmla="*/ 810000 w 80964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96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>
                    <a:gd name="textAreaLeft" fmla="*/ 0 w 1215720"/>
                    <a:gd name="textAreaRight" fmla="*/ 1216080 w 121572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97" name="Freeform 48"/>
                <p:cNvSpPr/>
                <p:nvPr/>
              </p:nvSpPr>
              <p:spPr>
                <a:xfrm rot="18427200">
                  <a:off x="8426160" y="1419480"/>
                  <a:ext cx="270720" cy="193680"/>
                </a:xfrm>
                <a:custGeom>
                  <a:avLst/>
                  <a:gdLst>
                    <a:gd name="textAreaLeft" fmla="*/ 0 w 270720"/>
                    <a:gd name="textAreaRight" fmla="*/ 271080 w 27072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98" name="Freeform 49"/>
                <p:cNvSpPr/>
                <p:nvPr/>
              </p:nvSpPr>
              <p:spPr>
                <a:xfrm rot="18427200">
                  <a:off x="8338320" y="1274040"/>
                  <a:ext cx="290160" cy="22860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99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500" name="Freeform 51"/>
                <p:cNvSpPr/>
                <p:nvPr/>
              </p:nvSpPr>
              <p:spPr>
                <a:xfrm rot="18427200">
                  <a:off x="7869960" y="208800"/>
                  <a:ext cx="286920" cy="219240"/>
                </a:xfrm>
                <a:custGeom>
                  <a:avLst/>
                  <a:gdLst>
                    <a:gd name="textAreaLeft" fmla="*/ 0 w 286920"/>
                    <a:gd name="textAreaRight" fmla="*/ 287280 w 2869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501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4" name="PlaceHolder 3"/>
          <p:cNvSpPr>
            <a:spLocks noGrp="1"/>
          </p:cNvSpPr>
          <p:nvPr>
            <p:ph type="dt" idx="52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5" name="PlaceHolder 4"/>
          <p:cNvSpPr>
            <a:spLocks noGrp="1"/>
          </p:cNvSpPr>
          <p:nvPr>
            <p:ph type="ftr" idx="53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6" name="PlaceHolder 5"/>
          <p:cNvSpPr>
            <a:spLocks noGrp="1"/>
          </p:cNvSpPr>
          <p:nvPr>
            <p:ph type="sldNum" idx="54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287F8-24F0-44B8-BDCF-5D31ED54582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0760" y="4661280"/>
              <a:ext cx="998640" cy="4633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3320"/>
                <a:gd name="textAreaBottom" fmla="*/ 463680 h 4633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6640" y="4640040"/>
              <a:ext cx="995400" cy="4586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4760" y="4626000"/>
              <a:ext cx="660240" cy="41904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19040"/>
                <a:gd name="textAreaBottom" fmla="*/ 419400 h 4190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120"/>
                  <a:gd name="textAreaBottom" fmla="*/ 96480 h 9612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1760"/>
                  <a:gd name="textAreaBottom" fmla="*/ 492120 h 49176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280"/>
                  <a:gd name="textAreaBottom" fmla="*/ 278640 h 2782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520"/>
                  <a:gd name="textAreaBottom" fmla="*/ 164880 h 16452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cc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36E26-4586-464D-B14E-444D666D5D4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4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55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1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64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65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66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7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8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69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0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1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72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73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4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5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6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7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8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9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0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181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82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3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84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185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186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87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188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>
                    <a:gd name="textAreaLeft" fmla="*/ 0 w 245160"/>
                    <a:gd name="textAreaRight" fmla="*/ 245520 w 24516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9" name="Freeform 45"/>
                <p:cNvSpPr/>
                <p:nvPr/>
              </p:nvSpPr>
              <p:spPr>
                <a:xfrm rot="18427200">
                  <a:off x="8029440" y="516240"/>
                  <a:ext cx="431280" cy="695520"/>
                </a:xfrm>
                <a:custGeom>
                  <a:avLst/>
                  <a:gdLst>
                    <a:gd name="textAreaLeft" fmla="*/ 0 w 431280"/>
                    <a:gd name="textAreaRight" fmla="*/ 431640 w 43128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0" name="Freeform 46"/>
                <p:cNvSpPr/>
                <p:nvPr/>
              </p:nvSpPr>
              <p:spPr>
                <a:xfrm rot="18427200">
                  <a:off x="7726320" y="278640"/>
                  <a:ext cx="809640" cy="1425600"/>
                </a:xfrm>
                <a:custGeom>
                  <a:avLst/>
                  <a:gdLst>
                    <a:gd name="textAreaLeft" fmla="*/ 0 w 809640"/>
                    <a:gd name="textAreaRight" fmla="*/ 810000 w 80964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1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>
                    <a:gd name="textAreaLeft" fmla="*/ 0 w 1215720"/>
                    <a:gd name="textAreaRight" fmla="*/ 1216080 w 121572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2" name="Freeform 48"/>
                <p:cNvSpPr/>
                <p:nvPr/>
              </p:nvSpPr>
              <p:spPr>
                <a:xfrm rot="18427200">
                  <a:off x="8426160" y="1419480"/>
                  <a:ext cx="270720" cy="193680"/>
                </a:xfrm>
                <a:custGeom>
                  <a:avLst/>
                  <a:gdLst>
                    <a:gd name="textAreaLeft" fmla="*/ 0 w 270720"/>
                    <a:gd name="textAreaRight" fmla="*/ 271080 w 27072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3" name="Freeform 49"/>
                <p:cNvSpPr/>
                <p:nvPr/>
              </p:nvSpPr>
              <p:spPr>
                <a:xfrm rot="18427200">
                  <a:off x="8338320" y="1274040"/>
                  <a:ext cx="290160" cy="22860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4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5" name="Freeform 51"/>
                <p:cNvSpPr/>
                <p:nvPr/>
              </p:nvSpPr>
              <p:spPr>
                <a:xfrm rot="18427200">
                  <a:off x="7869960" y="208800"/>
                  <a:ext cx="286920" cy="219240"/>
                </a:xfrm>
                <a:custGeom>
                  <a:avLst/>
                  <a:gdLst>
                    <a:gd name="textAreaLeft" fmla="*/ 0 w 286920"/>
                    <a:gd name="textAreaRight" fmla="*/ 287280 w 2869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96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ftr" idx="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sldNum" idx="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5FA23-9CF4-4002-825E-E41880CD9AA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41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242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3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4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5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6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7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8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9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0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51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252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53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4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5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56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7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8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59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60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1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2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3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4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5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6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7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268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269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0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71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272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273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74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275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>
                    <a:gd name="textAreaLeft" fmla="*/ 0 w 245160"/>
                    <a:gd name="textAreaRight" fmla="*/ 245520 w 24516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76" name="Freeform 45"/>
                <p:cNvSpPr/>
                <p:nvPr/>
              </p:nvSpPr>
              <p:spPr>
                <a:xfrm rot="18427200">
                  <a:off x="8029440" y="516240"/>
                  <a:ext cx="431280" cy="695520"/>
                </a:xfrm>
                <a:custGeom>
                  <a:avLst/>
                  <a:gdLst>
                    <a:gd name="textAreaLeft" fmla="*/ 0 w 431280"/>
                    <a:gd name="textAreaRight" fmla="*/ 431640 w 43128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77" name="Freeform 46"/>
                <p:cNvSpPr/>
                <p:nvPr/>
              </p:nvSpPr>
              <p:spPr>
                <a:xfrm rot="18427200">
                  <a:off x="7726320" y="278640"/>
                  <a:ext cx="809640" cy="1425600"/>
                </a:xfrm>
                <a:custGeom>
                  <a:avLst/>
                  <a:gdLst>
                    <a:gd name="textAreaLeft" fmla="*/ 0 w 809640"/>
                    <a:gd name="textAreaRight" fmla="*/ 810000 w 80964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78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>
                    <a:gd name="textAreaLeft" fmla="*/ 0 w 1215720"/>
                    <a:gd name="textAreaRight" fmla="*/ 1216080 w 121572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79" name="Freeform 48"/>
                <p:cNvSpPr/>
                <p:nvPr/>
              </p:nvSpPr>
              <p:spPr>
                <a:xfrm rot="18427200">
                  <a:off x="8426160" y="1419480"/>
                  <a:ext cx="270720" cy="193680"/>
                </a:xfrm>
                <a:custGeom>
                  <a:avLst/>
                  <a:gdLst>
                    <a:gd name="textAreaLeft" fmla="*/ 0 w 270720"/>
                    <a:gd name="textAreaRight" fmla="*/ 271080 w 27072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0" name="Freeform 49"/>
                <p:cNvSpPr/>
                <p:nvPr/>
              </p:nvSpPr>
              <p:spPr>
                <a:xfrm rot="18427200">
                  <a:off x="8338320" y="1274040"/>
                  <a:ext cx="290160" cy="22860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1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2" name="Freeform 51"/>
                <p:cNvSpPr/>
                <p:nvPr/>
              </p:nvSpPr>
              <p:spPr>
                <a:xfrm rot="18427200">
                  <a:off x="7869960" y="208800"/>
                  <a:ext cx="286920" cy="219240"/>
                </a:xfrm>
                <a:custGeom>
                  <a:avLst/>
                  <a:gdLst>
                    <a:gd name="textAreaLeft" fmla="*/ 0 w 286920"/>
                    <a:gd name="textAreaRight" fmla="*/ 287280 w 2869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283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1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1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1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E409F-4203-4FAB-A80D-BA13198F125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2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32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3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33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34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34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34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34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5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5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5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36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36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36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>
                    <a:gd name="textAreaLeft" fmla="*/ 0 w 245160"/>
                    <a:gd name="textAreaRight" fmla="*/ 245520 w 24516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3" name="Freeform 45"/>
                <p:cNvSpPr/>
                <p:nvPr/>
              </p:nvSpPr>
              <p:spPr>
                <a:xfrm rot="18427200">
                  <a:off x="8029440" y="516240"/>
                  <a:ext cx="431280" cy="695520"/>
                </a:xfrm>
                <a:custGeom>
                  <a:avLst/>
                  <a:gdLst>
                    <a:gd name="textAreaLeft" fmla="*/ 0 w 431280"/>
                    <a:gd name="textAreaRight" fmla="*/ 431640 w 43128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4" name="Freeform 46"/>
                <p:cNvSpPr/>
                <p:nvPr/>
              </p:nvSpPr>
              <p:spPr>
                <a:xfrm rot="18427200">
                  <a:off x="7726320" y="278640"/>
                  <a:ext cx="809640" cy="1425600"/>
                </a:xfrm>
                <a:custGeom>
                  <a:avLst/>
                  <a:gdLst>
                    <a:gd name="textAreaLeft" fmla="*/ 0 w 809640"/>
                    <a:gd name="textAreaRight" fmla="*/ 810000 w 80964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>
                    <a:gd name="textAreaLeft" fmla="*/ 0 w 1215720"/>
                    <a:gd name="textAreaRight" fmla="*/ 1216080 w 121572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6" name="Freeform 48"/>
                <p:cNvSpPr/>
                <p:nvPr/>
              </p:nvSpPr>
              <p:spPr>
                <a:xfrm rot="18427200">
                  <a:off x="8426160" y="1419480"/>
                  <a:ext cx="270720" cy="193680"/>
                </a:xfrm>
                <a:custGeom>
                  <a:avLst/>
                  <a:gdLst>
                    <a:gd name="textAreaLeft" fmla="*/ 0 w 270720"/>
                    <a:gd name="textAreaRight" fmla="*/ 271080 w 27072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7" name="Freeform 49"/>
                <p:cNvSpPr/>
                <p:nvPr/>
              </p:nvSpPr>
              <p:spPr>
                <a:xfrm rot="18427200">
                  <a:off x="8338320" y="1274040"/>
                  <a:ext cx="290160" cy="22860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9" name="Freeform 51"/>
                <p:cNvSpPr/>
                <p:nvPr/>
              </p:nvSpPr>
              <p:spPr>
                <a:xfrm rot="18427200">
                  <a:off x="7869960" y="208800"/>
                  <a:ext cx="286920" cy="219240"/>
                </a:xfrm>
                <a:custGeom>
                  <a:avLst/>
                  <a:gdLst>
                    <a:gd name="textAreaLeft" fmla="*/ 0 w 286920"/>
                    <a:gd name="textAreaRight" fmla="*/ 287280 w 2869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37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dt" idx="13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ftr" idx="14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sldNum" idx="15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A84F2-B2E1-4116-997C-336D9BCDE56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3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4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15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416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7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8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9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0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1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2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3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4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425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426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427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28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29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430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31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32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33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434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5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6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7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8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9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0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1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442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443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4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45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446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47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48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49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>
                    <a:gd name="textAreaLeft" fmla="*/ 0 w 245160"/>
                    <a:gd name="textAreaRight" fmla="*/ 245520 w 24516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0" name="Freeform 45"/>
                <p:cNvSpPr/>
                <p:nvPr/>
              </p:nvSpPr>
              <p:spPr>
                <a:xfrm rot="18427200">
                  <a:off x="8029440" y="516240"/>
                  <a:ext cx="431280" cy="695520"/>
                </a:xfrm>
                <a:custGeom>
                  <a:avLst/>
                  <a:gdLst>
                    <a:gd name="textAreaLeft" fmla="*/ 0 w 431280"/>
                    <a:gd name="textAreaRight" fmla="*/ 431640 w 43128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1" name="Freeform 46"/>
                <p:cNvSpPr/>
                <p:nvPr/>
              </p:nvSpPr>
              <p:spPr>
                <a:xfrm rot="18427200">
                  <a:off x="7726320" y="278640"/>
                  <a:ext cx="809640" cy="1425600"/>
                </a:xfrm>
                <a:custGeom>
                  <a:avLst/>
                  <a:gdLst>
                    <a:gd name="textAreaLeft" fmla="*/ 0 w 809640"/>
                    <a:gd name="textAreaRight" fmla="*/ 810000 w 80964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2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>
                    <a:gd name="textAreaLeft" fmla="*/ 0 w 1215720"/>
                    <a:gd name="textAreaRight" fmla="*/ 1216080 w 121572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3" name="Freeform 48"/>
                <p:cNvSpPr/>
                <p:nvPr/>
              </p:nvSpPr>
              <p:spPr>
                <a:xfrm rot="18427200">
                  <a:off x="8426160" y="1419480"/>
                  <a:ext cx="270720" cy="193680"/>
                </a:xfrm>
                <a:custGeom>
                  <a:avLst/>
                  <a:gdLst>
                    <a:gd name="textAreaLeft" fmla="*/ 0 w 270720"/>
                    <a:gd name="textAreaRight" fmla="*/ 271080 w 27072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4" name="Freeform 49"/>
                <p:cNvSpPr/>
                <p:nvPr/>
              </p:nvSpPr>
              <p:spPr>
                <a:xfrm rot="18427200">
                  <a:off x="8338320" y="1274040"/>
                  <a:ext cx="290160" cy="22860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5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6" name="Freeform 51"/>
                <p:cNvSpPr/>
                <p:nvPr/>
              </p:nvSpPr>
              <p:spPr>
                <a:xfrm rot="18427200">
                  <a:off x="7869960" y="208800"/>
                  <a:ext cx="286920" cy="219240"/>
                </a:xfrm>
                <a:custGeom>
                  <a:avLst/>
                  <a:gdLst>
                    <a:gd name="textAreaLeft" fmla="*/ 0 w 286920"/>
                    <a:gd name="textAreaRight" fmla="*/ 287280 w 2869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457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 type="dt" idx="16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 type="ftr" idx="17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 type="sldNum" idx="18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18D71-0750-4A68-82A6-CD770E2003C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1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02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03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4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5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6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7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8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9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0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1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512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513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514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15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16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517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8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9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520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521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2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3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4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5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6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7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8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529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530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1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32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533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534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535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536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>
                    <a:gd name="textAreaLeft" fmla="*/ 0 w 245160"/>
                    <a:gd name="textAreaRight" fmla="*/ 245520 w 24516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37" name="Freeform 45"/>
                <p:cNvSpPr/>
                <p:nvPr/>
              </p:nvSpPr>
              <p:spPr>
                <a:xfrm rot="18427200">
                  <a:off x="8029440" y="516240"/>
                  <a:ext cx="431280" cy="695520"/>
                </a:xfrm>
                <a:custGeom>
                  <a:avLst/>
                  <a:gdLst>
                    <a:gd name="textAreaLeft" fmla="*/ 0 w 431280"/>
                    <a:gd name="textAreaRight" fmla="*/ 431640 w 43128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38" name="Freeform 46"/>
                <p:cNvSpPr/>
                <p:nvPr/>
              </p:nvSpPr>
              <p:spPr>
                <a:xfrm rot="18427200">
                  <a:off x="7726320" y="278640"/>
                  <a:ext cx="809640" cy="1425600"/>
                </a:xfrm>
                <a:custGeom>
                  <a:avLst/>
                  <a:gdLst>
                    <a:gd name="textAreaLeft" fmla="*/ 0 w 809640"/>
                    <a:gd name="textAreaRight" fmla="*/ 810000 w 80964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39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>
                    <a:gd name="textAreaLeft" fmla="*/ 0 w 1215720"/>
                    <a:gd name="textAreaRight" fmla="*/ 1216080 w 121572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40" name="Freeform 48"/>
                <p:cNvSpPr/>
                <p:nvPr/>
              </p:nvSpPr>
              <p:spPr>
                <a:xfrm rot="18427200">
                  <a:off x="8426160" y="1419480"/>
                  <a:ext cx="270720" cy="193680"/>
                </a:xfrm>
                <a:custGeom>
                  <a:avLst/>
                  <a:gdLst>
                    <a:gd name="textAreaLeft" fmla="*/ 0 w 270720"/>
                    <a:gd name="textAreaRight" fmla="*/ 271080 w 27072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41" name="Freeform 49"/>
                <p:cNvSpPr/>
                <p:nvPr/>
              </p:nvSpPr>
              <p:spPr>
                <a:xfrm rot="18427200">
                  <a:off x="8338320" y="1274040"/>
                  <a:ext cx="290160" cy="22860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42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43" name="Freeform 51"/>
                <p:cNvSpPr/>
                <p:nvPr/>
              </p:nvSpPr>
              <p:spPr>
                <a:xfrm rot="18427200">
                  <a:off x="7869960" y="208800"/>
                  <a:ext cx="286920" cy="219240"/>
                </a:xfrm>
                <a:custGeom>
                  <a:avLst/>
                  <a:gdLst>
                    <a:gd name="textAreaLeft" fmla="*/ 0 w 286920"/>
                    <a:gd name="textAreaRight" fmla="*/ 287280 w 2869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44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 type="dt" idx="19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 type="ftr" idx="20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 type="sldNum" idx="21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8C6E2-179D-486A-8457-C59BA0688F1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7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8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89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90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1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2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3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4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5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6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7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8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599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00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01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02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03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604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05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06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607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08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09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10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11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12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13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14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15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61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617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8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619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620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621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622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623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>
                    <a:gd name="textAreaLeft" fmla="*/ 0 w 245160"/>
                    <a:gd name="textAreaRight" fmla="*/ 245520 w 24516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24" name="Freeform 45"/>
                <p:cNvSpPr/>
                <p:nvPr/>
              </p:nvSpPr>
              <p:spPr>
                <a:xfrm rot="18427200">
                  <a:off x="8029440" y="516240"/>
                  <a:ext cx="431280" cy="695520"/>
                </a:xfrm>
                <a:custGeom>
                  <a:avLst/>
                  <a:gdLst>
                    <a:gd name="textAreaLeft" fmla="*/ 0 w 431280"/>
                    <a:gd name="textAreaRight" fmla="*/ 431640 w 43128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25" name="Freeform 46"/>
                <p:cNvSpPr/>
                <p:nvPr/>
              </p:nvSpPr>
              <p:spPr>
                <a:xfrm rot="18427200">
                  <a:off x="7726320" y="278640"/>
                  <a:ext cx="809640" cy="1425600"/>
                </a:xfrm>
                <a:custGeom>
                  <a:avLst/>
                  <a:gdLst>
                    <a:gd name="textAreaLeft" fmla="*/ 0 w 809640"/>
                    <a:gd name="textAreaRight" fmla="*/ 810000 w 80964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26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>
                    <a:gd name="textAreaLeft" fmla="*/ 0 w 1215720"/>
                    <a:gd name="textAreaRight" fmla="*/ 1216080 w 121572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27" name="Freeform 48"/>
                <p:cNvSpPr/>
                <p:nvPr/>
              </p:nvSpPr>
              <p:spPr>
                <a:xfrm rot="18427200">
                  <a:off x="8426160" y="1419480"/>
                  <a:ext cx="270720" cy="193680"/>
                </a:xfrm>
                <a:custGeom>
                  <a:avLst/>
                  <a:gdLst>
                    <a:gd name="textAreaLeft" fmla="*/ 0 w 270720"/>
                    <a:gd name="textAreaRight" fmla="*/ 271080 w 27072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28" name="Freeform 49"/>
                <p:cNvSpPr/>
                <p:nvPr/>
              </p:nvSpPr>
              <p:spPr>
                <a:xfrm rot="18427200">
                  <a:off x="8338320" y="1274040"/>
                  <a:ext cx="290160" cy="22860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29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30" name="Freeform 51"/>
                <p:cNvSpPr/>
                <p:nvPr/>
              </p:nvSpPr>
              <p:spPr>
                <a:xfrm rot="18427200">
                  <a:off x="7869960" y="208800"/>
                  <a:ext cx="286920" cy="219240"/>
                </a:xfrm>
                <a:custGeom>
                  <a:avLst/>
                  <a:gdLst>
                    <a:gd name="textAreaLeft" fmla="*/ 0 w 286920"/>
                    <a:gd name="textAreaRight" fmla="*/ 287280 w 2869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631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 type="dt" idx="22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 type="ftr" idx="23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 type="sldNum" idx="24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C9580-B821-4737-AA2F-757B67278EF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4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5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76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677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8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9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0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1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2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3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4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5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686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87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88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89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90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691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92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93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694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95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96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97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98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99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00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01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02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703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04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5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706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707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708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709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710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>
                    <a:gd name="textAreaLeft" fmla="*/ 0 w 245160"/>
                    <a:gd name="textAreaRight" fmla="*/ 245520 w 24516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11" name="Freeform 45"/>
                <p:cNvSpPr/>
                <p:nvPr/>
              </p:nvSpPr>
              <p:spPr>
                <a:xfrm rot="18427200">
                  <a:off x="8029440" y="516240"/>
                  <a:ext cx="431280" cy="695520"/>
                </a:xfrm>
                <a:custGeom>
                  <a:avLst/>
                  <a:gdLst>
                    <a:gd name="textAreaLeft" fmla="*/ 0 w 431280"/>
                    <a:gd name="textAreaRight" fmla="*/ 431640 w 43128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12" name="Freeform 46"/>
                <p:cNvSpPr/>
                <p:nvPr/>
              </p:nvSpPr>
              <p:spPr>
                <a:xfrm rot="18427200">
                  <a:off x="7726320" y="278640"/>
                  <a:ext cx="809640" cy="1425600"/>
                </a:xfrm>
                <a:custGeom>
                  <a:avLst/>
                  <a:gdLst>
                    <a:gd name="textAreaLeft" fmla="*/ 0 w 809640"/>
                    <a:gd name="textAreaRight" fmla="*/ 810000 w 80964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13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>
                    <a:gd name="textAreaLeft" fmla="*/ 0 w 1215720"/>
                    <a:gd name="textAreaRight" fmla="*/ 1216080 w 121572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14" name="Freeform 48"/>
                <p:cNvSpPr/>
                <p:nvPr/>
              </p:nvSpPr>
              <p:spPr>
                <a:xfrm rot="18427200">
                  <a:off x="8426160" y="1419480"/>
                  <a:ext cx="270720" cy="193680"/>
                </a:xfrm>
                <a:custGeom>
                  <a:avLst/>
                  <a:gdLst>
                    <a:gd name="textAreaLeft" fmla="*/ 0 w 270720"/>
                    <a:gd name="textAreaRight" fmla="*/ 271080 w 27072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15" name="Freeform 49"/>
                <p:cNvSpPr/>
                <p:nvPr/>
              </p:nvSpPr>
              <p:spPr>
                <a:xfrm rot="18427200">
                  <a:off x="8338320" y="1274040"/>
                  <a:ext cx="290160" cy="22860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16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17" name="Freeform 51"/>
                <p:cNvSpPr/>
                <p:nvPr/>
              </p:nvSpPr>
              <p:spPr>
                <a:xfrm rot="18427200">
                  <a:off x="7869960" y="208800"/>
                  <a:ext cx="286920" cy="219240"/>
                </a:xfrm>
                <a:custGeom>
                  <a:avLst/>
                  <a:gdLst>
                    <a:gd name="textAreaLeft" fmla="*/ 0 w 286920"/>
                    <a:gd name="textAreaRight" fmla="*/ 287280 w 2869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718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dt" idx="25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ftr" idx="26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sldNum" idx="27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C20A4-68A2-4386-98A0-522E6CA3227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0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PlaceHolder 1"/>
          <p:cNvSpPr>
            <a:spLocks noGrp="1"/>
          </p:cNvSpPr>
          <p:nvPr>
            <p:ph type="title"/>
          </p:nvPr>
        </p:nvSpPr>
        <p:spPr>
          <a:xfrm>
            <a:off x="1371600" y="1928520"/>
            <a:ext cx="6400800" cy="18558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99ccff"/>
            </a:outerShdw>
          </a:effectLst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Моделирование как инструмент познавательно-речевой активности детей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1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Балабанова Милена Валерьевна, старший воспитатель МБДОУ д/с «Золотой петушок» Брянского район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Этапы работы с моделью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оздание моделе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роцесс запоминани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Использование моделей для организации собственной деятельности (ребёнок должен действовать самостоятельно с моделью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"/>
          <p:cNvSpPr txBox="1"/>
          <p:nvPr/>
        </p:nvSpPr>
        <p:spPr>
          <a:xfrm>
            <a:off x="428760" y="571680"/>
            <a:ext cx="795312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ru-RU" sz="3200" spc="-1" strike="noStrike">
                <a:solidFill>
                  <a:srgbClr val="000073"/>
                </a:solidFill>
                <a:latin typeface="Comic Sans MS"/>
              </a:rPr>
              <a:t>«Учите ребенка каким-нибудь неизвестным  ему пяти словам – он будет долго и напрасно мучиться, но свяжите двадцать таких слов с картинками, и он усвоит их на лету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3"/>
                </a:solidFill>
                <a:latin typeface="Comic Sans MS"/>
              </a:rPr>
              <a:t>К.Д. Ушински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9" name="Picture 5" descr="0012-012-Spasibo-za-vnimani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826560" y="151920"/>
            <a:ext cx="672948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Приемы, используемые  при формировании познавательно – речевого развития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3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e5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e5"/>
                </a:solidFill>
                <a:latin typeface="Comic Sans MS"/>
              </a:rPr>
              <a:t>Наглядные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–наблюдения, рассматривание картин, демонстрации фильмов, слайдов, презентаций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e5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e5"/>
                </a:solidFill>
                <a:latin typeface="Comic Sans MS"/>
              </a:rPr>
              <a:t>Практические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–упражнения, игры, эксперименты и опыты, моделирование, проектная деятельность, исследовательско-поисковая  деятельность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e5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e5"/>
                </a:solidFill>
                <a:latin typeface="Comic Sans MS"/>
              </a:rPr>
              <a:t>Словесные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–рассказ, чтение, вопросы, беседы, использование художественного слов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Основные задачи познавательно-речевой деятельности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5" name=""/>
          <p:cNvSpPr txBox="1"/>
          <p:nvPr/>
        </p:nvSpPr>
        <p:spPr>
          <a:xfrm>
            <a:off x="394920" y="1484280"/>
            <a:ext cx="82090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Обогащать  познавательную сферу детей информацией через занятия, наблюдения, экспериментальную деятельность, речь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Обогащать эмоционально-чувственный опыт в процессе непосредственного общения с предметами, явлениями, людьми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омочь упорядочить сведения об окружающем мире, формировать представления его целостности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Формировать бережное отношение к окружающему миру, закреплять положительные эмоции, умение их проявлять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оздать условия, способствующие выявлению и поддержанию интересов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оддерживать условия для развития познавательно-речевых процессов дошкольников во всех видах деятельност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Для правильной организации организации познавательно-речевого развития выделяются следующие аспекты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7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Речь педагог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Формирование представлений об окружающем мир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Развитие любознательност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енсорное воспитани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Игр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/>
          </p:nvPr>
        </p:nvSpPr>
        <p:spPr>
          <a:xfrm>
            <a:off x="468360" y="213840"/>
            <a:ext cx="7913520" cy="664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a0aff"/>
                </a:solidFill>
                <a:latin typeface="Comic Sans MS"/>
              </a:rPr>
              <a:t>Моделирование  -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это одно из средств познания действительности, исследование каких-либо явлений, процессов посредством построения и изучения моделей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a0aff"/>
                </a:solidFill>
                <a:latin typeface="Comic Sans MS"/>
              </a:rPr>
              <a:t>Модель -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это любой образ (мысленный или условный; изображения, описания, схема, чертеж, график, план) какого-либо процесса или явления (оригинала данной модели), используемый в качестве заместителя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PlaceHolder 1"/>
          <p:cNvSpPr>
            <a:spLocks noGrp="1"/>
          </p:cNvSpPr>
          <p:nvPr>
            <p:ph type="title"/>
          </p:nvPr>
        </p:nvSpPr>
        <p:spPr>
          <a:xfrm>
            <a:off x="714240" y="-36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Виды моделировани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редметно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редметно – схематическо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Графическо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Модель должна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2" name=""/>
          <p:cNvSpPr txBox="1"/>
          <p:nvPr/>
        </p:nvSpPr>
        <p:spPr>
          <a:xfrm>
            <a:off x="685800" y="1828440"/>
            <a:ext cx="769608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Четко отображать основные свойства и отношения, которые являются объектом познания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Быть простой для восприятия и доступной для создания действий с ней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Ярко и отчетливо передавать с ее помощью те свойства и отношения, которые должны быть освоены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блегчать познани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Закономерности формирования моделирования у дошкольников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4" name=""/>
          <p:cNvSpPr txBox="1"/>
          <p:nvPr/>
        </p:nvSpPr>
        <p:spPr>
          <a:xfrm>
            <a:off x="285480" y="1357200"/>
            <a:ext cx="864396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Моделирование выполняется на знакомом детям материале, с опорой на знания, полученные на занятиях или в обыденной жизни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Целесообразно начинать с моделирования единичных конкретных ситуаций, а позднее с построения моделей, имеющих обобщенный характер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ледует начинать с иконических  моделей, т.е. сохраняющих известное сходство  с моделируемым объектом, постоянно переходя к условно- символическим изображениям отношений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"/>
          <p:cNvSpPr txBox="1"/>
          <p:nvPr/>
        </p:nvSpPr>
        <p:spPr>
          <a:xfrm>
            <a:off x="685800" y="713880"/>
            <a:ext cx="769608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ачинать следует с моделирования пространственных отношений, а затем переходить к моделированию временных, логических и т. д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бучение моделированию осуществляется легче, если начинается с применения готовых моделей, а затем их построения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оцесс обучения моделированию заканчивается интериоризацией  действий, т.е. переводом планирования во внутренний план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3T12:59:41Z</dcterms:created>
  <dc:creator>Оля</dc:creator>
  <dc:description/>
  <dc:language>en-US</dc:language>
  <cp:lastModifiedBy>Doshkola</cp:lastModifiedBy>
  <dcterms:modified xsi:type="dcterms:W3CDTF">2017-11-28T07:59:00Z</dcterms:modified>
  <cp:revision>32</cp:revision>
  <dc:subject/>
  <dc:title>Моделирование в детском саду</dc:title>
</cp:coreProperties>
</file>