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8020-FF72-48B1-BB85-A7BAD88FB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7B07-A22B-488A-B014-23CF04AA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C79F-6B51-4934-8F86-FBBB787DA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C314-72A3-4566-88BE-A00C8D621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C5ED-D18F-4C94-A3D5-9ED4F0B4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87D0-146E-47D2-9BF7-517BC66D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082B-597E-4527-988E-8B99528C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14D3-E1D7-4078-B2E9-F735D645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2673-AD9B-4467-AE8B-CC56508F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788B-E2F2-415F-BA9E-B6FCF24C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E437-E479-47B9-86DA-A2724D4C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8428-92A8-47A0-B3F5-D3CC14FB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3671-E3CC-4F7A-92B4-27E729A2C2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fipi.ru/view/sections/211/docs/449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aweb.gallaudet.edu/CLAST/Tutorial_and_Instructional_Programs/English_Works/Writing/Essays.html" TargetMode="External"/><Relationship Id="rId2" Type="http://schemas.openxmlformats.org/officeDocument/2006/relationships/hyperlink" Target="http://aaweb.gallaudet.edu/CLAST/Tutorial_and_Instructional_Programs/English_Works/Writing/Essays.html" TargetMode="External"/><Relationship Id="rId3" Type="http://schemas.openxmlformats.org/officeDocument/2006/relationships/hyperlink" Target="http://aaweb.gallaudet.edu/CLAST/Tutorial_and_Instructional_Programs/English_Works/Writing/Essays.html" TargetMode="External"/><Relationship Id="rId4" Type="http://schemas.openxmlformats.org/officeDocument/2006/relationships/hyperlink" Target="http://aaweb.gallaudet.edu/CLAST/Tutorial_and_Instructional_Programs/English_Works/Writing/Essays.html" TargetMode="External"/><Relationship Id="rId5" Type="http://schemas.openxmlformats.org/officeDocument/2006/relationships/hyperlink" Target="http://aaweb.gallaudet.edu/CLAST/Tutorial_and_Instructional_Programs/English_Works/Writing/Essays.html" TargetMode="External"/><Relationship Id="rId6" Type="http://schemas.openxmlformats.org/officeDocument/2006/relationships/hyperlink" Target="http://aaweb.gallaudet.edu/CLAST/Tutorial_and_Instructional_Programs/English_Works/Writing/Essays.html" TargetMode="External"/><Relationship Id="rId7" Type="http://schemas.openxmlformats.org/officeDocument/2006/relationships/hyperlink" Target="http://aaweb.gallaudet.edu/CLAST/Tutorial_and_Instructional_Programs/English_Works/Writing/Essays.html" TargetMode="External"/><Relationship Id="rId8" Type="http://schemas.openxmlformats.org/officeDocument/2006/relationships/hyperlink" Target="http://aaweb.gallaudet.edu/CLAST/Tutorial_and_Instructional_Programs/English_Works/Writing/Essays.html" TargetMode="External"/><Relationship Id="rId9" Type="http://schemas.openxmlformats.org/officeDocument/2006/relationships/hyperlink" Target="http://aaweb.gallaudet.edu/CLAST/Tutorial_and_Instructional_Programs/English_Works/Writing/Essays.html" TargetMode="External"/><Relationship Id="rId10" Type="http://schemas.openxmlformats.org/officeDocument/2006/relationships/hyperlink" Target="http://aaweb.gallaudet.edu/CLAST/Tutorial_and_Instructional_Programs/English_Works/Writing/Essays.html" TargetMode="External"/><Relationship Id="rId11" Type="http://schemas.openxmlformats.org/officeDocument/2006/relationships/hyperlink" Target="http://aaweb.gallaudet.edu/CLAST/Tutorial_and_Instructional_Programs/English_Works/Writing/Essays.html" TargetMode="External"/><Relationship Id="rId12" Type="http://schemas.openxmlformats.org/officeDocument/2006/relationships/hyperlink" Target="http://aaweb.gallaudet.edu/CLAST/Tutorial_and_Instructional_Programs/English_Works/Writing/Essays.html" TargetMode="External"/><Relationship Id="rId13" Type="http://schemas.openxmlformats.org/officeDocument/2006/relationships/hyperlink" Target="http://aaweb.gallaudet.edu/CLAST/Tutorial_and_Instructional_Programs/English_Works/Writing/Essays.html" TargetMode="External"/><Relationship Id="rId14" Type="http://schemas.openxmlformats.org/officeDocument/2006/relationships/hyperlink" Target="http://aaweb.gallaudet.edu/CLAST/Tutorial_and_Instructional_Programs/English_Works/Writing/Essays.html" TargetMode="External"/><Relationship Id="rId15" Type="http://schemas.openxmlformats.org/officeDocument/2006/relationships/hyperlink" Target="http://aaweb.gallaudet.edu/CLAST/Tutorial_and_Instructional_Programs/English_Works/Writing/Essays.html" TargetMode="External"/><Relationship Id="rId16" Type="http://schemas.openxmlformats.org/officeDocument/2006/relationships/hyperlink" Target="http://aaweb.gallaudet.edu/CLAST/Tutorial_and_Instructional_Programs/English_Works/Writing/Essays.html" TargetMode="External"/><Relationship Id="rId17" Type="http://schemas.openxmlformats.org/officeDocument/2006/relationships/hyperlink" Target="http://aaweb.gallaudet.edu/CLAST/Tutorial_and_Instructional_Programs/English_Works/Writing/Essays.html" TargetMode="External"/><Relationship Id="rId18" Type="http://schemas.openxmlformats.org/officeDocument/2006/relationships/hyperlink" Target="http://aaweb.gallaudet.edu/CLAST/Tutorial_and_Instructional_Programs/English_Works/Writing/Essays.html" TargetMode="External"/><Relationship Id="rId19" Type="http://schemas.openxmlformats.org/officeDocument/2006/relationships/hyperlink" Target="http://aaweb.gallaudet.edu/CLAST/Tutorial_and_Instructional_Programs/English_Works/Writing/Essays.html" TargetMode="External"/><Relationship Id="rId20" Type="http://schemas.openxmlformats.org/officeDocument/2006/relationships/hyperlink" Target="http://aaweb.gallaudet.edu/CLAST/Tutorial_and_Instructional_Programs/English_Works/Writing/Essays.html" TargetMode="External"/><Relationship Id="rId21" Type="http://schemas.openxmlformats.org/officeDocument/2006/relationships/hyperlink" Target="http://aaweb.gallaudet.edu/CLAST/Tutorial_and_Instructional_Programs/English_Works/Writing/Essays.html" TargetMode="External"/><Relationship Id="rId22" Type="http://schemas.openxmlformats.org/officeDocument/2006/relationships/hyperlink" Target="http://aaweb.gallaudet.edu/CLAST/Tutorial_and_Instructional_Programs/English_Works/Writing/Essays.html" TargetMode="External"/><Relationship Id="rId23" Type="http://schemas.openxmlformats.org/officeDocument/2006/relationships/hyperlink" Target="http://aaweb.gallaudet.edu/CLAST/Tutorial_and_Instructional_Programs/English_Works/Writing/Essays.html" TargetMode="External"/><Relationship Id="rId24" Type="http://schemas.openxmlformats.org/officeDocument/2006/relationships/hyperlink" Target="http://aaweb.gallaudet.edu/CLAST/Tutorial_and_Instructional_Programs/English_Works/Writing/Essays.html" TargetMode="External"/><Relationship Id="rId25" Type="http://schemas.openxmlformats.org/officeDocument/2006/relationships/hyperlink" Target="http://aaweb.gallaudet.edu/CLAST/Tutorial_and_Instructional_Programs/English_Works/Writing/Essays.html" TargetMode="External"/><Relationship Id="rId26" Type="http://schemas.openxmlformats.org/officeDocument/2006/relationships/hyperlink" Target="http://aaweb.gallaudet.edu/CLAST/Tutorial_and_Instructional_Programs/English_Works/Writing/Essays.html" TargetMode="External"/><Relationship Id="rId27" Type="http://schemas.openxmlformats.org/officeDocument/2006/relationships/hyperlink" Target="http://aaweb.gallaudet.edu/CLAST/Tutorial_and_Instructional_Programs/English_Works/Writing/Essays.html" TargetMode="External"/><Relationship Id="rId28" Type="http://schemas.openxmlformats.org/officeDocument/2006/relationships/hyperlink" Target="http://www.usingenglish.com/resources/essays/" TargetMode="External"/><Relationship Id="rId29" Type="http://schemas.openxmlformats.org/officeDocument/2006/relationships/hyperlink" Target="file:///&#1052;&#1077;&#1090;&#1086;&#1076;&#1080;&#1095;&#1077;&#1089;&#1082;&#1086;&#1077;%20&#1087;&#1080;&#1089;&#1100;&#1084;&#1086;.doc" TargetMode="External"/><Relationship Id="rId30" Type="http://schemas.openxmlformats.org/officeDocument/2006/relationships/hyperlink" Target="file:///&#1069;&#1057;&#1057;&#1045;%20&#1050;&#1040;&#1050;%20&#1060;&#1054;&#1056;&#1052;&#1040;%20&#1058;&#1042;&#1054;&#1056;&#1063;&#1045;&#1057;&#1050;&#1054;&#1043;&#1054;%20&#1055;&#1048;&#1057;&#1068;&#1052;&#1045;&#1053;&#1053;&#1054;&#1043;&#1054;%20&#1042;&#1067;&#1057;&#1050;&#1040;&#1047;&#1067;&#1042;&#1040;&#1053;&#1048;&#1071;.doc" TargetMode="External"/><Relationship Id="rId31" Type="http://schemas.openxmlformats.org/officeDocument/2006/relationships/hyperlink" Target="file:///&#1055;&#1088;&#1080;&#1084;&#1077;&#1088;&#1099;%20&#1091;&#1087;&#1088;&#1072;&#1078;&#1085;&#1077;&#1085;&#1080;&#1081;%20&#1076;&#1083;&#1103;%20&#1087;&#1086;&#1076;&#1075;&#1086;&#1090;&#1086;&#1074;&#1082;&#1080;%20&#1091;&#1095;&#1072;&#1097;&#1080;&#1093;&#1089;&#1103;%20&#1082;%20%20&#1085;&#1072;&#1087;&#1080;&#1089;&#1072;&#1085;&#1080;&#1102;%20&#1101;&#1089;&#1089;&#1077;.doc" TargetMode="External"/><Relationship Id="rId3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fipi.ru/view/sections/211/docs/449.html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ipi.ru/view/sections/211/docs/449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642760" y="4857480"/>
            <a:ext cx="626436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ЭКЗАМЕНАМ   ГИА  и 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571680" y="4929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Arial"/>
              </a:rPr>
              <a:t>Учись писать эсс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714760" y="6143760"/>
            <a:ext cx="485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итюгина Татьяна Геннадь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БОУ -  Кокинская СОШ  Брян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За» и «против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142920" y="1214280"/>
            <a:ext cx="585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Вступ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дставить тему (не выражая своего мн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214200" y="2143080"/>
            <a:ext cx="2571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Основная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ргументы «за» с обоснованиями и прим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ргументы «против» с обоснованиями и прим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214200" y="5643720"/>
            <a:ext cx="271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Заключение  последний абза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аше мнение и вы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2857680" y="2071800"/>
            <a:ext cx="5929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hough it is…, it has certain advant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in advantage of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point of view in favour of i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people are in favour of convinced tha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egin with, Secondly, Furthermore, Finall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ever / on the other hand, … does have its disadvant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in drawback of…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dditional disadvantage of…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point against.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ome people are agains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3000240" y="5715000"/>
            <a:ext cx="55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things considered/taking everything into account, although there some disadvantages of…, I believe it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Ваше мнени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000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сновной части сначала высказать свое мнение и аргументировать его, затем представить другие точки зрения и дать аргументацию, почему вы с ними не согласн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одя контраргументы, отстаивая свою точку зрения, желательно  выражать свое мнение не теми же словами, что раньше, а использовать перифраз, синоним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ключительном абзаце (заключении) еще раз указать на проблемный характер темы; показать, что хотя у вас есть свое мнение, вы способны видеть и другие точки зрения; тем не менее, своя кажется вам более убедитель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Ваше м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142920" y="128592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Вступ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зовите проблему и прич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2571840" y="1214280"/>
            <a:ext cx="621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…, are among the most serious problems of … nowadays. What can we do, then, to solve th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142920" y="271476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Основная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ы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2-4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дложения по решению 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2643120" y="2000160"/>
            <a:ext cx="5857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of all, a useful suggestion would be to… This woul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ly, another solution is to… .  By doing this, we would…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 problem of… could be solved by Ving.  If we do this, the result would b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would be a good idea to… . The effect o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ing would b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would help if we… . In this way the problem of … would be sol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lly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ituation could be improved by Ving. If this happened, th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s /measures should be taken in order to solve the problem of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214200" y="550080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дведение итогов, вы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2786040" y="609120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opting some of these measures would definitely result i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Демо - 20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ipi.ru/view/sections/211/docs/449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4" descr="Рисунок4.png"/>
          <p:cNvPicPr/>
          <p:nvPr/>
        </p:nvPicPr>
        <p:blipFill>
          <a:blip r:embed="rId2"/>
          <a:stretch/>
        </p:blipFill>
        <p:spPr>
          <a:xfrm>
            <a:off x="714240" y="2143080"/>
            <a:ext cx="7572600" cy="4100400"/>
          </a:xfrm>
          <a:prstGeom prst="rect">
            <a:avLst/>
          </a:prstGeom>
          <a:ln w="9360">
            <a:solidFill>
              <a:srgbClr val="5251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Приложение</a:t>
            </a:r>
            <a:r>
              <a:rPr b="0" lang="ru-RU" sz="4400" spc="-1" strike="noStrike">
                <a:solidFill>
                  <a:srgbClr val="52512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сь писать эссе ( полезные сай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aweb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gallaudet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edu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CLAST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Tutorial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and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Instructional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Program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English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ork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Writing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Essay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http://www.usingenglish.com/resources/essay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Методическое письмо Федеральной предметной комиссии по иностранным язы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Р.П.Мильруд «Эссе как форма творческого письменного высказывани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Примеры упражнений для подготовки учащихся к написанию э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25129"/>
                </a:solidFill>
                <a:latin typeface="Arial"/>
              </a:rPr>
              <a:t>В презентации использован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571680" y="1500120"/>
            <a:ext cx="8143560" cy="35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nglishforbusiness.ru/materials/essay/writi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it-n.ru/communities.aspx?cat_no=14410&amp;lib_no=25603&amp;tmpl=li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боты Говоровой  Н.В. по подготовке к ЕГЭ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fipi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ы фор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nglishteachers.ru/forum/index.php?s=cf367ae7d3bc003454d012127a3a1afe&amp;showforum=5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В.Вербицк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седатель Федеральной предметной комиссии по иностранным языкам, Заслуженный работник высшей 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Актуальные проблемы ЕГЭ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erb@ffl.msu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1643040" y="542916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525129"/>
                </a:solidFill>
                <a:latin typeface="Arial"/>
              </a:rPr>
              <a:t>GOOD LUCK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N B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785880" y="1571760"/>
            <a:ext cx="7929360" cy="201420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сс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(франц. essai - попытка, проба, очерк, от лат. exagium - взвешивание), прозаическое сочинение небольшого объема и свободной композиции, выражающее индивидуальные впечатления и соображения по конкретному поводу или вопросу и заведомо не претендующее на определяющую или исчерпывающую трактовку предм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857160" y="3929040"/>
            <a:ext cx="7929720" cy="228852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важно, на какую тему Вы пишете эссе, Вы всегда должны задать себе следующие «контрольные» вопрос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ил ли я на предложенный вопрос?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сно ли я выразил свою точку зрени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о ли все написанное выражено ясным и понятным языком, не  было ли ошибок во время написани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0040" y="1356840"/>
            <a:ext cx="8229600" cy="490068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ажно для того, чтобы читатель определил для себя, стоит ли читать Ваше эс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ход от параграфа к параграф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лавные переходы – это крайне важный элемент удачного эссе, поскольку именно это демонстрирует Ваше умение ясно и интересно излагать свою мысль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а-связки, такие как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later, furthermore, additionally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moreover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ют плавно переходить из одного параграфа к друг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оследние предложения в Вашем эссе являются крайне значимыми. Во-первых, они должны завершать Вашу мысль. Во-вторых, у читателя они должны оставить в памяти яркий след. Важно, чтобы вывод возвращался к главной идее. Другими словами, он должен содержать то, что было написано во введ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бъем письменн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Содержимое 4" descr="Рисунок3.png"/>
          <p:cNvPicPr/>
          <p:nvPr/>
        </p:nvPicPr>
        <p:blipFill>
          <a:blip r:embed="rId1"/>
          <a:stretch/>
        </p:blipFill>
        <p:spPr>
          <a:xfrm>
            <a:off x="500040" y="2000160"/>
            <a:ext cx="8229600" cy="3527640"/>
          </a:xfrm>
          <a:prstGeom prst="rect">
            <a:avLst/>
          </a:prstGeom>
          <a:ln w="9360">
            <a:solidFill>
              <a:srgbClr val="525129"/>
            </a:solidFill>
            <a:miter/>
          </a:ln>
        </p:spPr>
      </p:pic>
      <p:sp>
        <p:nvSpPr>
          <p:cNvPr id="51" name="TextBox 5"/>
          <p:cNvSpPr/>
          <p:nvPr/>
        </p:nvSpPr>
        <p:spPr>
          <a:xfrm>
            <a:off x="857160" y="1500120"/>
            <a:ext cx="52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ipi.ru/view/sections/211/docs/449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1428840" y="5657760"/>
            <a:ext cx="70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NB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ткие формы (I`m, There`re, т.п.) считаются за одно слово. Артикли, предлоги включаются в подсчёт слов. В личном письме дата и адрес включаются в подсчёт с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ритерии оценки э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ipi.ru/view/sections/211/docs/449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500040" y="2143080"/>
            <a:ext cx="778680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сьменное высказывание с элементами рассуждения оценивается по пяти критерия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текс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кси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ммати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фография и пункту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максимально 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алл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571680" y="5500800"/>
            <a:ext cx="8143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B!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обенность -  при получении экзаменуемым 0 баллов по критерию «Содержание» все задание оценивается в 0 балл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ловарь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полезных слов и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ыраж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2960" y="1571760"/>
            <a:ext cx="8229600" cy="452592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бавление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*; moreover; as well as; in addition to; additionally; furthermore; what is m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траст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*; however; on the other hand; in contrast; by contrast; yet; on the contr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граничение (делая исключения и обозначая противоречия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pite*; in spite of; notwithsta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чинность (делая вывод или подводя итог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*; therefore; as a result; as a consequence; consequently; this results in; this leads to; this has the effect o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1071720" y="6215040"/>
            <a:ext cx="742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Звездочкой» * помечены слова, с которых не рекомендуется начинать предложение в эс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ловарь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полезных слов и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ыраж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9360">
            <a:solidFill>
              <a:srgbClr val="0e1e2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учайное действие (устанавливая как что-то стало причиной чего-то другого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; results from; due to; is caused 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речия порядка или последовательности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; next; after; afterwards; finally; lastl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рядковые числительные, либо образованные от них наречия (Не используйте их одновременно. Либо используйте наречия с суффиксо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y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тоянно, либо не используйте совсем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; second; third etc…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ly; secondly; thirdly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1143000" y="5786280"/>
            <a:ext cx="6429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Звездочкой» * помечены слова, с которых не рекомендуется начинать предложение в эс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лгоритм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нализ темы соч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ыбор стиля сочинения ( описание, рецензия, эссе « за» и « против»  и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бор тематической лекс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ланирование содержания ( на основе предложенной структур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писание сочинения с использованием базовых фраз-кли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верка языковой грамотности   и подсчет количества с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За» и «против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28760" y="1357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сновной части сначала представить аргументы «за» в первом абзаце, затем во втором - аргументы «против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о аргументов «за» и аргументов «против» должно быть сбалансированным (может быть одинаковым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ательно аргументы представлять симметрично (например, социальные, психологические, образовательные аспекты проблемы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заключительном абзаце (заключении) еще раз указать на проблемный характер темы; подытожить аргументы «за» и «против»; подвести итог сказанному. Можно выразить надежду на нахождение компромисса, подсказать этот компромиссный пу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тя тема сформулирована как «За» и «против», а не «Ваше мнение», в заключении уместно высказать свое мнение (формулировки: на мой взгляд, аргументы «за» более весомы / представляется, что противники этой идеи более убедительны и т.п.) или, наоборот подчеркнуть, что у автора пока не сложилось свое мнение по данному вопросу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8:19:58Z</dcterms:created>
  <dc:creator>ss</dc:creator>
  <dc:description/>
  <dc:language>en-US</dc:language>
  <cp:lastModifiedBy>Tanya</cp:lastModifiedBy>
  <dcterms:modified xsi:type="dcterms:W3CDTF">2013-10-21T13:43:12Z</dcterms:modified>
  <cp:revision>35</cp:revision>
  <dc:subject/>
  <dc:title>Учись писать ЭССЕ</dc:title>
</cp:coreProperties>
</file>