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32E-87D4-42E1-92F5-E868AF26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F5E-9EFD-4460-8FD3-EAECE6D1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68C8-A75C-4A7E-92CD-C69358B0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07A-F7AC-4F4E-953B-C88C23E9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E32-AF91-434B-8DAA-FFAF7279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59C-784E-4AFB-8381-F785F1E3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076-08D8-463F-A765-7484126A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303B-066C-4AAD-B8A0-19E68AE1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E47-91B7-4AF1-8422-B2FE9842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E0D-2562-4850-8BCF-DEF0F65D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C61-C52F-4892-8732-73513B72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7FB-DE09-4E53-B362-7054FC08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CB95-1B98-4EDC-976B-400ED853FA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aweb.gallaudet.edu/CLAST/Tutorial_and_Instructional_Programs/English_Works/Writing/Essays.html" TargetMode="External"/><Relationship Id="rId2" Type="http://schemas.openxmlformats.org/officeDocument/2006/relationships/hyperlink" Target="http://aaweb.gallaudet.edu/CLAST/Tutorial_and_Instructional_Programs/English_Works/Writing/Essays.html" TargetMode="External"/><Relationship Id="rId3" Type="http://schemas.openxmlformats.org/officeDocument/2006/relationships/hyperlink" Target="http://aaweb.gallaudet.edu/CLAST/Tutorial_and_Instructional_Programs/English_Works/Writing/Essays.html" TargetMode="External"/><Relationship Id="rId4" Type="http://schemas.openxmlformats.org/officeDocument/2006/relationships/hyperlink" Target="http://aaweb.gallaudet.edu/CLAST/Tutorial_and_Instructional_Programs/English_Works/Writing/Essays.html" TargetMode="External"/><Relationship Id="rId5" Type="http://schemas.openxmlformats.org/officeDocument/2006/relationships/hyperlink" Target="http://aaweb.gallaudet.edu/CLAST/Tutorial_and_Instructional_Programs/English_Works/Writing/Essays.html" TargetMode="External"/><Relationship Id="rId6" Type="http://schemas.openxmlformats.org/officeDocument/2006/relationships/hyperlink" Target="http://aaweb.gallaudet.edu/CLAST/Tutorial_and_Instructional_Programs/English_Works/Writing/Essays.html" TargetMode="External"/><Relationship Id="rId7" Type="http://schemas.openxmlformats.org/officeDocument/2006/relationships/hyperlink" Target="http://aaweb.gallaudet.edu/CLAST/Tutorial_and_Instructional_Programs/English_Works/Writing/Essays.html" TargetMode="External"/><Relationship Id="rId8" Type="http://schemas.openxmlformats.org/officeDocument/2006/relationships/hyperlink" Target="http://aaweb.gallaudet.edu/CLAST/Tutorial_and_Instructional_Programs/English_Works/Writing/Essays.html" TargetMode="External"/><Relationship Id="rId9" Type="http://schemas.openxmlformats.org/officeDocument/2006/relationships/hyperlink" Target="http://aaweb.gallaudet.edu/CLAST/Tutorial_and_Instructional_Programs/English_Works/Writing/Essays.html" TargetMode="External"/><Relationship Id="rId10" Type="http://schemas.openxmlformats.org/officeDocument/2006/relationships/hyperlink" Target="http://aaweb.gallaudet.edu/CLAST/Tutorial_and_Instructional_Programs/English_Works/Writing/Essays.html" TargetMode="External"/><Relationship Id="rId11" Type="http://schemas.openxmlformats.org/officeDocument/2006/relationships/hyperlink" Target="http://aaweb.gallaudet.edu/CLAST/Tutorial_and_Instructional_Programs/English_Works/Writing/Essays.html" TargetMode="External"/><Relationship Id="rId12" Type="http://schemas.openxmlformats.org/officeDocument/2006/relationships/hyperlink" Target="http://aaweb.gallaudet.edu/CLAST/Tutorial_and_Instructional_Programs/English_Works/Writing/Essays.html" TargetMode="External"/><Relationship Id="rId13" Type="http://schemas.openxmlformats.org/officeDocument/2006/relationships/hyperlink" Target="http://aaweb.gallaudet.edu/CLAST/Tutorial_and_Instructional_Programs/English_Works/Writing/Essays.html" TargetMode="External"/><Relationship Id="rId14" Type="http://schemas.openxmlformats.org/officeDocument/2006/relationships/hyperlink" Target="http://aaweb.gallaudet.edu/CLAST/Tutorial_and_Instructional_Programs/English_Works/Writing/Essays.html" TargetMode="External"/><Relationship Id="rId15" Type="http://schemas.openxmlformats.org/officeDocument/2006/relationships/hyperlink" Target="http://aaweb.gallaudet.edu/CLAST/Tutorial_and_Instructional_Programs/English_Works/Writing/Essays.html" TargetMode="External"/><Relationship Id="rId16" Type="http://schemas.openxmlformats.org/officeDocument/2006/relationships/hyperlink" Target="http://aaweb.gallaudet.edu/CLAST/Tutorial_and_Instructional_Programs/English_Works/Writing/Essays.html" TargetMode="External"/><Relationship Id="rId17" Type="http://schemas.openxmlformats.org/officeDocument/2006/relationships/hyperlink" Target="http://aaweb.gallaudet.edu/CLAST/Tutorial_and_Instructional_Programs/English_Works/Writing/Essays.html" TargetMode="External"/><Relationship Id="rId18" Type="http://schemas.openxmlformats.org/officeDocument/2006/relationships/hyperlink" Target="http://aaweb.gallaudet.edu/CLAST/Tutorial_and_Instructional_Programs/English_Works/Writing/Essays.html" TargetMode="External"/><Relationship Id="rId19" Type="http://schemas.openxmlformats.org/officeDocument/2006/relationships/hyperlink" Target="http://aaweb.gallaudet.edu/CLAST/Tutorial_and_Instructional_Programs/English_Works/Writing/Essays.html" TargetMode="External"/><Relationship Id="rId20" Type="http://schemas.openxmlformats.org/officeDocument/2006/relationships/hyperlink" Target="http://aaweb.gallaudet.edu/CLAST/Tutorial_and_Instructional_Programs/English_Works/Writing/Essays.html" TargetMode="External"/><Relationship Id="rId21" Type="http://schemas.openxmlformats.org/officeDocument/2006/relationships/hyperlink" Target="http://aaweb.gallaudet.edu/CLAST/Tutorial_and_Instructional_Programs/English_Works/Writing/Essays.html" TargetMode="External"/><Relationship Id="rId22" Type="http://schemas.openxmlformats.org/officeDocument/2006/relationships/hyperlink" Target="http://aaweb.gallaudet.edu/CLAST/Tutorial_and_Instructional_Programs/English_Works/Writing/Essays.html" TargetMode="External"/><Relationship Id="rId23" Type="http://schemas.openxmlformats.org/officeDocument/2006/relationships/hyperlink" Target="http://aaweb.gallaudet.edu/CLAST/Tutorial_and_Instructional_Programs/English_Works/Writing/Essays.html" TargetMode="External"/><Relationship Id="rId24" Type="http://schemas.openxmlformats.org/officeDocument/2006/relationships/hyperlink" Target="http://aaweb.gallaudet.edu/CLAST/Tutorial_and_Instructional_Programs/English_Works/Writing/Essays.html" TargetMode="External"/><Relationship Id="rId25" Type="http://schemas.openxmlformats.org/officeDocument/2006/relationships/hyperlink" Target="http://aaweb.gallaudet.edu/CLAST/Tutorial_and_Instructional_Programs/English_Works/Writing/Essays.html" TargetMode="External"/><Relationship Id="rId26" Type="http://schemas.openxmlformats.org/officeDocument/2006/relationships/hyperlink" Target="http://aaweb.gallaudet.edu/CLAST/Tutorial_and_Instructional_Programs/English_Works/Writing/Essays.html" TargetMode="External"/><Relationship Id="rId27" Type="http://schemas.openxmlformats.org/officeDocument/2006/relationships/hyperlink" Target="http://aaweb.gallaudet.edu/CLAST/Tutorial_and_Instructional_Programs/English_Works/Writing/Essays.html" TargetMode="External"/><Relationship Id="rId28" Type="http://schemas.openxmlformats.org/officeDocument/2006/relationships/hyperlink" Target="http://www.usingenglish.com/resources/essays/" TargetMode="External"/><Relationship Id="rId29" Type="http://schemas.openxmlformats.org/officeDocument/2006/relationships/hyperlink" Target="file:///&#1052;&#1077;&#1090;&#1086;&#1076;&#1080;&#1095;&#1077;&#1089;&#1082;&#1086;&#1077;%20&#1087;&#1080;&#1089;&#1100;&#1084;&#1086;.doc" TargetMode="External"/><Relationship Id="rId30" Type="http://schemas.openxmlformats.org/officeDocument/2006/relationships/hyperlink" Target="file:///&#1069;&#1057;&#1057;&#1045;%20&#1050;&#1040;&#1050;%20&#1060;&#1054;&#1056;&#1052;&#1040;%20&#1058;&#1042;&#1054;&#1056;&#1063;&#1045;&#1057;&#1050;&#1054;&#1043;&#1054;%20&#1055;&#1048;&#1057;&#1068;&#1052;&#1045;&#1053;&#1053;&#1054;&#1043;&#1054;%20&#1042;&#1067;&#1057;&#1050;&#1040;&#1047;&#1067;&#1042;&#1040;&#1053;&#1048;&#1071;.doc" TargetMode="External"/><Relationship Id="rId31" Type="http://schemas.openxmlformats.org/officeDocument/2006/relationships/hyperlink" Target="file:///&#1055;&#1088;&#1080;&#1084;&#1077;&#1088;&#1099;%20&#1091;&#1087;&#1088;&#1072;&#1078;&#1085;&#1077;&#1085;&#1080;&#1081;%20&#1076;&#1083;&#1103;%20&#1087;&#1086;&#1076;&#1075;&#1086;&#1090;&#1086;&#1074;&#1082;&#1080;%20&#1091;&#1095;&#1072;&#1097;&#1080;&#1093;&#1089;&#1103;%20&#1082;%20%20&#1085;&#1072;&#1087;&#1080;&#1089;&#1072;&#1085;&#1080;&#1102;%20&#1101;&#1089;&#1089;&#1077;.doc" TargetMode="External"/><Relationship Id="rId3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fipi.ru/view/sections/211/docs/449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42760" y="4857480"/>
            <a:ext cx="62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ЭКЗАМЕНАМ   ГИА  и 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чись писать эсс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714760" y="6143760"/>
            <a:ext cx="48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тюгина Татья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-  Кокинская СОШ  Бря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2920" y="12142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ить тему (не выражая своего м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14200" y="214308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за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против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14200" y="564372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  последний абз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ше мнение и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857680" y="2071800"/>
            <a:ext cx="59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it is…, it has certain 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advantage of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of view in favour of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in favour of convinced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 with, Secondly, Furthermore, Fi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/ on the other hand, … does have its dis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drawback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disadvantage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against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e people are again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3000240" y="571500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ings considered/taking everything into account, although there some disadvantages of…, I believe it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части сначала высказать свое мнение и аргументировать его, затем представить другие точки зрения и дать аргументацию, почему вы с ними не соглас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одя контраргументы, отстаивая свою точку зрения, желательно  выражать свое мнение не теми же словами, что раньше, а использовать перифраз, синоним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казать, что хотя у вас есть свое мнение, вы способны видеть и другие точки зрения; тем не менее, своя кажется вам более убедитель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42920" y="128592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овите проблему и 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571840" y="12142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…, are among the most serious problems of … nowadays. What can we do, then, to solve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42920" y="2714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ы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-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ложения по решению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643120" y="2000160"/>
            <a:ext cx="585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, a useful suggestion would be to… This woul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ly, another solution is to… .  By doing this, we would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problem of… could be solved by Ving.  If we do this, the result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be a good idea to… . The effect o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ng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help if we… . In this way the problem of … would be s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ly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uation could be improved by Ving. If this happened, t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s /measures should be taken in order to solve the problem o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14200" y="55008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, 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786040" y="6091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ing some of these measures would definitely result i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Демо 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714240" y="2143080"/>
            <a:ext cx="7572600" cy="410040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Приложение</a:t>
            </a:r>
            <a:r>
              <a:rPr b="0" lang="ru-RU" sz="4400" spc="-1" strike="noStrike">
                <a:solidFill>
                  <a:srgbClr val="52512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сь писать эссе ( полезные сай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awe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laud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AS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utori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d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struction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rogram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nglis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ork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ritin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Essa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www.usingenglish.com/resources/essa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Методическое письмо Федеральной предметной комиссии по иностранным язы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Р.П.Мильруд «Эссе как форма творческого письменного высказы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Примеры упражнений для подготовки учащихся к написанию э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25129"/>
                </a:solidFill>
                <a:latin typeface="Arial"/>
              </a:rPr>
              <a:t>В презентации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71680" y="1500120"/>
            <a:ext cx="814356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forbusiness.ru/materials/essay/writ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t-n.ru/communities.aspx?cat_no=14410&amp;lib_no=25603&amp;tmpl=li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ты Говоровой  Н.В. по подготовке к ЕГ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ip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фор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teachers.ru/forum/index.php?s=cf367ae7d3bc003454d012127a3a1afe&amp;showforum=5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Вербиц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Федеральной предметной комиссии по иностранным языкам, Заслуженный работник высш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ктуальные проблемы ЕГЭ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b@ffl.msu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643040" y="542916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25129"/>
                </a:solidFill>
                <a:latin typeface="Arial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 B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85880" y="1571760"/>
            <a:ext cx="7929360" cy="201420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с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(франц. essai - попытка, проба, очерк, от лат. exagium - взвешивание), прозаическое сочинение небольшого объема и свободной композиции, выражающее индивидуальные впечатления и соображения по конкретному поводу или вопросу и заведомо не претендующее на определяющую или исчерпывающую трактовку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57160" y="3929040"/>
            <a:ext cx="7929720" cy="22885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ажно, на какую тему Вы пишете эссе, Вы всегда должны задать себе следующие «контрольные» вопро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ил ли я на предложенный вопрос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ли я выразил свою точку зр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ли все написанное выражено ясным и понятным языком, не  было ли ошибок во время напис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229600" cy="490068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жно для того, чтобы читатель определил для себя, стоит ли читать Ваше э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ход от параграфа к параграф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лавные переходы – это крайне важный элемент удачного эссе, поскольку именно это демонстрирует Ваше умение ясно и интересно излагать свою мысль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-связки, такие ка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later, furthermore, additionall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oreov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лавно переходить из одного параграф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ледние предложения в Вашем эссе являются крайне значимыми. Во-первых, они должны завершать Вашу мысль. Во-вторых, у читателя они должны оставить в памяти яркий след. Важно, чтобы вывод возвращался к главной идее. Другими словами, он должен содержать то, что было написано во в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ъем письмен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Рисунок3.png"/>
          <p:cNvPicPr/>
          <p:nvPr/>
        </p:nvPicPr>
        <p:blipFill>
          <a:blip r:embed="rId1"/>
          <a:stretch/>
        </p:blipFill>
        <p:spPr>
          <a:xfrm>
            <a:off x="500040" y="2000160"/>
            <a:ext cx="8229600" cy="352764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  <p:sp>
        <p:nvSpPr>
          <p:cNvPr id="51" name="TextBox 5"/>
          <p:cNvSpPr/>
          <p:nvPr/>
        </p:nvSpPr>
        <p:spPr>
          <a:xfrm>
            <a:off x="857160" y="15001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428840" y="5657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B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е формы (I`m, There`re, т.п.) считаются за одно слово. Артикли, предлоги включаются в подсчёт слов. В личном письме дата и адрес включаются в подсчёт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ритерии оценки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00040" y="2143080"/>
            <a:ext cx="7786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ое высказывание с элементами рассуждения оценивается по пяти критерия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тек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фография и пунк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аксимально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71680" y="5500800"/>
            <a:ext cx="814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B!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ь -  при получении экзаменуемым 0 баллов по критерию «Содержание» все задание оценивается в 0 бал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лени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*; moreover; as well as; in addition to; additionally; furthermore; what is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с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*; however; on the other hand; in contrast; by contrast; yet; on the cont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е (делая исключения и обозначая противоречия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*; in spite of; notwith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ность (делая вывод или подводя итог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*; therefore; as a result; as a consequence; consequently; this results in; this leads to; this has the effect 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071720" y="6215040"/>
            <a:ext cx="742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9360">
            <a:solidFill>
              <a:srgbClr val="0e1e2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чайное действие (устанавливая как что-то стало причиной чего-то другог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; results from; due to; is caused 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ечия порядка или последователь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; next; after; afterwards; finally; las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вые числительные, либо образованные от них наречия (Не используйте их одновременно. Либо используйте наречия с суффикс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оянно, либо не используйте совсем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; second; third etc…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; secondly; thirdly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143000" y="578628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горитм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ализ темы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стиля сочинения ( описание, рецензия, эссе « за» и « против»  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ор тематическ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содержания ( на основе предложенной структу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исание сочинения с использованием базовых фраз-кл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верка языковой грамотности   и подсчет количества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7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начала представить аргументы «за» в первом абзаце, затем во втором - аргументы «против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аргументов «за» и аргументов «против» должно быть сбалансированным (может быть одинаковы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аргументы представлять симметрично (например, социальные, психологические, образовательные аспекты пробле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дытожить аргументы «за» и «против»; подвести итог сказанному. Можно выразить надежду на нахождение компромисса, подсказать этот компромиссн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ма сформулирована как «За» и «против», а не «Ваше мнение», в заключении уместно высказать свое мнение (формулировки: на мой взгляд, аргументы «за» более весомы / представляется, что противники этой идеи более убедительны и т.п.) или, наоборот подчеркнуть, что у автора пока не сложилось свое мнение по данному вопрос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8:19:58Z</dcterms:created>
  <dc:creator>ss</dc:creator>
  <dc:description/>
  <dc:language>en-US</dc:language>
  <cp:lastModifiedBy>Tanya</cp:lastModifiedBy>
  <dcterms:modified xsi:type="dcterms:W3CDTF">2013-10-21T13:43:12Z</dcterms:modified>
  <cp:revision>35</cp:revision>
  <dc:subject/>
  <dc:title>Учись писать ЭССЕ</dc:title>
</cp:coreProperties>
</file>