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86C-9AD9-4FA9-A5D7-2D4F48E6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1A4-7C81-4F7F-8F40-D8AA6A73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5C3-CFEE-497C-9DC4-04A1BE4F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694-EDE6-4061-A588-F40062D7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95FD-3724-440A-BFDA-701F7DF2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030C-B539-40FB-8553-6E0C905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F11C-462B-4003-A02A-8A900244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DAB-E668-4847-8EAB-057A1830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D680-51A1-4E03-86AC-8858BF6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7EE3-089B-4B46-823C-500655B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5380-E6B8-4160-961F-C5F584E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30F-87A9-42FB-B28E-A7C1327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F13-BBD5-4ABB-A291-85233CAE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73B1-3B24-492F-BB5F-FEAA55ED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529-D217-4230-92B4-AC876B0E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4922-B578-4A41-A251-1F232B2D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DD7-0C6E-49DA-BAC7-E07E4108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1FB-F7E9-49FB-8437-66BBB6E8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EEF-15D1-4EE3-80D7-6674F115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FDB-4D69-44E5-A11F-F27D00C0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641-3D13-4231-A62B-C6B07FD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BFE-2BAB-491C-B32C-3EF6A82B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C4B-B58A-4F91-91EF-E908BAF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412-B52D-4183-91C2-E47D1A0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DE10-0A89-470A-B301-5F4AC872F866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FF5-F6AE-43FC-9EAF-7A52F32B963D}" type="slidenum">
              <a:rPr b="0" lang="en-US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9" name="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ан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Выразим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404176"/>
                </a:solidFill>
                <a:latin typeface="Times New Roman"/>
              </a:rPr>
              <a:t>h</a:t>
            </a:r>
            <a:r>
              <a:rPr b="1" i="1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из прямоугольного треугольника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523880" y="2538360"/>
                <a:ext cx="609624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a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b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·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h / b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Доказать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692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Доказательство: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692360" y="1773360"/>
            <a:ext cx="5040000" cy="3411000"/>
            <a:chOff x="1692360" y="1773360"/>
            <a:chExt cx="5040000" cy="3411000"/>
          </a:xfrm>
        </p:grpSpPr>
        <p:sp>
          <p:nvSpPr>
            <p:cNvPr id="345" name=""/>
            <p:cNvSpPr/>
            <p:nvPr/>
          </p:nvSpPr>
          <p:spPr>
            <a:xfrm>
              <a:off x="2430000" y="2493000"/>
              <a:ext cx="3344400" cy="2159280"/>
            </a:xfrm>
            <a:prstGeom prst="triangle">
              <a:avLst>
                <a:gd name="adj" fmla="val 67889"/>
              </a:avLst>
            </a:prstGeom>
            <a:solidFill>
              <a:srgbClr val="33ccff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7520" y="177336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А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92360" y="436032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С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04280" y="4256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30000" y="4652640"/>
              <a:ext cx="3304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389320" y="2472480"/>
              <a:ext cx="2300040" cy="2179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53120" y="448848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58240" y="3129840"/>
              <a:ext cx="84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41320" y="4425480"/>
              <a:ext cx="78120" cy="247320"/>
            </a:xfrm>
            <a:custGeom>
              <a:avLst/>
              <a:gdLst/>
              <a:ahLst/>
              <a:rect l="l" t="t" r="r" b="b"/>
              <a:pathLst>
                <a:path w="37" h="110">
                  <a:moveTo>
                    <a:pt x="0" y="0"/>
                  </a:moveTo>
                  <a:cubicBezTo>
                    <a:pt x="33" y="33"/>
                    <a:pt x="37" y="67"/>
                    <a:pt x="37" y="11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50200" y="395064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404176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671000" y="2452320"/>
              <a:ext cx="2160" cy="2220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13520" y="4724640"/>
              <a:ext cx="92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383ad"/>
                  </a:solidFill>
                  <a:latin typeface="Tahoma"/>
                </a:rPr>
                <a:t>Н</a:t>
              </a:r>
              <a:endParaRPr b="0" lang="en-US" sz="24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06520" y="3291480"/>
              <a:ext cx="84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404176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482616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Это следует из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4176"/>
                </a:solidFill>
                <a:latin typeface="Times New Roman"/>
              </a:rPr>
              <a:t>Проведем высоту </a:t>
            </a:r>
            <a:r>
              <a:rPr b="1" lang="en-US" sz="6000" spc="-1" strike="noStrike">
                <a:solidFill>
                  <a:srgbClr val="404176"/>
                </a:solidFill>
                <a:latin typeface="Times New Roman"/>
              </a:rPr>
              <a:t>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71640" y="278136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h = b 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04176"/>
                </a:solidFill>
                <a:latin typeface="Times New Roman"/>
              </a:rPr>
              <a:t>sin </a:t>
            </a:r>
            <a:r>
              <a:rPr b="1" i="1" lang="el-GR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en-US" sz="60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= b / h</a:t>
            </a: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176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А</a:t>
            </a: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BC, </a:t>
            </a:r>
            <a:br>
              <a:rPr sz="5400"/>
            </a:br>
            <a:r>
              <a:rPr b="1" i="1" lang="en-US" sz="5400" spc="-1" strike="noStrike">
                <a:solidFill>
                  <a:srgbClr val="404176"/>
                </a:solidFill>
                <a:latin typeface="Times New Roman"/>
              </a:rPr>
              <a:t>a, b – 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стороны,</a:t>
            </a:r>
            <a:br>
              <a:rPr sz="5400"/>
            </a:br>
            <a:r>
              <a:rPr b="1" i="1" lang="ru-RU" sz="54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1" i="1" lang="el-GR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α</a:t>
            </a:r>
            <a:r>
              <a:rPr b="1" i="1" lang="ru-RU" sz="5400" spc="-1" strike="noStrike">
                <a:solidFill>
                  <a:srgbClr val="404176"/>
                </a:solidFill>
                <a:latin typeface="Times New Roman"/>
                <a:ea typeface="Times New Roman"/>
              </a:rPr>
              <a:t> - угол</a:t>
            </a:r>
            <a:endParaRPr b="0" lang="en-US" sz="5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09:43:02Z</dcterms:created>
  <dc:creator>Учитель</dc:creator>
  <dc:description/>
  <dc:language>en-US</dc:language>
  <cp:lastModifiedBy>Учитель</cp:lastModifiedBy>
  <dcterms:modified xsi:type="dcterms:W3CDTF">2007-11-30T11:49:20Z</dcterms:modified>
  <cp:revision>4</cp:revision>
  <dc:subject/>
  <dc:title>Дано:</dc:title>
</cp:coreProperties>
</file>