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13.gif" ContentType="image/gif"/>
  <Override PartName="/ppt/media/image2.png" ContentType="image/png"/>
  <Override PartName="/ppt/media/image3.png" ContentType="image/png"/>
  <Override PartName="/ppt/media/camera.wav" ContentType="audio/x-wav"/>
  <Override PartName="/ppt/media/image6.png" ContentType="image/png"/>
  <Override PartName="/ppt/media/image1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4B1-C002-41AA-A372-92BD02F7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405E-F007-4760-BF8B-82DDEAC1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4EF5-8176-4BF5-A7C6-4F60D416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00A-5739-4FC1-ABD1-437A04FA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E468-5FB6-41A7-8F0F-1B918DEE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BC7C-E8BF-4ABA-9F5A-2F32A9E8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AFD7-6C58-4258-960B-CA74D9F9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D292-FA5C-4158-8102-6AE75F8D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E181-778B-4495-AC04-8BDB091E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1514-E22D-4C4A-80B7-A81674B5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8B61-AD88-4E69-ACFE-45D68991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436-CA8B-4D27-A853-41CE53A9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6069-143E-46D4-99FA-93E068FB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0060-70CD-4DC8-AB69-8CB9083A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9072-7E2E-4AD2-9654-6CFA0EDA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4162-E180-4FB0-A770-306AA72A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5AFB-5097-4D30-B842-FCC8A143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CEE-02D2-424E-9BDC-35E81388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CD6-A370-4AA1-B366-28A0FF6C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267-D444-4D9F-9F90-0D2799DF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D483-876F-4724-B65B-99927F69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86D-8B4B-4431-A782-5804E923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8497-31BB-4A1C-8665-2250C632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2F7C-31BB-4F00-B126-8A074EFB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E5A2-A80A-4867-984D-1903E26B8BF3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13D3-21F9-43D0-9B93-2E2E47ED890A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" Target="slide6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57;&#1087;&#1088;&#1072;&#1074;&#1086;&#1095;&#1085;&#1080;&#1082;/spravochnik.htm" TargetMode="External"/><Relationship Id="rId3" Type="http://schemas.openxmlformats.org/officeDocument/2006/relationships/hyperlink" Target="http://www.yandex.ru/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image" Target="../media/image4.png"/><Relationship Id="rId6" Type="http://schemas.openxmlformats.org/officeDocument/2006/relationships/slide" Target="slide9.xml"/><Relationship Id="rId7" Type="http://schemas.openxmlformats.org/officeDocument/2006/relationships/image" Target="../media/image5.png"/><Relationship Id="rId8" Type="http://schemas.openxmlformats.org/officeDocument/2006/relationships/slide" Target="slide12.xml"/><Relationship Id="rId9" Type="http://schemas.openxmlformats.org/officeDocument/2006/relationships/image" Target="../media/image6.png"/><Relationship Id="rId10" Type="http://schemas.openxmlformats.org/officeDocument/2006/relationships/slide" Target="slide16.xml"/><Relationship Id="rId11" Type="http://schemas.openxmlformats.org/officeDocument/2006/relationships/image" Target="../media/image7.png"/><Relationship Id="rId12" Type="http://schemas.openxmlformats.org/officeDocument/2006/relationships/slide" Target="slide13.xm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Еще раз о площади треугольн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читель Маевская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талья Сергеевн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МБОУ СОШ № 18 г. Брянс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судите в групп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дополнительные построения выполня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инструментами пользовались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колько измерений проводи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">
            <a:hlinkClick r:id="rId4" action="ppaction://hlinksldjump"/>
          </p:cNvPr>
          <p:cNvSpPr/>
          <p:nvPr/>
        </p:nvSpPr>
        <p:spPr>
          <a:xfrm>
            <a:off x="4253040" y="5500800"/>
            <a:ext cx="595080" cy="609480"/>
          </a:xfrm>
          <a:custGeom>
            <a:avLst/>
            <a:gdLst>
              <a:gd name="textAreaLeft" fmla="*/ 38520 w 595080"/>
              <a:gd name="textAreaRight" fmla="*/ 556560 w 59508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22">
                <a:moveTo>
                  <a:pt x="0" y="0"/>
                </a:moveTo>
                <a:lnTo>
                  <a:pt x="21600" y="0"/>
                </a:lnTo>
                <a:lnTo>
                  <a:pt x="21600" y="22122"/>
                </a:lnTo>
                <a:lnTo>
                  <a:pt x="0" y="22122"/>
                </a:lnTo>
                <a:close/>
              </a:path>
              <a:path fill="lightenLess" w="21600" h="221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22">
                <a:moveTo>
                  <a:pt x="21600" y="0"/>
                </a:moveTo>
                <a:lnTo>
                  <a:pt x="21600" y="22122"/>
                </a:lnTo>
                <a:lnTo>
                  <a:pt x="20200" y="20722"/>
                </a:lnTo>
                <a:lnTo>
                  <a:pt x="20200" y="1400"/>
                </a:lnTo>
                <a:close/>
              </a:path>
              <a:path fill="darkenLess" w="21600" h="22122">
                <a:moveTo>
                  <a:pt x="21600" y="22122"/>
                </a:moveTo>
                <a:lnTo>
                  <a:pt x="0" y="22122"/>
                </a:lnTo>
                <a:lnTo>
                  <a:pt x="1400" y="20722"/>
                </a:lnTo>
                <a:lnTo>
                  <a:pt x="20200" y="20722"/>
                </a:lnTo>
                <a:close/>
              </a:path>
              <a:path fill="lighten" w="21600" h="22122">
                <a:moveTo>
                  <a:pt x="0" y="221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22"/>
                </a:lnTo>
                <a:close/>
              </a:path>
              <a:path fill="darken" w="21600" h="22122">
                <a:moveTo>
                  <a:pt x="3794" y="7754"/>
                </a:moveTo>
                <a:lnTo>
                  <a:pt x="7301" y="7754"/>
                </a:lnTo>
                <a:lnTo>
                  <a:pt x="7301" y="13089"/>
                </a:lnTo>
                <a:cubicBezTo>
                  <a:pt x="7301" y="14012"/>
                  <a:pt x="8102" y="14743"/>
                  <a:pt x="9138" y="14743"/>
                </a:cubicBezTo>
                <a:lnTo>
                  <a:pt x="10800" y="14743"/>
                </a:lnTo>
                <a:cubicBezTo>
                  <a:pt x="11836" y="14743"/>
                  <a:pt x="12636" y="14012"/>
                  <a:pt x="12636" y="13089"/>
                </a:cubicBezTo>
                <a:lnTo>
                  <a:pt x="12636" y="7754"/>
                </a:lnTo>
                <a:lnTo>
                  <a:pt x="10800" y="7754"/>
                </a:lnTo>
                <a:lnTo>
                  <a:pt x="14308" y="4246"/>
                </a:lnTo>
                <a:lnTo>
                  <a:pt x="17981" y="7754"/>
                </a:lnTo>
                <a:lnTo>
                  <a:pt x="16144" y="7754"/>
                </a:lnTo>
                <a:lnTo>
                  <a:pt x="16144" y="13089"/>
                </a:lnTo>
                <a:cubicBezTo>
                  <a:pt x="16144" y="15857"/>
                  <a:pt x="13568" y="18416"/>
                  <a:pt x="10800" y="18416"/>
                </a:cubicBezTo>
                <a:lnTo>
                  <a:pt x="9138" y="18416"/>
                </a:lnTo>
                <a:cubicBezTo>
                  <a:pt x="6370" y="18416"/>
                  <a:pt x="3794" y="15857"/>
                  <a:pt x="3794" y="1308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мерения проводились и сколько их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инструментами пользовались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затруднения испытывал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огда удобно пользоваться данной формуло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5546880" y="539640"/>
            <a:ext cx="3276360" cy="4762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rId6" action="ppaction://hlinksldjump"/>
          </p:cNvPr>
          <p:cNvSpPr/>
          <p:nvPr/>
        </p:nvSpPr>
        <p:spPr>
          <a:xfrm>
            <a:off x="4253040" y="5500800"/>
            <a:ext cx="595080" cy="609480"/>
          </a:xfrm>
          <a:custGeom>
            <a:avLst/>
            <a:gdLst>
              <a:gd name="textAreaLeft" fmla="*/ 38520 w 595080"/>
              <a:gd name="textAreaRight" fmla="*/ 556560 w 59508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22">
                <a:moveTo>
                  <a:pt x="0" y="0"/>
                </a:moveTo>
                <a:lnTo>
                  <a:pt x="21600" y="0"/>
                </a:lnTo>
                <a:lnTo>
                  <a:pt x="21600" y="22122"/>
                </a:lnTo>
                <a:lnTo>
                  <a:pt x="0" y="22122"/>
                </a:lnTo>
                <a:close/>
              </a:path>
              <a:path fill="lightenLess" w="21600" h="221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22">
                <a:moveTo>
                  <a:pt x="21600" y="0"/>
                </a:moveTo>
                <a:lnTo>
                  <a:pt x="21600" y="22122"/>
                </a:lnTo>
                <a:lnTo>
                  <a:pt x="20200" y="20722"/>
                </a:lnTo>
                <a:lnTo>
                  <a:pt x="20200" y="1400"/>
                </a:lnTo>
                <a:close/>
              </a:path>
              <a:path fill="darkenLess" w="21600" h="22122">
                <a:moveTo>
                  <a:pt x="21600" y="22122"/>
                </a:moveTo>
                <a:lnTo>
                  <a:pt x="0" y="22122"/>
                </a:lnTo>
                <a:lnTo>
                  <a:pt x="1400" y="20722"/>
                </a:lnTo>
                <a:lnTo>
                  <a:pt x="20200" y="20722"/>
                </a:lnTo>
                <a:close/>
              </a:path>
              <a:path fill="lighten" w="21600" h="22122">
                <a:moveTo>
                  <a:pt x="0" y="221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22"/>
                </a:lnTo>
                <a:close/>
              </a:path>
              <a:path fill="darken" w="21600" h="22122">
                <a:moveTo>
                  <a:pt x="3794" y="7754"/>
                </a:moveTo>
                <a:lnTo>
                  <a:pt x="7301" y="7754"/>
                </a:lnTo>
                <a:lnTo>
                  <a:pt x="7301" y="13089"/>
                </a:lnTo>
                <a:cubicBezTo>
                  <a:pt x="7301" y="14012"/>
                  <a:pt x="8102" y="14743"/>
                  <a:pt x="9138" y="14743"/>
                </a:cubicBezTo>
                <a:lnTo>
                  <a:pt x="10800" y="14743"/>
                </a:lnTo>
                <a:cubicBezTo>
                  <a:pt x="11836" y="14743"/>
                  <a:pt x="12636" y="14012"/>
                  <a:pt x="12636" y="13089"/>
                </a:cubicBezTo>
                <a:lnTo>
                  <a:pt x="12636" y="7754"/>
                </a:lnTo>
                <a:lnTo>
                  <a:pt x="10800" y="7754"/>
                </a:lnTo>
                <a:lnTo>
                  <a:pt x="14308" y="4246"/>
                </a:lnTo>
                <a:lnTo>
                  <a:pt x="17981" y="7754"/>
                </a:lnTo>
                <a:lnTo>
                  <a:pt x="16144" y="7754"/>
                </a:lnTo>
                <a:lnTo>
                  <a:pt x="16144" y="13089"/>
                </a:lnTo>
                <a:cubicBezTo>
                  <a:pt x="16144" y="15857"/>
                  <a:pt x="13568" y="18416"/>
                  <a:pt x="10800" y="18416"/>
                </a:cubicBezTo>
                <a:lnTo>
                  <a:pt x="9138" y="18416"/>
                </a:lnTo>
                <a:cubicBezTo>
                  <a:pt x="6370" y="18416"/>
                  <a:pt x="3794" y="15857"/>
                  <a:pt x="3794" y="1308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435640" y="303120"/>
            <a:ext cx="3432240" cy="982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370240" y="1208160"/>
            <a:ext cx="4938480" cy="31068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7960" y="419868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построить вписанную окружность и найти ее радиус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ие измерения вы выполнил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чем преимущества и недостатки этого способа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8229600" y="6248520"/>
            <a:ext cx="595440" cy="609480"/>
          </a:xfrm>
          <a:custGeom>
            <a:avLst/>
            <a:gdLst>
              <a:gd name="textAreaLeft" fmla="*/ 38520 w 595440"/>
              <a:gd name="textAreaRight" fmla="*/ 556920 w 59544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09">
                <a:moveTo>
                  <a:pt x="0" y="0"/>
                </a:moveTo>
                <a:lnTo>
                  <a:pt x="21600" y="0"/>
                </a:lnTo>
                <a:lnTo>
                  <a:pt x="21600" y="22109"/>
                </a:lnTo>
                <a:lnTo>
                  <a:pt x="0" y="22109"/>
                </a:lnTo>
                <a:close/>
              </a:path>
              <a:path fill="lightenLess" w="21600" h="22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09">
                <a:moveTo>
                  <a:pt x="21600" y="0"/>
                </a:moveTo>
                <a:lnTo>
                  <a:pt x="21600" y="22109"/>
                </a:lnTo>
                <a:lnTo>
                  <a:pt x="20200" y="20709"/>
                </a:lnTo>
                <a:lnTo>
                  <a:pt x="20200" y="1400"/>
                </a:lnTo>
                <a:close/>
              </a:path>
              <a:path fill="darkenLess" w="21600" h="22109">
                <a:moveTo>
                  <a:pt x="21600" y="22109"/>
                </a:moveTo>
                <a:lnTo>
                  <a:pt x="0" y="22109"/>
                </a:lnTo>
                <a:lnTo>
                  <a:pt x="1400" y="20709"/>
                </a:lnTo>
                <a:lnTo>
                  <a:pt x="20200" y="20709"/>
                </a:lnTo>
                <a:close/>
              </a:path>
              <a:path fill="lighten" w="21600" h="22109">
                <a:moveTo>
                  <a:pt x="0" y="22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09"/>
                </a:lnTo>
                <a:close/>
              </a:path>
              <a:path fill="darken" w="21600" h="22109">
                <a:moveTo>
                  <a:pt x="3794" y="7747"/>
                </a:moveTo>
                <a:lnTo>
                  <a:pt x="7301" y="7747"/>
                </a:lnTo>
                <a:lnTo>
                  <a:pt x="7301" y="13082"/>
                </a:lnTo>
                <a:cubicBezTo>
                  <a:pt x="7301" y="14005"/>
                  <a:pt x="8102" y="14736"/>
                  <a:pt x="9138" y="14736"/>
                </a:cubicBezTo>
                <a:lnTo>
                  <a:pt x="10800" y="14736"/>
                </a:lnTo>
                <a:cubicBezTo>
                  <a:pt x="11836" y="14736"/>
                  <a:pt x="12636" y="14005"/>
                  <a:pt x="12636" y="13082"/>
                </a:cubicBezTo>
                <a:lnTo>
                  <a:pt x="12636" y="7747"/>
                </a:lnTo>
                <a:lnTo>
                  <a:pt x="10800" y="7747"/>
                </a:lnTo>
                <a:lnTo>
                  <a:pt x="14308" y="4240"/>
                </a:lnTo>
                <a:lnTo>
                  <a:pt x="17981" y="7747"/>
                </a:lnTo>
                <a:lnTo>
                  <a:pt x="16144" y="7747"/>
                </a:lnTo>
                <a:lnTo>
                  <a:pt x="16144" y="13082"/>
                </a:lnTo>
                <a:cubicBezTo>
                  <a:pt x="16144" y="15850"/>
                  <a:pt x="13568" y="18409"/>
                  <a:pt x="10800" y="18409"/>
                </a:cubicBezTo>
                <a:lnTo>
                  <a:pt x="9138" y="18409"/>
                </a:lnTo>
                <a:cubicBezTo>
                  <a:pt x="6370" y="18409"/>
                  <a:pt x="3794" y="15850"/>
                  <a:pt x="3794" y="13082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3040" y="3488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403992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 построить описанную окружность и найти ее радиус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акие измерения вы выполнили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чем преимущества и недостатки этого способа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026040" y="237960"/>
            <a:ext cx="1482840" cy="10652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3459240" y="1212840"/>
            <a:ext cx="2844720" cy="2647800"/>
          </a:xfrm>
          <a:prstGeom prst="rect">
            <a:avLst/>
          </a:prstGeom>
          <a:ln w="0">
            <a:noFill/>
          </a:ln>
        </p:spPr>
      </p:pic>
      <p:sp>
        <p:nvSpPr>
          <p:cNvPr id="271" name="">
            <a:hlinkClick r:id="rId6" action="ppaction://hlinksldjump"/>
          </p:cNvPr>
          <p:cNvSpPr/>
          <p:nvPr/>
        </p:nvSpPr>
        <p:spPr>
          <a:xfrm>
            <a:off x="8229600" y="6248520"/>
            <a:ext cx="595440" cy="609480"/>
          </a:xfrm>
          <a:custGeom>
            <a:avLst/>
            <a:gdLst>
              <a:gd name="textAreaLeft" fmla="*/ 38520 w 595440"/>
              <a:gd name="textAreaRight" fmla="*/ 556920 w 595440"/>
              <a:gd name="textAreaTop" fmla="*/ 38520 h 609480"/>
              <a:gd name="textAreaBottom" fmla="*/ 570960 h 609480"/>
            </a:gdLst>
            <a:ahLst/>
            <a:rect l="textAreaLeft" t="textAreaTop" r="textAreaRight" b="textAreaBottom"/>
            <a:pathLst>
              <a:path w="21600" h="22109">
                <a:moveTo>
                  <a:pt x="0" y="0"/>
                </a:moveTo>
                <a:lnTo>
                  <a:pt x="21600" y="0"/>
                </a:lnTo>
                <a:lnTo>
                  <a:pt x="21600" y="22109"/>
                </a:lnTo>
                <a:lnTo>
                  <a:pt x="0" y="22109"/>
                </a:lnTo>
                <a:close/>
              </a:path>
              <a:path fill="lightenLess" w="21600" h="221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09">
                <a:moveTo>
                  <a:pt x="21600" y="0"/>
                </a:moveTo>
                <a:lnTo>
                  <a:pt x="21600" y="22109"/>
                </a:lnTo>
                <a:lnTo>
                  <a:pt x="20200" y="20709"/>
                </a:lnTo>
                <a:lnTo>
                  <a:pt x="20200" y="1400"/>
                </a:lnTo>
                <a:close/>
              </a:path>
              <a:path fill="darkenLess" w="21600" h="22109">
                <a:moveTo>
                  <a:pt x="21600" y="22109"/>
                </a:moveTo>
                <a:lnTo>
                  <a:pt x="0" y="22109"/>
                </a:lnTo>
                <a:lnTo>
                  <a:pt x="1400" y="20709"/>
                </a:lnTo>
                <a:lnTo>
                  <a:pt x="20200" y="20709"/>
                </a:lnTo>
                <a:close/>
              </a:path>
              <a:path fill="lighten" w="21600" h="22109">
                <a:moveTo>
                  <a:pt x="0" y="221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09"/>
                </a:lnTo>
                <a:close/>
              </a:path>
              <a:path fill="darken" w="21600" h="22109">
                <a:moveTo>
                  <a:pt x="3794" y="7747"/>
                </a:moveTo>
                <a:lnTo>
                  <a:pt x="7301" y="7747"/>
                </a:lnTo>
                <a:lnTo>
                  <a:pt x="7301" y="13082"/>
                </a:lnTo>
                <a:cubicBezTo>
                  <a:pt x="7301" y="14005"/>
                  <a:pt x="8102" y="14736"/>
                  <a:pt x="9138" y="14736"/>
                </a:cubicBezTo>
                <a:lnTo>
                  <a:pt x="10800" y="14736"/>
                </a:lnTo>
                <a:cubicBezTo>
                  <a:pt x="11836" y="14736"/>
                  <a:pt x="12636" y="14005"/>
                  <a:pt x="12636" y="13082"/>
                </a:cubicBezTo>
                <a:lnTo>
                  <a:pt x="12636" y="7747"/>
                </a:lnTo>
                <a:lnTo>
                  <a:pt x="10800" y="7747"/>
                </a:lnTo>
                <a:lnTo>
                  <a:pt x="14308" y="4240"/>
                </a:lnTo>
                <a:lnTo>
                  <a:pt x="17981" y="7747"/>
                </a:lnTo>
                <a:lnTo>
                  <a:pt x="16144" y="7747"/>
                </a:lnTo>
                <a:lnTo>
                  <a:pt x="16144" y="13082"/>
                </a:lnTo>
                <a:cubicBezTo>
                  <a:pt x="16144" y="15850"/>
                  <a:pt x="13568" y="18409"/>
                  <a:pt x="10800" y="18409"/>
                </a:cubicBezTo>
                <a:lnTo>
                  <a:pt x="9138" y="18409"/>
                </a:lnTo>
                <a:cubicBezTo>
                  <a:pt x="6370" y="18409"/>
                  <a:pt x="3794" y="15850"/>
                  <a:pt x="3794" y="13082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Частные случа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ми формулами для нахождения площади треугольника можно воспользоваться в случае, если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реугольник равносторонни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реугольник прямоугольный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527120" y="1962000"/>
            <a:ext cx="1619280" cy="1657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046160" y="4121280"/>
            <a:ext cx="1886040" cy="1257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500800" y="1812960"/>
            <a:ext cx="1596960" cy="1452600"/>
          </a:xfrm>
          <a:prstGeom prst="rtTriangl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53040" y="234936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80040" y="330660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335560" y="4086360"/>
                <a:ext cx="167652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22360" y="232920"/>
            <a:ext cx="7772400" cy="18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спользуем «незнакомую» формулу для вычисления площади треугольн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4198680"/>
            <a:ext cx="777240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Хотите познакомиться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3228840" y="2406600"/>
            <a:ext cx="2737080" cy="1208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121280" y="4805280"/>
            <a:ext cx="9046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41320" y="178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Отказаться от новых знаний просто невозможно!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3951360"/>
            <a:ext cx="77724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огда приступи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7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770" fill="hold"/>
                                        <p:tgtEl>
                                          <p:spTgt spid="2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2009880" y="3206880"/>
            <a:ext cx="5713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58c"/>
                </a:solidFill>
                <a:latin typeface="Tahoma"/>
              </a:rPr>
              <a:t>Еще одна теорема о площади треугольника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ботаем в группах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 чего обычно мы начинаем изучение теоремы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смотрите на формулу и попытайтесь сформулировать теорему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чем вы испытываете затруднение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верьте себя, обратившись к учебнику стр. 256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меем ли мы находить площадь треугольника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1116000" y="5516640"/>
            <a:ext cx="1943280" cy="792000"/>
          </a:xfrm>
          <a:prstGeom prst="roundRect">
            <a:avLst>
              <a:gd name="adj" fmla="val 495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Д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5508720" y="5516640"/>
            <a:ext cx="1942920" cy="792000"/>
          </a:xfrm>
          <a:prstGeom prst="roundRect">
            <a:avLst>
              <a:gd name="adj" fmla="val 495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НЕ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116000" y="155736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41240" y="304920"/>
            <a:ext cx="764064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Площадь треугольника равна половине произведения двух его сторон на синус угла между ними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3240000"/>
            <a:ext cx="7772400" cy="27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ереведите теорему на язы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«если …, то … 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пишите условие и заключение теорем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ыполните чертеж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верьте себя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А=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, CB=a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B =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Доказать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348160" y="4525920"/>
            <a:ext cx="2316240" cy="8431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78000" y="3657600"/>
            <a:ext cx="2481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247760" y="2119320"/>
            <a:ext cx="1727280" cy="1538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46240" y="35416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68600" y="316224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Работаем самостоятельно в группах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Есть выбор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лагаем идею доказательства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ти доказательство в Интерне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уйтесь учебнико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Соберите мозаику из готовых карточек с доказательством (конверт №2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дея: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оваться формулой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52960" y="2651040"/>
            <a:ext cx="19429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ботаем в группах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судите шаги доказательства и обоснования к ни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ставьте наглядное доказательство на плакат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едставляем вам один из способов доказательства теоремы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оказательство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38520" y="1541160"/>
            <a:ext cx="427536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Проведем высоту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к стороне СВ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Выразим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из прямоугольного </a:t>
            </a:r>
            <a:r>
              <a:rPr b="0" lang="ru-RU" sz="2800" spc="-1" strike="noStrike">
                <a:solidFill>
                  <a:srgbClr val="40458c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АСН.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· sin </a:t>
            </a:r>
            <a:r>
              <a:rPr b="0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т.к.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in </a:t>
            </a:r>
            <a:r>
              <a:rPr b="0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= h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/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Воспользуемся формулой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 = ½ </a:t>
            </a:r>
            <a:r>
              <a:rPr b="0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h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и получим 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= ½</a:t>
            </a:r>
            <a:r>
              <a:rPr b="1" lang="ru-RU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 b sin </a:t>
            </a:r>
            <a:r>
              <a:rPr b="1" i="1" lang="el-GR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78000" y="3657600"/>
            <a:ext cx="2481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247760" y="2119320"/>
            <a:ext cx="1727280" cy="1538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46240" y="35416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68600" y="316224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60640" y="2104920"/>
            <a:ext cx="0" cy="1567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92440" y="37083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Н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36920" y="2697120"/>
            <a:ext cx="63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варианты доказательства вы нашли в Интернете и в учебнике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зовите идеи, используемые разными авторами при доказательств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ое доказательство вам понравилось больше и почему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ние «Кто быстрее?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ам предложены готовые слайды презентации с доказательством  теоремы, но их порядок нарушен. Восстановите порядок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римечание (презентация «Кто быстрее?» расположена на Рабочем столе компьютера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За верно выполненное задание получаете «+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должи запис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16160" y="1905120"/>
            <a:ext cx="369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b c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a c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0458c"/>
                </a:solidFill>
                <a:latin typeface="Times New Roman"/>
              </a:rPr>
              <a:t>S = </a:t>
            </a:r>
            <a:r>
              <a:rPr b="0" i="1" lang="en-US" sz="4000" spc="-1" strike="noStrike">
                <a:solidFill>
                  <a:srgbClr val="40458c"/>
                </a:solidFill>
                <a:latin typeface="Times New Roman"/>
                <a:ea typeface="Tahoma"/>
              </a:rPr>
              <a:t>½ b … sin …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00440" y="16257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3960" y="34513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11680" y="337824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9000" y="380196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9360" y="25830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79680" y="230508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7920" y="304560"/>
            <a:ext cx="858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Необходимо знать формулы для нахождения площади треугольник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зможны два варианта поиска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братиться к </a:t>
            </a:r>
            <a:r>
              <a:rPr b="0" lang="ru-RU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электронному справочнику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оспользоваться </a:t>
            </a:r>
            <a:r>
              <a:rPr b="0" lang="ru-RU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Интернет-ресурсами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ешите задач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должаем работать в группах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Сформулируйте условие задач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ешите ее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2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21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√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36576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34960" y="24084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68600" y="3162240"/>
            <a:ext cx="8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0</a:t>
            </a:r>
            <a:r>
              <a:rPr b="1" i="1" lang="ru-RU" sz="32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ти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10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√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360" y="3440160"/>
            <a:ext cx="6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0520" y="34369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65520" y="16938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263680" y="361476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0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√2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68600" y="316224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45</a:t>
            </a:r>
            <a:r>
              <a:rPr b="1" i="1" lang="ru-RU" sz="3200" spc="-1" strike="noStrike" baseline="30000">
                <a:solidFill>
                  <a:srgbClr val="660066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50960" y="4308480"/>
            <a:ext cx="171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1" i="1" lang="en-US" sz="3200" spc="-1" strike="noStrike" baseline="-25000">
                <a:solidFill>
                  <a:srgbClr val="660066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=5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йти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1278000" y="2133720"/>
            <a:ext cx="2511360" cy="1523880"/>
          </a:xfrm>
          <a:prstGeom prst="triangle">
            <a:avLst>
              <a:gd name="adj" fmla="val 67889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8360" y="3440160"/>
            <a:ext cx="6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00520" y="343692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65520" y="16938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В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63680" y="361476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36760" y="349740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0" y="0"/>
                </a:moveTo>
                <a:cubicBezTo>
                  <a:pt x="33" y="33"/>
                  <a:pt x="37" y="67"/>
                  <a:pt x="37" y="1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68600" y="316224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00240" y="4308480"/>
            <a:ext cx="26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cos </a:t>
            </a:r>
            <a:r>
              <a:rPr b="1" i="1" lang="el-GR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α</a:t>
            </a:r>
            <a:r>
              <a:rPr b="1" i="1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= 15/17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09640" y="2392200"/>
            <a:ext cx="5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Тогда сможем выполнить практическую работу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ти несколькими способами площадь треугольника, лежащего в конверте №1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 перечисленных инструментов вам могут пригодиться: треугольник, транспортир, циркуль, измерительная линейка, палетка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3063960" y="2771640"/>
            <a:ext cx="2878200" cy="128916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3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3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Задача 4 (№1023, стр. 26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йдите площадь прямоугольника, диагональ которого равна 10 см, а угол между диагоналями равен 30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</a:rPr>
              <a:t>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Ответы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12,5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5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25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 вас ошибка! Вернитесь назад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362400" y="3384720"/>
            <a:ext cx="1817640" cy="1671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7300800" y="2075040"/>
            <a:ext cx="392400" cy="392040"/>
          </a:xfrm>
          <a:custGeom>
            <a:avLst/>
            <a:gdLst>
              <a:gd name="textAreaLeft" fmla="*/ 25200 w 392400"/>
              <a:gd name="textAreaRight" fmla="*/ 367200 w 392400"/>
              <a:gd name="textAreaTop" fmla="*/ 25200 h 392040"/>
              <a:gd name="textAreaBottom" fmla="*/ 366840 h 39204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3" y="10800"/>
                </a:moveTo>
                <a:lnTo>
                  <a:pt x="17816" y="3794"/>
                </a:lnTo>
                <a:lnTo>
                  <a:pt x="17816" y="17806"/>
                </a:ln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109520" y="1868400"/>
            <a:ext cx="6688440" cy="17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506760" y="430848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цените свою работу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5000" y="1658880"/>
            <a:ext cx="777240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пять «+» - «отлично!!!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четыре «+» - «хорошо!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 можно приступить к обдумыванию решения № 1059 (домашняя работа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три «+» решите дополнительно №1020 в) и получишь «хорошо»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 два «+» решите №1020 а), б)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Вернемся к практической работе.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зовите новый способ  нахождения площади треугольника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акие из перечисленных предметов вам могут пригодиться: треугольник, транспортир, измерительная линейка, палетка, циркуль, таблица Брадиса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3063960" y="2771640"/>
            <a:ext cx="2878200" cy="128916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103400" y="5502240"/>
            <a:ext cx="2394000" cy="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727440" y="5486400"/>
            <a:ext cx="4673520" cy="14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570560" y="5992560"/>
            <a:ext cx="3278160" cy="140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3" dur="3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2" dur="3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то необходимо знать для нахождения площади треугольника изученным способом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и решении каких задач можно использовать данную формулу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Эту формулу можно использовать при доказательстве теоремы синусов, с которой мы познакомимся на следующем уроке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2940120" y="331920"/>
            <a:ext cx="2911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иготовиться к конкурсу шпаргалок «Площадь треугольника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ешить задачи № 1020, 1059 (для всех) с учетом полученных отметок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6040" indent="-536040"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о желанию подобрать две три задачи по данной теме для создания презентации на уроке информатики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440080" y="2147760"/>
            <a:ext cx="4924440" cy="211644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456048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ужна помощь? Нажми </a:t>
            </a: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сюда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Обсудим способы выполнения работы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3168720"/>
            <a:ext cx="77439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Палетк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Используем формул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563920" y="898560"/>
            <a:ext cx="4924440" cy="211608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46520" y="4792680"/>
            <a:ext cx="3276360" cy="476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1240" y="4595760"/>
            <a:ext cx="1101960" cy="8319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197000" y="5659560"/>
            <a:ext cx="2771640" cy="793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479920" y="5616720"/>
            <a:ext cx="1822680" cy="804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53320" y="4606920"/>
            <a:ext cx="113328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Площадь одной клетки равна 1 см</a:t>
            </a:r>
            <a:r>
              <a:rPr b="1" lang="ru-RU" sz="24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651040" y="2728800"/>
            <a:ext cx="5085000" cy="205740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028960" y="1162080"/>
          <a:ext cx="5754600" cy="5175360"/>
        </p:xfrm>
        <a:graphic>
          <a:graphicData uri="http://schemas.openxmlformats.org/drawingml/2006/table">
            <a:tbl>
              <a:tblPr/>
              <a:tblGrid>
                <a:gridCol w="576000"/>
                <a:gridCol w="574560"/>
                <a:gridCol w="576360"/>
                <a:gridCol w="574560"/>
                <a:gridCol w="576360"/>
                <a:gridCol w="574920"/>
                <a:gridCol w="574560"/>
                <a:gridCol w="576360"/>
                <a:gridCol w="574560"/>
                <a:gridCol w="57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274680" y="4424400"/>
            <a:ext cx="15447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660066"/>
                </a:solidFill>
                <a:latin typeface="Symbol"/>
                <a:ea typeface="Symbol"/>
              </a:rPr>
              <a:t>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 1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8</a:t>
            </a:r>
            <a:r>
              <a:rPr b="0" lang="ru-RU" sz="2400" spc="-1" strike="noStrike">
                <a:solidFill>
                  <a:srgbClr val="660066"/>
                </a:solidFill>
                <a:latin typeface="Tahoma"/>
              </a:rPr>
              <a:t>см</a:t>
            </a:r>
            <a:r>
              <a:rPr b="1" lang="ru-RU" sz="24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бсудите в группе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Удобно ли пользоваться палеткой для вычисления площади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чем вы видите недостатки и достоинства данного способа, если таковые имеются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8447040" y="6124680"/>
            <a:ext cx="450720" cy="479160"/>
          </a:xfrm>
          <a:custGeom>
            <a:avLst/>
            <a:gdLst>
              <a:gd name="textAreaLeft" fmla="*/ 29160 w 450720"/>
              <a:gd name="textAreaRight" fmla="*/ 421560 w 450720"/>
              <a:gd name="textAreaTop" fmla="*/ 29160 h 479160"/>
              <a:gd name="textAreaBottom" fmla="*/ 450000 h 479160"/>
            </a:gdLst>
            <a:ahLst/>
            <a:rect l="textAreaLeft" t="textAreaTop" r="textAreaRight" b="textAreaBottom"/>
            <a:pathLst>
              <a:path w="21600" h="22962">
                <a:moveTo>
                  <a:pt x="0" y="0"/>
                </a:moveTo>
                <a:lnTo>
                  <a:pt x="21600" y="0"/>
                </a:lnTo>
                <a:lnTo>
                  <a:pt x="21600" y="22962"/>
                </a:lnTo>
                <a:lnTo>
                  <a:pt x="0" y="22962"/>
                </a:lnTo>
                <a:close/>
              </a:path>
              <a:path fill="lightenLess" w="21600" h="229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62">
                <a:moveTo>
                  <a:pt x="21600" y="0"/>
                </a:moveTo>
                <a:lnTo>
                  <a:pt x="21600" y="22962"/>
                </a:lnTo>
                <a:lnTo>
                  <a:pt x="20200" y="21562"/>
                </a:lnTo>
                <a:lnTo>
                  <a:pt x="20200" y="1400"/>
                </a:lnTo>
                <a:close/>
              </a:path>
              <a:path fill="darkenLess" w="21600" h="22962">
                <a:moveTo>
                  <a:pt x="21600" y="22962"/>
                </a:moveTo>
                <a:lnTo>
                  <a:pt x="0" y="22962"/>
                </a:lnTo>
                <a:lnTo>
                  <a:pt x="1400" y="21562"/>
                </a:lnTo>
                <a:lnTo>
                  <a:pt x="20200" y="21562"/>
                </a:lnTo>
                <a:close/>
              </a:path>
              <a:path fill="lighten" w="21600" h="22962">
                <a:moveTo>
                  <a:pt x="0" y="229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62"/>
                </a:lnTo>
                <a:close/>
              </a:path>
              <a:path fill="darken" w="21600" h="22962">
                <a:moveTo>
                  <a:pt x="3794" y="8174"/>
                </a:moveTo>
                <a:lnTo>
                  <a:pt x="7301" y="8174"/>
                </a:lnTo>
                <a:lnTo>
                  <a:pt x="7301" y="13509"/>
                </a:lnTo>
                <a:cubicBezTo>
                  <a:pt x="7301" y="14431"/>
                  <a:pt x="8102" y="15163"/>
                  <a:pt x="9138" y="15163"/>
                </a:cubicBezTo>
                <a:lnTo>
                  <a:pt x="10800" y="15163"/>
                </a:lnTo>
                <a:cubicBezTo>
                  <a:pt x="11836" y="15163"/>
                  <a:pt x="12636" y="14431"/>
                  <a:pt x="12636" y="13509"/>
                </a:cubicBezTo>
                <a:lnTo>
                  <a:pt x="12636" y="8174"/>
                </a:lnTo>
                <a:lnTo>
                  <a:pt x="10800" y="8174"/>
                </a:lnTo>
                <a:lnTo>
                  <a:pt x="14308" y="4666"/>
                </a:lnTo>
                <a:lnTo>
                  <a:pt x="17981" y="8174"/>
                </a:lnTo>
                <a:lnTo>
                  <a:pt x="16144" y="8174"/>
                </a:lnTo>
                <a:lnTo>
                  <a:pt x="16144" y="13509"/>
                </a:lnTo>
                <a:cubicBezTo>
                  <a:pt x="16144" y="16277"/>
                  <a:pt x="13568" y="18836"/>
                  <a:pt x="10800" y="18836"/>
                </a:cubicBezTo>
                <a:lnTo>
                  <a:pt x="9138" y="18836"/>
                </a:lnTo>
                <a:cubicBezTo>
                  <a:pt x="6370" y="18836"/>
                  <a:pt x="3794" y="16277"/>
                  <a:pt x="3794" y="13509"/>
                </a:cubicBezTo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81560" y="5079960"/>
                <a:ext cx="19605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с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с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781200" y="5129280"/>
                <a:ext cx="21002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969920" y="2100240"/>
            <a:ext cx="5737320" cy="2130480"/>
          </a:xfrm>
          <a:prstGeom prst="triangle">
            <a:avLst>
              <a:gd name="adj" fmla="val 58444"/>
            </a:avLst>
          </a:prstGeom>
          <a:solidFill>
            <a:srgbClr val="6f89f7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11800" y="2133720"/>
            <a:ext cx="0" cy="210492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74960" y="4238640"/>
            <a:ext cx="57038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79960" y="41958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52760" y="298944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660066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930320" y="1393560"/>
            <a:ext cx="4529160" cy="2873160"/>
          </a:xfrm>
          <a:prstGeom prst="line">
            <a:avLst/>
          </a:prstGeom>
          <a:ln w="2844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876640" y="1728720"/>
            <a:ext cx="1842840" cy="252576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45320" y="230508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ru-RU" sz="3200" spc="-1" strike="noStrike" baseline="-25000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44800" y="210492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116760" y="5051520"/>
                <a:ext cx="20732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4572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Используем формулу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76840" y="239760"/>
            <a:ext cx="1173240" cy="885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 flipV="1">
            <a:off x="4397400" y="1247760"/>
            <a:ext cx="3309840" cy="2976480"/>
          </a:xfrm>
          <a:prstGeom prst="line">
            <a:avLst/>
          </a:prstGeom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916280" y="1407600"/>
            <a:ext cx="2582640" cy="28306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18040" y="278460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40120" y="2173320"/>
            <a:ext cx="6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06:27:54Z</dcterms:created>
  <dc:creator>Неизвестный</dc:creator>
  <dc:description/>
  <dc:language>en-US</dc:language>
  <cp:lastModifiedBy>Квартира</cp:lastModifiedBy>
  <dcterms:modified xsi:type="dcterms:W3CDTF">2017-05-22T19:46:08Z</dcterms:modified>
  <cp:revision>24</cp:revision>
  <dc:subject/>
  <dc:title>Программа  построения графика функции по выбору</dc:title>
</cp:coreProperties>
</file>