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FCCEA-0D4F-4FB5-A514-EE94BA1C0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1A8B7-5848-4EB1-8523-BC0C79549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A711F-B07D-41A0-B673-44DB37D54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374D2-9110-470C-8F19-11CDB6614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08C86-9967-45C5-8776-9D04B0273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5B916-0C08-4C42-9A58-8854022E6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A91B4-071B-4DC3-9CBF-C470B5049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EFA28-4179-4C7B-9E6C-58198249F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3F597-1DFC-4C19-801A-CDCE89C7A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4BD0B-9CD0-4EA3-BF6E-5E9EC6E4E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0D2CB-C27F-4CA8-AFC8-61BCC5D8F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1380E-01F1-4732-B16B-304CFA2AF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2BF1B-58D6-4FA2-810D-C150E5F50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63225-B05F-4A09-B323-FEAF5D012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54CD3-E772-4A60-AB3A-DA693F384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BDDB7-EA01-49F6-916D-6ED78462B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1F086-4A1E-4DCB-9597-90DA5A45A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5EBC9-A1D1-4620-95AF-5DCB66365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5A6C2-BDB6-4A7B-A1D0-8D8F594B1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DC21B-6DF4-499F-AA34-4CE20686A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AB9C8-FD44-41D1-9F96-4DFA52CAF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644D6-1790-4E74-952D-BFEAABE84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C36BF-3DCC-4DB0-99A2-797423FA6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11BB6-EC77-4859-83EA-1965872A0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BA23F-EF00-49CC-A146-833F1BAD4CD6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4360" y="2968560"/>
              <a:ext cx="738000" cy="474840"/>
              <a:chOff x="414360" y="2968560"/>
              <a:chExt cx="7380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4440" y="2968560"/>
                <a:ext cx="36792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69A1F-E006-48A0-A204-E163FDE8C856}" type="slidenum">
              <a:rPr b="0" lang="ru-RU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26920" y="188640"/>
            <a:ext cx="7848720" cy="633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Управление качеством образования в образовательной организации </a:t>
            </a:r>
            <a:br>
              <a:rPr sz="3600"/>
            </a:br>
            <a:r>
              <a:rPr b="1" lang="ru-RU" sz="3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на основе диагностико – технологического подхода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валева С. С.,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м. директора по УВР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БОУ «Супоневская средняя общеобразовательная школа № 1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ени Героя Советского Союза Н. И. Чувина» Брянского района</a:t>
            </a: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Номер слайда 4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DB161-699C-4447-A612-A40BDC38A264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Picture 9" descr="Изображение 007"/>
          <p:cNvPicPr/>
          <p:nvPr/>
        </p:nvPicPr>
        <p:blipFill>
          <a:blip r:embed="rId1"/>
          <a:stretch/>
        </p:blipFill>
        <p:spPr>
          <a:xfrm>
            <a:off x="1889280" y="2852640"/>
            <a:ext cx="5340240" cy="529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5 класс</a:t>
            </a:r>
            <a:r>
              <a:rPr b="0" lang="ru-RU" sz="4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: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10920" y="2017800"/>
            <a:ext cx="8343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водный контроль (русский язык, математика, история, география, т. к. в 4 классе – ВПР по окружающему миру) – внутренняя оценк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ПР  (по русскому языку, математике, истории, биологии) - внешняя оценк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довая промежуточная аттестация  - внутренняя оценка  + экзамен (по литературе)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метные + метапредметные результаты (защита проекта  - февральская сессия) + личностны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Номер слайда 4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1CF83-D9F5-463A-8DA9-EB268534A56E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2" name="Picture 8" descr="https://www.youcubed.org/wp-content/uploads/2017/03/common_core_math.jpg"/>
          <p:cNvPicPr/>
          <p:nvPr/>
        </p:nvPicPr>
        <p:blipFill>
          <a:blip r:embed="rId1"/>
          <a:stretch/>
        </p:blipFill>
        <p:spPr>
          <a:xfrm>
            <a:off x="108000" y="115920"/>
            <a:ext cx="341640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Номер слайда 4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E6C08-39D7-49AC-8AB6-5659AEC8A50F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4" name="Таблица 5" descr=""/>
          <p:cNvPicPr/>
          <p:nvPr/>
        </p:nvPicPr>
        <p:blipFill>
          <a:blip r:embed="rId1"/>
          <a:stretch/>
        </p:blipFill>
        <p:spPr>
          <a:xfrm>
            <a:off x="536400" y="2157480"/>
            <a:ext cx="7778880" cy="372564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68000" y="415440"/>
            <a:ext cx="8496360" cy="83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БОУ «Супоневская СОШ № 1 имени Героя Советского Союза Н. И. Чувина» Брянского района за 20__ -  20 ___ учебный год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ст достижений обучающегося  4 «А» класса за Ι четверть по предметным результатам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предмет                                                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МАТИКА</a:t>
            </a:r>
            <a:endParaRPr b="0" lang="en-US" sz="1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Номер слайда 4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938FD-D446-4676-88AA-A92CDA9EEF56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68000" y="415440"/>
            <a:ext cx="8496360" cy="83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БОУ «Супоневская СОШ № 1 имени Героя Советского Союза Н. И. Чувина» Брянского района за 20__ -  20 ___ учебный год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ст достижений учащегося  7  класса за Ι четверть по предметным результатам (Лист 1)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предмет                                                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ТЕРАТУРА</a:t>
            </a:r>
            <a:endParaRPr b="0" lang="en-US" sz="1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48" name="Таблица 6" descr=""/>
          <p:cNvPicPr/>
          <p:nvPr/>
        </p:nvPicPr>
        <p:blipFill>
          <a:blip r:embed="rId1"/>
          <a:stretch/>
        </p:blipFill>
        <p:spPr>
          <a:xfrm>
            <a:off x="249120" y="2030400"/>
            <a:ext cx="8570880" cy="427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11 класс: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0920" y="2017800"/>
            <a:ext cx="8343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водный контроль (русский язык, математика) – внутренняя оценк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зовые работы / пробные экзамены (по материалам БЦОКО) – внутренняя / внешняя оценк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ПР  - внешняя оценк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довая промежуточная аттестация - внутренняя оценк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сударственная итоговая аттестация - внешняя оценк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Номер слайда 4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E66D5-E3B3-469C-8AB1-4618584FDE2A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Picture 6" descr="https://duelit.ru/wp-content/uploads/2014/06/shkola.jpg"/>
          <p:cNvPicPr/>
          <p:nvPr/>
        </p:nvPicPr>
        <p:blipFill>
          <a:blip r:embed="rId1"/>
          <a:stretch/>
        </p:blipFill>
        <p:spPr>
          <a:xfrm>
            <a:off x="179280" y="200160"/>
            <a:ext cx="2468520" cy="164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9280" y="115560"/>
            <a:ext cx="8425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Система управления качеством образования на разных уровнях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Номер слайда 4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BDE8F-8298-47BA-BD95-54DCF2DFFBAE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179280" y="1446120"/>
          <a:ext cx="8858520" cy="5429520"/>
        </p:xfrm>
        <a:graphic>
          <a:graphicData uri="http://schemas.openxmlformats.org/drawingml/2006/table">
            <a:tbl>
              <a:tblPr/>
              <a:tblGrid>
                <a:gridCol w="1771920"/>
                <a:gridCol w="1771560"/>
                <a:gridCol w="1771560"/>
                <a:gridCol w="1771560"/>
                <a:gridCol w="1771920"/>
              </a:tblGrid>
              <a:tr h="381240">
                <a:tc>
                  <a:txBody>
                    <a:bodyPr lIns="34200" rIns="34200" tIns="34200" bIns="342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дминистрац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4200" marR="34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4200" rIns="34200" tIns="34200" bIns="342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ител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4200" marR="34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4200" rIns="34200" tIns="34200" bIns="342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ассный руководител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4200" marR="34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4200" rIns="34200" tIns="34200" bIns="342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учающийс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4200" marR="34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4200" rIns="34200" tIns="34200" bIns="342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дител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4200" marR="34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48280">
                <a:tc>
                  <a:txBody>
                    <a:bodyPr lIns="34200" rIns="34200" tIns="34200" bIns="342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Создание условий для повышения качества образования для обучающихся и педагогов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68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Определение методик, форм, критериев, показателей и процедур оценки результативности.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68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Обеспечение эффективного социального партнерства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68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Создание эффективной информационной системы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68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 Систематическое изучение образовательного спроса обучающихся, родителей, общественности по качеству образования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4200" marR="34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4200" rIns="34200" tIns="34200" bIns="342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Обеспечение условий развития личности обучающегося.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68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Проведение оценки результативности  по установленной циклограмме и технологии мониторинга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68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Обработка результатов.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68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Оформление ЛИСТОВ ДОСТИЖЕНИЙ по предметным результатам. 5. Педагогическая рефлексия и взаимооценка колле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4200" marR="34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4200" rIns="34200" tIns="34200" bIns="342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Обеспечение взаимодействия учителей-предметников, обучающихся, родителей по проведению мониторинга   классного коллектива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68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Обработка данных мониторинга уровня обучаемости обучающихся класса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68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Оформление ЛИСТОВ ДОСТИЖЕНИЙ по метапредметным, личностным результатам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68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Индивидуальная работа с родителями по выполнению различных рекомендаций учителей-предметников и специалистов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4200" marR="34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4200" rIns="34200" tIns="34200" bIns="342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Стремление к самопознанию, самовоспитанию, саморазвитию, самореализации, самопрезентации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68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Овладение ключевыми компетентностями и культурой умственного труда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68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Накопление достижений ( в том числе и для формирования портфолио)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4200" marR="34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4200" rIns="34200" tIns="34200" bIns="342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Создание условий в семье, обеспечивающих физическое, нравственное и интеллектуальное развитие личности ребенка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68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Обеспечение систематического контроля за результатами обучения ребенка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68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Исполнение рекомендаций учителей, классного руководителя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68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ециалистов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68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Участие в соуправлении школой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4200" marR="34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92920" cy="650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сновные результаты УВР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Номер слайда 4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913D5-4A11-4285-B584-B470B42D287D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755640" y="1052640"/>
          <a:ext cx="7704000" cy="5697360"/>
        </p:xfrm>
        <a:graphic>
          <a:graphicData uri="http://schemas.openxmlformats.org/drawingml/2006/table">
            <a:tbl>
              <a:tblPr/>
              <a:tblGrid>
                <a:gridCol w="2573280"/>
                <a:gridCol w="1709640"/>
                <a:gridCol w="1711440"/>
                <a:gridCol w="1709640"/>
              </a:tblGrid>
              <a:tr h="8841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15/2016 уч. го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16/2017 уч. го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17/2018 уч. го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</a:tr>
              <a:tr h="701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чество знан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,4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,5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,6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512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ученнос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5112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олотая медал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513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ребряная медал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1263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метные олимпиады (муниц. этап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побед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 призер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 побед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 призер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 побед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 призер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1311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метные олимпиады (регион. этап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призе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призе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Номер слайда 4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EFC7B-C76D-4738-84C2-5D770A5FD7A6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00000" y="476280"/>
            <a:ext cx="7793280" cy="650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езультаты ЕГЭ -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атематика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468360" y="1341360"/>
          <a:ext cx="8280360" cy="5332320"/>
        </p:xfrm>
        <a:graphic>
          <a:graphicData uri="http://schemas.openxmlformats.org/drawingml/2006/table">
            <a:tbl>
              <a:tblPr/>
              <a:tblGrid>
                <a:gridCol w="1289160"/>
                <a:gridCol w="712800"/>
                <a:gridCol w="838080"/>
                <a:gridCol w="725400"/>
                <a:gridCol w="785880"/>
                <a:gridCol w="665280"/>
                <a:gridCol w="1087200"/>
                <a:gridCol w="1087560"/>
                <a:gridCol w="1089000"/>
              </a:tblGrid>
              <a:tr h="73044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. г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-с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ий балл / отмет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ним. кол-во баллов (порог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л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in</a:t>
                      </a: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бал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 успеваемо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ий по район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ий по обла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7621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5-2016 (профильный уровень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 (35,7 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,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8528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5-2016 (базовый уровень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00 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 (из 20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ч-во знаний – 9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639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6-2017 (профильный уровень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 (50 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,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1065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6-2017 (базовый уровень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00 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 (из 20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ч-во знаний – 1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639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7-2018 (профильный уровень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 (79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8528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7-2018 (базовый уровень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 (93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 (из 20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ч-во знаний – 9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Номер слайда 4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06E43-831F-43CF-A576-5724D4F9F199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00000" y="476280"/>
            <a:ext cx="7793280" cy="650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езультаты ЕГЭ –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усский язык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324000" y="1773360"/>
          <a:ext cx="8496000" cy="2952720"/>
        </p:xfrm>
        <a:graphic>
          <a:graphicData uri="http://schemas.openxmlformats.org/drawingml/2006/table">
            <a:tbl>
              <a:tblPr/>
              <a:tblGrid>
                <a:gridCol w="1222200"/>
                <a:gridCol w="676440"/>
                <a:gridCol w="1071360"/>
                <a:gridCol w="1212840"/>
                <a:gridCol w="496800"/>
                <a:gridCol w="505080"/>
                <a:gridCol w="1150920"/>
                <a:gridCol w="993600"/>
                <a:gridCol w="1166760"/>
              </a:tblGrid>
              <a:tr h="66564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. 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-с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ий бал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ним. кол-во баллов (порог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л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in</a:t>
                      </a: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бал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 успеваем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ий по район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ий по обла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7318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5-20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1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7318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6-20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2,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2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2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82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7-20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Номер слайда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3A7D3-ADCB-4D55-900C-05E2F5EF9113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047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Всем  коллегам  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желаю 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педагогических успехов и удачи! 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Номер слайда 6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3A1BA-7E14-4624-B160-C8938E2FA750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356000" y="1988640"/>
            <a:ext cx="3810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7"/>
          <p:cNvSpPr/>
          <p:nvPr/>
        </p:nvSpPr>
        <p:spPr>
          <a:xfrm>
            <a:off x="3376440" y="2486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Прямоугольник 2"/>
          <p:cNvSpPr/>
          <p:nvPr/>
        </p:nvSpPr>
        <p:spPr>
          <a:xfrm>
            <a:off x="6589800" y="2720880"/>
            <a:ext cx="253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светитель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Прямоугольник 11"/>
          <p:cNvSpPr/>
          <p:nvPr/>
        </p:nvSpPr>
        <p:spPr>
          <a:xfrm>
            <a:off x="4581360" y="1052640"/>
            <a:ext cx="228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сультан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Прямоугольник 12"/>
          <p:cNvSpPr/>
          <p:nvPr/>
        </p:nvSpPr>
        <p:spPr>
          <a:xfrm>
            <a:off x="1187280" y="4511520"/>
            <a:ext cx="3030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следователь педагогического процесс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Прямоугольник 13"/>
          <p:cNvSpPr/>
          <p:nvPr/>
        </p:nvSpPr>
        <p:spPr>
          <a:xfrm>
            <a:off x="5003640" y="4048200"/>
            <a:ext cx="38926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ивный участник общения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обучающимися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х родителями, учителям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Прямоугольник 14"/>
          <p:cNvSpPr/>
          <p:nvPr/>
        </p:nvSpPr>
        <p:spPr>
          <a:xfrm>
            <a:off x="361800" y="2727360"/>
            <a:ext cx="25671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тор деятельности обучающихс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Прямоугольник 15"/>
          <p:cNvSpPr/>
          <p:nvPr/>
        </p:nvSpPr>
        <p:spPr>
          <a:xfrm>
            <a:off x="395280" y="1901880"/>
            <a:ext cx="26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тель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Прямоугольник 16"/>
          <p:cNvSpPr/>
          <p:nvPr/>
        </p:nvSpPr>
        <p:spPr>
          <a:xfrm>
            <a:off x="1760400" y="917640"/>
            <a:ext cx="281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2" name="Picture 14" descr=""/>
          <p:cNvPicPr/>
          <p:nvPr/>
        </p:nvPicPr>
        <p:blipFill>
          <a:blip r:embed="rId1"/>
          <a:stretch/>
        </p:blipFill>
        <p:spPr>
          <a:xfrm>
            <a:off x="0" y="25895160"/>
            <a:ext cx="5856120" cy="32893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5" descr="C:\Users\User\Desktop\Бобкова - Учитель года\DSC02799.JPG"/>
          <p:cNvPicPr/>
          <p:nvPr/>
        </p:nvPicPr>
        <p:blipFill>
          <a:blip r:embed="rId2"/>
          <a:stretch/>
        </p:blipFill>
        <p:spPr>
          <a:xfrm>
            <a:off x="2905200" y="1979640"/>
            <a:ext cx="3684600" cy="20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Номер слайда 4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8097E-1DFC-45DA-A7C1-711B760A360B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6" name="Picture 2" descr="https://bigslide.ru/images/2/1208/831/img2.jpg"/>
          <p:cNvPicPr/>
          <p:nvPr/>
        </p:nvPicPr>
        <p:blipFill>
          <a:blip r:embed="rId1"/>
          <a:stretch/>
        </p:blipFill>
        <p:spPr>
          <a:xfrm>
            <a:off x="395280" y="209520"/>
            <a:ext cx="8501040" cy="63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723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Внутренняя оценка:</a:t>
            </a:r>
            <a:r>
              <a:rPr b="1" i="1" lang="ru-RU" sz="5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55640" y="1844640"/>
            <a:ext cx="8128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водный контроль (предварительный контроль,   стартовая диагностика)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кущая и тематическая оценка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школьный мониторинг индивидуальных образовательных достижений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довая промежуточная аттестация обучающихся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тфолио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Номер слайда 4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FA216-9FB8-4A2E-AC62-93ECA4CB9DAB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0" name="Picture 10" descr="https://c.pxhere.com/photos/95/40/still_life_school_retro_ink-1070694.jpg!d"/>
          <p:cNvPicPr/>
          <p:nvPr/>
        </p:nvPicPr>
        <p:blipFill>
          <a:blip r:embed="rId1"/>
          <a:stretch/>
        </p:blipFill>
        <p:spPr>
          <a:xfrm>
            <a:off x="5724360" y="4797360"/>
            <a:ext cx="316728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1042920" y="2017800"/>
            <a:ext cx="7912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сударственная итоговая аттестация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зависимая оценка качества образования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ниторинговые исследования муниципального, регионального и федерального уровней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Номер слайда 4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F9D80-360E-442B-B86F-C538389BA0ED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723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Внешняя оценка:</a:t>
            </a:r>
            <a:r>
              <a:rPr b="1" i="1" lang="ru-RU" sz="5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188640"/>
            <a:ext cx="7792920" cy="1571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ru-RU" sz="4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Единая система качества образования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5640" y="2017800"/>
            <a:ext cx="8199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А – 9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А – 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КО (Национальные исследования качества образования по учебному предмету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ПР (Всероссийские проверочные работы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дународные исследования качества образовани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следование профессиональных компетенций учителей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Номер слайда 4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4131E-F687-453E-9E61-FF2728BF9EA4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47280" y="259920"/>
            <a:ext cx="7396200" cy="180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Анализ работы по ФГОС НОО </a:t>
            </a:r>
            <a:br>
              <a:rPr sz="2800"/>
            </a:br>
            <a:r>
              <a:rPr b="1" lang="ru-RU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(ФГОС ООО) в ___ классе за 20__- 20__ учебный год </a:t>
            </a:r>
            <a:br>
              <a:rPr sz="2800"/>
            </a:b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ФИО учителя</a:t>
            </a:r>
            <a:r>
              <a:rPr b="0" lang="ru-RU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68360" y="2276640"/>
            <a:ext cx="8486640" cy="40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результаты вводного контроля - внутренняя оценка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результаты внутришкольного мониторинга индивидуальных образовательных достижений – внутренняя оценка (в соответствии с планом ВШК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результаты ВПР – внешняя оценка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результаты НИКО - внешняя оценка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) результаты годовой промежуточной аттестации обучающихся по каждому учебному предмету – внутренняя оценка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) результаты государственной итоговой аттестации - внешняя оценка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Номер слайда 4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8A4BD-57E2-4D4B-B5E1-D13D93582CC7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0" name="Picture 6" descr="https://okru.ru/files/images/20150201/1423070417_u3.jpg"/>
          <p:cNvPicPr/>
          <p:nvPr/>
        </p:nvPicPr>
        <p:blipFill>
          <a:blip r:embed="rId1"/>
          <a:stretch/>
        </p:blipFill>
        <p:spPr>
          <a:xfrm>
            <a:off x="108000" y="260280"/>
            <a:ext cx="1942920" cy="19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2, 3 классы: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4360" y="2017800"/>
            <a:ext cx="827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водный контроль (русский язык, математика) – внутренняя оценка)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довая промежуточная аттестация (по каждому учебному предмету + итоговая комплексная работа на межпредметной основе (русский язык, литературное чтение, математика, окружающий мир)) - внутренняя оценка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слеживание предметных + метапредметных + личностных результатов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Номер слайда 4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8FE8C-A8E5-4E59-8F31-40EAE25C4F3B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4" name="Picture 6" descr="http://images.tildacdn.info/ccc5032d-76ee-43d5-b06c-2602f500eda0/1291236603_1981.jpg"/>
          <p:cNvPicPr/>
          <p:nvPr/>
        </p:nvPicPr>
        <p:blipFill>
          <a:blip r:embed="rId1"/>
          <a:stretch/>
        </p:blipFill>
        <p:spPr>
          <a:xfrm>
            <a:off x="179280" y="115920"/>
            <a:ext cx="240048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4 класс</a:t>
            </a:r>
            <a:r>
              <a:rPr b="0" lang="ru-RU" sz="4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: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755640" y="2276640"/>
            <a:ext cx="8199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водный контроль (русский язык, математика) – внутренняя оценка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ПР - внешняя оценк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довая промежуточная аттестация  - внутренняя оценк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метные + метапредметные результаты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защита проектов) + личностны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Номер слайда 4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FDB4E-8CD7-435F-AA53-DEFD14C43BA3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8" name="Picture 6" descr="http://images.tildacdn.info/ccc5032d-76ee-43d5-b06c-2602f500eda0/1291236603_1981.jpg"/>
          <p:cNvPicPr/>
          <p:nvPr/>
        </p:nvPicPr>
        <p:blipFill>
          <a:blip r:embed="rId1"/>
          <a:stretch/>
        </p:blipFill>
        <p:spPr>
          <a:xfrm>
            <a:off x="179280" y="115920"/>
            <a:ext cx="240048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4T08:11:03Z</dcterms:created>
  <dc:creator>проектор</dc:creator>
  <dc:description/>
  <dc:language>en-US</dc:language>
  <cp:lastModifiedBy>Пользователь Windows</cp:lastModifiedBy>
  <dcterms:modified xsi:type="dcterms:W3CDTF">2018-11-14T21:35:24Z</dcterms:modified>
  <cp:revision>57</cp:revision>
  <dc:subject/>
  <dc:title>Тема: «Ф. Абрамов «О чём плачут лошади»</dc:title>
</cp:coreProperties>
</file>