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17A5-81E3-465B-99C7-8039A9BC1A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61C0-3A8D-4D66-AEA1-29F8E11E26D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AE56-DE66-4586-B0D4-0C1F74AF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719-A190-46BD-A57B-699ACB3E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0066-BD46-4D5B-BB84-1BCC27CB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D2C-FBB1-426A-AF92-CE6252E6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84BC-C7E4-4096-AD45-8B7EC278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D1D9-41F5-4460-AF31-A69E00DC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7C28-7FD0-48E2-B74D-FA1E8CF9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B4AF-7DDB-44FB-9484-53C8090B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9A30-367D-47F4-A88F-D08151FD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F14C-AF6D-452D-9CD2-EDB64D3A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C77A-2FC7-40BD-AEF7-F03215F6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0EF-8556-4EAF-ABF6-B1707D02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E902-4B76-4158-9E67-75B76070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CB17-7A4F-48E4-980E-5BE0584A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A3E8-35F3-497F-8CFB-72B0FD91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9319-41F6-4266-9B86-3F30FDD6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3741-3472-4F37-802D-0CE6B9A2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82A-3324-4F44-A4DA-DC9BF50E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A31-BAA7-42B0-B262-960FA6CB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BD3-DE05-4F72-BAD1-502C4015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2A6F-AA6A-43CF-9983-2309E991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F55-387A-430C-94EB-91B2E476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AB6-98F0-447C-A846-262B7070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A679-D58E-4D26-AFAB-CA45A003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F333-C2A6-421F-888E-5C9FA20B98D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D73C-C43D-408C-9789-2C304AD57D1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ий потенциал нравственных ценностей в эпоху социальных переме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ь - поведенческий ориентир личности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" descr="D:\Desktop\Кафедра педагогики на сайт 04062015\ae4df6f207a713a6340df4d2f71919d4.jpg"/>
          <p:cNvPicPr/>
          <p:nvPr/>
        </p:nvPicPr>
        <p:blipFill>
          <a:blip r:embed="rId1"/>
          <a:stretch/>
        </p:blipFill>
        <p:spPr>
          <a:xfrm>
            <a:off x="7486560" y="0"/>
            <a:ext cx="1683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благо, это то, что честно и полезно, все, чего требует от нас долг человека, гражданина, семьянина (В.И. Даль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му, кто не постиг науки добра, всякая другая наука приносит лишь вред (Аристотель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 есть то, что никем не может быть определено, но что определяет все остальное (Л.Н. Толстой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ыть добрым - это значит.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вели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нко чувствовать природу другого челове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бовать каждый день подтверждения высокого звания «человек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гиб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ворить счастье, делая других счастливыми, и самому быть счастливы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площать в реальной жизни нравствен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идеть доброту и умножать ее и т.п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032520" y="0"/>
            <a:ext cx="31114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86600" y="8578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я добро, будь благодарен за эт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та для души - то же, что здоровье для тела: она незаметна, когда владеешь е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е сложное искусство - делать добро для конкретного челове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енности в образовании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–абсолютная цен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я – общество в миниатю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уд- основа человеческого быт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–результат разнообразного тру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ультура – богатство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ечество – уникальная для каждого человека Род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емля – общий дом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р – согласие между людьми, народами, государствам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300720" y="5661000"/>
            <a:ext cx="2678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-1500120" y="1127160"/>
            <a:ext cx="11760120" cy="5810040"/>
          </a:xfrm>
          <a:prstGeom prst="rect">
            <a:avLst/>
          </a:prstGeom>
          <a:ln w="0">
            <a:noFill/>
          </a:ln>
        </p:spPr>
      </p:pic>
      <p:pic>
        <p:nvPicPr>
          <p:cNvPr id="138" name="Заголовок 1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ъявление ценностей воспитаннику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ознание ценностных ориентаций личностью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нятие ценностной ориентац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изация ценностных ориентаций в деятельности и поведен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236000" y="5157720"/>
            <a:ext cx="1446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крепление ценностной ориентации в направленности личности и перевод ее в статус качества личности, т.е. в своего рода потенциальное состояни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ктуализация потенциальной ценностной ориентации, заключающейся в качествах лич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308720" y="5373720"/>
            <a:ext cx="15145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Процесс формирования нравственного со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) установка на восприятие информации и определение ее личностной ценности и значимост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) аналитико-синтетическое преобразование информаци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) избрание вариантов программ для действий лич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164360" y="537372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Становление нравственного поведе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56800" y="1752480"/>
            <a:ext cx="782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жизненная ситуац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эмоционально-чувственное переживание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ыбор и принятие решен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олевой стимул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оступо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236000" y="522936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чины, тормозящие развитие аксиологических основ личност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91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гнитивный диссонанс, возникающий в ответ на противоречие между имеющимися и предлагае- мыми знаниями и представлениям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щитные механизмы, как бы «оберегающие» личность от некорректного вмешательства, навязывания позиций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итуационные факторы; отсутствие ценностного стержня личност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адекватное определение ценностных ориентац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4" descr="D:\Desktop\Кафедра педагогики на сайт 04062015\questions-to-a-lawyer.jpg"/>
          <p:cNvPicPr/>
          <p:nvPr/>
        </p:nvPicPr>
        <p:blipFill>
          <a:blip r:embed="rId1"/>
          <a:stretch/>
        </p:blipFill>
        <p:spPr>
          <a:xfrm>
            <a:off x="7956720" y="5661000"/>
            <a:ext cx="10713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93800" y="79416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оциальные переме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2214720"/>
            <a:ext cx="85723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менение способа организации обществ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емены в экономике,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социальной структуре или моделях социального взаимодействия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изменении культурных моделей: новые области знаний, новые верования, ценности, выразительные средства искусства 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распределении социальных вознаграждени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циальные институты обретают новые формы, и их связь друг с другом быстро меняетс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бодное развитие позитивно значи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лубокое осмысление осознавае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ирокое соотнесение ценностной ориентации с системой ценност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нос значимых ценностных ориентаций на различные жизненные ситу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724360" y="5589720"/>
            <a:ext cx="33274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стоятельный поиск новых личностно привлекательных ценносте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вление аксиологических тенденций в образова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иск механизмов перевода личности из состояния «Я» реальное в «Я» идеальное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4572000" y="5334120"/>
            <a:ext cx="39038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временный национальный воспитательный идеа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2600" y="2361960"/>
            <a:ext cx="8286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это высоконравственный, творческий, компетентный гражданин России, принимающий судьбу Отечества как свою личную, осознающий ответственность за настоящее и будущее своей страны, укорененный в духовных и культурных традициях многонационального народа Российской Федер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4" descr="D:\Desktop\Кафедра педагогики на сайт 04062015\711bddf994.jpg"/>
          <p:cNvPicPr/>
          <p:nvPr/>
        </p:nvPicPr>
        <p:blipFill>
          <a:blip r:embed="rId1"/>
          <a:stretch/>
        </p:blipFill>
        <p:spPr>
          <a:xfrm>
            <a:off x="7164360" y="5300640"/>
            <a:ext cx="13921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нквей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заметное, хруп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величивает, чувствует, определя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ет человека сильным и свободны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D:\Desktop\Кафедра педагогики на сайт 04062015\74407797_large_231896543_vectorized.png"/>
          <p:cNvPicPr/>
          <p:nvPr/>
        </p:nvPicPr>
        <p:blipFill>
          <a:blip r:embed="rId1"/>
          <a:stretch/>
        </p:blipFill>
        <p:spPr>
          <a:xfrm>
            <a:off x="6524640" y="0"/>
            <a:ext cx="2619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равственное воспит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дагогический процесс формирования ценностных ориентаций как важнейших элементов внутренней структуры личнос- ти, которые, выражаясь в установках, свойствах и качествах, определяют отно- шение человека к обществу, природе, другим людям, самому себ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7786800" y="4572000"/>
          <a:ext cx="9921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4572000"/>
                    <a:ext cx="992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Ценности личност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утренний, эмоционально освоенный регулятор деятельности, определяющий отношение к окружающему миру и к себе и моделирующий содержание и характер выполняемой им деятель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D:\Desktop\Кафедра педагогики на сайт 04062015\zdjecie-1272.jpg"/>
          <p:cNvPicPr/>
          <p:nvPr/>
        </p:nvPicPr>
        <p:blipFill>
          <a:blip r:embed="rId1"/>
          <a:stretch/>
        </p:blipFill>
        <p:spPr>
          <a:xfrm>
            <a:off x="7308720" y="4869000"/>
            <a:ext cx="1416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нности, три подсистем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гни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ценностные представления чело- века (знания, мировоззрение, представление о своей жизни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мо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относительно устойчивые чувства человека к объектам, выражающиеся в эмоцио- нальной оценке (эмоционально-ценностные отношения к миру, своим связям, чувствам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веденческ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предрасположенность к тому или иному типу социального повед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еловек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бъект, уникальность, позволяющая быть универсальным критерием и исчерпывающей мерой жизнедеятельности общества и индивид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2987640" y="4959360"/>
            <a:ext cx="45846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вобод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стояние души человека обеспечивает ему естественное и потому наиболее органичное и полное самовыраж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л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вокупность общественных тре- бований к поведению, которые, будучи принятыми человеком, становятся обязанностью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464080" y="5599080"/>
            <a:ext cx="34704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вес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знание и чувство моральной ответственности за свои поступки не перед обществом, а перед своим "я"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характеристика эстетических и этических явлений, гармония формы и содерж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508720" y="5300640"/>
            <a:ext cx="276048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уховность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собое внутренне состояние, гармония умственных и нравственных сил человека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0:16:10Z</dcterms:created>
  <dc:creator>xxx</dc:creator>
  <dc:description/>
  <dc:language>en-US</dc:language>
  <cp:lastModifiedBy>Slushatel</cp:lastModifiedBy>
  <dcterms:modified xsi:type="dcterms:W3CDTF">2017-04-12T09:48:19Z</dcterms:modified>
  <cp:revision>31</cp:revision>
  <dc:subject/>
  <dc:title>Аксиологические основы формирования нравственных  ценностей школьников</dc:title>
</cp:coreProperties>
</file>