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png" ContentType="image/png"/>
  <Override PartName="/ppt/media/image4.gif" ContentType="image/gif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8361-06E2-44C3-9F51-0AEC6ECEC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5B1A-8F69-4228-B6E0-18214F3BD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ED6D-0C65-4A68-BAA7-A3A62F553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B520-143B-4D80-A382-23297EBD8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116AB2-8905-46DF-8AB0-DC629CD4D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CC2C9B-537F-4DB9-A0E6-302B35B01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430762-F8E8-4C35-906F-4CF5CBAFF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E8BA6A-8EA2-4F10-83C2-3C3F2F830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FB7CF7-1BAD-4FAF-B448-38B3CC095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54E634-CE6E-4F0C-89F6-857AD184C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F92861-AFD0-4A44-B244-52B9C1B66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B13A-77EF-49E6-B62F-168AD0B81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BBB839-A955-4137-B497-7C8B733E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4E8897-8B5E-456A-86DE-29CD2B0B3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93BCEF-BE50-4348-87AF-E2494EEEA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B51FB1-80FE-48D6-959E-4E4383C9E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B553F7-B1F9-4C0A-8C9D-5CBAAE734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ADFF9-7391-42BC-A807-987E251B3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F9B09-5882-480D-B892-243EC1932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376BC-D1D1-4F38-9AD6-B2C3CC198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6B356-4D5B-487C-96AD-ED1AD455B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387A8-DA91-49B5-BE4E-7E8779726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5D35-991F-4969-9B1D-61CFC740B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FFF99-0C15-4814-B589-0E8369F53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FF762-2E35-447B-8D42-10552740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4CC2D-B763-4858-8889-91FC632E6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B1D6D-84C7-4878-BF7E-46DFE22A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C923A-E968-478A-93E6-042D318F8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76BE0-448B-4A1B-9727-74439CA35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9F49F-B69A-4E99-8B9E-70D70ECBA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6937-F525-46C8-AE90-351B0D1C7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39AF-7E35-495D-943B-35E7EBD01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B709-B35F-4C2E-B614-09883E655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4BE6-80E3-46EA-803B-BF327C20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A997-813F-4668-8F65-FB17776D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1C8B-9434-448E-9FF2-AA4349913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DBC45-6356-4E70-9E07-06B136E129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09BFD-7947-4848-8D71-5DE589D63C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8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0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A9C85-DD62-4071-A9B1-5A93D65915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Конкурс программистов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акие имена правильные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229600" cy="33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z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&amp;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Wh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y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Qu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AB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+B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колько раз выполнится цикл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a :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for i:=3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1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 d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:= a+1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a :=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for i: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 dow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1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 d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:= a+1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WordArt 2"/>
          <p:cNvSpPr txBox="1"/>
          <p:nvPr/>
        </p:nvSpPr>
        <p:spPr>
          <a:xfrm>
            <a:off x="6516720" y="5229360"/>
            <a:ext cx="2314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  тур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4" name="WordArt 3"/>
          <p:cNvSpPr txBox="1"/>
          <p:nvPr/>
        </p:nvSpPr>
        <p:spPr>
          <a:xfrm>
            <a:off x="1692360" y="1268280"/>
            <a:ext cx="6769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курс корректоров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5" name="Picture 5" descr="214"/>
          <p:cNvPicPr/>
          <p:nvPr/>
        </p:nvPicPr>
        <p:blipFill>
          <a:blip r:embed="rId3"/>
          <a:stretch/>
        </p:blipFill>
        <p:spPr>
          <a:xfrm>
            <a:off x="1476360" y="5013360"/>
            <a:ext cx="1943280" cy="11764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214"/>
          <p:cNvPicPr/>
          <p:nvPr/>
        </p:nvPicPr>
        <p:blipFill>
          <a:blip r:embed="rId4"/>
          <a:stretch/>
        </p:blipFill>
        <p:spPr>
          <a:xfrm>
            <a:off x="3780000" y="5445000"/>
            <a:ext cx="1296720" cy="78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22960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йдите ошибки в программ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а_1. Решить квадратное уравнен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Найти и исправить ошиб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urav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,c: integer; x:re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ln(a,b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=0 then if c=0 then writeln(‘x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бо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) else writeln(‘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se if c=0 then writeln(‘x=0’) else writeln(‘x1=’,-sqrt(c/a),’x2=’,sqrt(c/a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а_2. Определить наименьшую цифру чис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minimi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 min,z,a: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ln(a)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:=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a&gt;1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:=a mod 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z&lt;min then min:=z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=a div 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ln(z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йдите ошибки в программ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68360" y="1483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а 3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уществить реверс элементов одномерного масси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rev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 a:array[1..10] of 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: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i:=1 to 10 do readln(a[i]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i:=1 to 10 do a[10+1-i]:=a[i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i:=1 to 10 do write(a[i]: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йдите ошибки в программ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WordArt 2"/>
          <p:cNvSpPr txBox="1"/>
          <p:nvPr/>
        </p:nvSpPr>
        <p:spPr>
          <a:xfrm>
            <a:off x="6516720" y="5229360"/>
            <a:ext cx="2314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2  тур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4" name="WordArt 3"/>
          <p:cNvSpPr txBox="1"/>
          <p:nvPr/>
        </p:nvSpPr>
        <p:spPr>
          <a:xfrm>
            <a:off x="1692360" y="1268280"/>
            <a:ext cx="6769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курс разработчиков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5" name="Picture 6" descr="230"/>
          <p:cNvPicPr/>
          <p:nvPr/>
        </p:nvPicPr>
        <p:blipFill>
          <a:blip r:embed="rId3"/>
          <a:stretch/>
        </p:blipFill>
        <p:spPr>
          <a:xfrm>
            <a:off x="2556000" y="4365720"/>
            <a:ext cx="1523880" cy="167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ходной файл – 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zadanie.i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ходной файл – 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zadanie.o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адания для 1-ой команд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оичное число, введенное пользователем преобразовать в десятичное чис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ить, какие различные числа входят в целое чис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адания для 2-ой команд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исло, представленное в шестнадцатеричной системе счисления, перевести в десятичную систему счис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ить, есть ли в целом числе две подряд идущие одинаковые цифры и как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WordArt 2"/>
          <p:cNvSpPr txBox="1"/>
          <p:nvPr/>
        </p:nvSpPr>
        <p:spPr>
          <a:xfrm>
            <a:off x="6516720" y="5229360"/>
            <a:ext cx="2314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3  тур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9" name="WordArt 3"/>
          <p:cNvSpPr txBox="1"/>
          <p:nvPr/>
        </p:nvSpPr>
        <p:spPr>
          <a:xfrm>
            <a:off x="1692360" y="1268280"/>
            <a:ext cx="6769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курс болельщиков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0" name="Picture 6" descr="230"/>
          <p:cNvPicPr/>
          <p:nvPr/>
        </p:nvPicPr>
        <p:blipFill>
          <a:blip r:embed="rId3"/>
          <a:stretch/>
        </p:blipFill>
        <p:spPr>
          <a:xfrm>
            <a:off x="2556000" y="4365720"/>
            <a:ext cx="1523880" cy="167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айте ответы на следующие вопро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39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аком году был разработан язык Паскал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едения об окружающем мире и о нас сам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довательность действий, которая приводит к решению поставленной 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нимальная единица хранения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ократное повторение одних и тех же дейст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ваш класс приходит новый ученик по фамилии Афанасенко. Вы справшиваете учителя, кто это: девочка или мальчик. Какое количество информации содержит ответ учител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8" descr="209"/>
          <p:cNvPicPr/>
          <p:nvPr/>
        </p:nvPicPr>
        <p:blipFill>
          <a:blip r:embed="rId1"/>
          <a:stretch/>
        </p:blipFill>
        <p:spPr>
          <a:xfrm>
            <a:off x="1762200" y="3500280"/>
            <a:ext cx="2592360" cy="1795680"/>
          </a:xfrm>
          <a:prstGeom prst="rect">
            <a:avLst/>
          </a:prstGeom>
          <a:ln w="0">
            <a:noFill/>
          </a:ln>
        </p:spPr>
      </p:pic>
      <p:sp>
        <p:nvSpPr>
          <p:cNvPr id="163" name="WordArt 5"/>
          <p:cNvSpPr txBox="1"/>
          <p:nvPr/>
        </p:nvSpPr>
        <p:spPr>
          <a:xfrm rot="21144600">
            <a:off x="324000" y="1412640"/>
            <a:ext cx="82296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7d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тборочный тур</a:t>
            </a:r>
            <a:endParaRPr b="1" lang="en-US" sz="1800" spc="1" strike="noStrike">
              <a:ln w="25560">
                <a:solidFill>
                  <a:srgbClr val="00007d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4" name="Picture 7" descr="i1"/>
          <p:cNvPicPr/>
          <p:nvPr/>
        </p:nvPicPr>
        <p:blipFill>
          <a:blip r:embed="rId2"/>
          <a:stretch/>
        </p:blipFill>
        <p:spPr>
          <a:xfrm>
            <a:off x="6443640" y="2924280"/>
            <a:ext cx="1716120" cy="207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WordArt 5"/>
          <p:cNvSpPr txBox="1"/>
          <p:nvPr/>
        </p:nvSpPr>
        <p:spPr>
          <a:xfrm>
            <a:off x="250920" y="1484280"/>
            <a:ext cx="7561080" cy="10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Он всегда имел запас калькуляторов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04" name="WordArt 6"/>
          <p:cNvSpPr txBox="1"/>
          <p:nvPr/>
        </p:nvSpPr>
        <p:spPr>
          <a:xfrm>
            <a:off x="3924360" y="1700280"/>
            <a:ext cx="1704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ас кал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Найдите знакомые термины в следующих фраза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WordArt 4"/>
          <p:cNvSpPr txBox="1"/>
          <p:nvPr/>
        </p:nvSpPr>
        <p:spPr>
          <a:xfrm>
            <a:off x="1042920" y="2708280"/>
            <a:ext cx="649152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о приказу директор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мы шкаф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ереставили в угол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07" name="WordArt 5"/>
          <p:cNvSpPr txBox="1"/>
          <p:nvPr/>
        </p:nvSpPr>
        <p:spPr>
          <a:xfrm>
            <a:off x="2844720" y="3467160"/>
            <a:ext cx="2374920" cy="3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мы ш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684360" y="692280"/>
            <a:ext cx="7848360" cy="42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.   В коробке лежат 5 карандашей: </a:t>
            </a: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2 сини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 красны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Сколько карандашей надо взять из коробки, не заглядывая в неё, чтобы среди них был хотя бы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один красны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карандаш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. Отгадайте ана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5"/>
          <p:cNvSpPr/>
          <p:nvPr/>
        </p:nvSpPr>
        <p:spPr>
          <a:xfrm>
            <a:off x="395280" y="3500280"/>
            <a:ext cx="7705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олодая наука, рожденная компьютер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WordArt 6"/>
          <p:cNvSpPr txBox="1"/>
          <p:nvPr/>
        </p:nvSpPr>
        <p:spPr>
          <a:xfrm>
            <a:off x="1187280" y="5084640"/>
            <a:ext cx="61930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ОК  +  УМ  +  НЕТ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457200" y="457200"/>
            <a:ext cx="757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редства взаимодействия программы и пользовате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WordArt 4"/>
          <p:cNvSpPr txBox="1"/>
          <p:nvPr/>
        </p:nvSpPr>
        <p:spPr>
          <a:xfrm>
            <a:off x="1042920" y="2060640"/>
            <a:ext cx="61912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ЕЙФ  +  РЕ  +  НИ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68000" y="691920"/>
            <a:ext cx="7488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Компьютерное зазеркал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лговременный склероз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Оперативная памя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окальный компью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Глобальная се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цовский бло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Материнская пла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9" dur="10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1" dur="1000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3" dur="1000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WordArt 2"/>
          <p:cNvSpPr txBox="1"/>
          <p:nvPr/>
        </p:nvSpPr>
        <p:spPr>
          <a:xfrm>
            <a:off x="6516720" y="5229360"/>
            <a:ext cx="2314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4  тур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5" name="WordArt 3"/>
          <p:cNvSpPr txBox="1"/>
          <p:nvPr/>
        </p:nvSpPr>
        <p:spPr>
          <a:xfrm>
            <a:off x="1692360" y="1268280"/>
            <a:ext cx="6769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курс оптимизаторов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6" name="Picture 14" descr="218"/>
          <p:cNvPicPr/>
          <p:nvPr/>
        </p:nvPicPr>
        <p:blipFill>
          <a:blip r:embed="rId3"/>
          <a:stretch/>
        </p:blipFill>
        <p:spPr>
          <a:xfrm>
            <a:off x="2411280" y="3645000"/>
            <a:ext cx="1905120" cy="157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Друзья мои!</a:t>
            </a:r>
            <a:br>
              <a:rPr sz="3200"/>
            </a:b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 Поверьте: год за годом</a:t>
            </a:r>
            <a:br>
              <a:rPr sz="3200"/>
            </a:b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Не отпадет нам в информатике нужда,</a:t>
            </a:r>
            <a:br>
              <a:rPr sz="3200"/>
            </a:b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компьютер перестан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быть нам богом –</a:t>
            </a:r>
            <a:br>
              <a:rPr sz="3200"/>
            </a:b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Мы подчиним его себе, и – НАВСЕ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Точное и понятное предписание исполнителю совершить указанную последовательность команд называетс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9640" y="2492280"/>
            <a:ext cx="8229600" cy="34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грам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лгоритм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лок-схе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507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Первую модель вычислительной машины, которая могла выполнять арифметические операции, созд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льгельм Лейбни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рл Гау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рльз Бэббид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лез Паска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фнутий Чебыш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Первая программа была написан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рльзом Бэббидж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дой Августой Лавлей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вардом Айке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ом Алле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Возможность применения алгоритма для решения любой задачи из круга задач, для которого он был предназначен. О каком свойстве идёт реч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2852640"/>
            <a:ext cx="8229600" cy="22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зультатив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ссов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днознач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скрет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Циклический алгоритм – эт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ногократное повторение однотипных действий при различных значениях параметров, определяющих эти действ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полнение операций, предполагающих различные варианты действ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следовательное выполнение операций в порядке их следо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лгоритм перехода на начало программ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8000" y="1268280"/>
            <a:ext cx="8856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н фрагмент программы на языке Паскаль: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:=27;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f a&gt;0 then a:=a*2 else a:=a+2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riteln(a)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будет выведено на экран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24000" y="328428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общение об ошиб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0560" y="456840"/>
            <a:ext cx="8713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Расставьте строки программы в правильном порядке, чтобы получилась программа, которая находит сумму первых десяти натуральных чисе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11280" y="256536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:=0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riteln(s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ar i,s:integer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:=s+i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10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 i:=1 to 10 d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4T10:57:42Z</dcterms:created>
  <dc:creator>щзщз</dc:creator>
  <dc:description/>
  <dc:language>en-US</dc:language>
  <cp:lastModifiedBy>acer pc</cp:lastModifiedBy>
  <dcterms:modified xsi:type="dcterms:W3CDTF">2013-11-27T17:01:33Z</dcterms:modified>
  <cp:revision>36</cp:revision>
  <dc:subject/>
  <dc:title>Слайд 1</dc:title>
</cp:coreProperties>
</file>