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7A6764-DF6F-4793-8CF5-0F5ED6EA6CD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F2E59C-141F-42DA-9550-5B2CE7FFE95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313C6B-275D-4FD0-A8D6-9FF162AD726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6BE4AE-6360-4C44-BDC4-FF654D2987E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64CE26-BC8E-4731-AE7F-9A0B650B125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CA8E18-CE1B-43E3-BB5F-8F3E36C1742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47A23A-2C06-4413-86A1-20BD702C7C0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17AC03-6AED-4EEA-9184-79261091CDD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F70914-03DA-4525-B348-00C69D9E7D1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DE6A17-256C-44B6-963E-778BAC03EF9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0D4599-5DBE-4780-A9A1-C3A436EA9CC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4CF454-6F26-4615-AA5A-FA68E4BCB648}"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5E011F-952B-4D5D-ADBF-48827BA7941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925C9E-2DE4-49CF-A17E-1696EA94EF9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02CB9F-8B0E-43B5-ACA0-A8D92C8889B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68F3AD-B7CD-4F11-B702-32E8699CCC1B}"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2EEE97-8FEC-4F67-944E-8D150F734FB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518EA4-EE47-44DB-9E33-C36FD976D12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68C3A5-FC35-4E90-8B03-1DC23FD8E85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EF154F-EF51-471F-A258-DFBA4637BE5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AF06F2-CE85-41D3-8F51-BDE73E33806B}"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0C6F54-4404-4940-BC13-2135C5706C1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C48D2F-23C1-4E5C-912B-BD68A7FECC7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9A3588-DB20-4093-AAB1-417EAAD76E3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230B6D-123D-4A52-9604-4CBCBE9582B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05AB0A44-EBA9-4C9C-B6F8-3E52D897F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7" name="PlaceHolder 6"/>
          <p:cNvSpPr>
            <a:spLocks noGrp="1"/>
          </p:cNvSpPr>
          <p:nvPr>
            <p:ph type="sldNum" idx="2"/>
          </p:nvPr>
        </p:nvSpPr>
        <p:spPr/>
        <p:txBody>
          <a:bodyPr/>
          <a:p>
            <a:fld id="{9E841027-3D98-4BF7-8BFA-277A72642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9" name="PlaceHolder 8"/>
          <p:cNvSpPr>
            <a:spLocks noGrp="1"/>
          </p:cNvSpPr>
          <p:nvPr>
            <p:ph type="sldNum" idx="2"/>
          </p:nvPr>
        </p:nvSpPr>
        <p:spPr/>
        <p:txBody>
          <a:bodyPr/>
          <a:p>
            <a:fld id="{683519C7-7B4D-424E-ACD7-1DFF93E3F16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06B8A5C2-A31A-4336-A24E-20B82417A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FA5A4C34-4D70-48C1-8A5E-70047F70F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C4EEB9DF-87A9-4A6C-B1F8-30FDCF529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0F9703B0-2DBE-4EC0-A708-0FFE1C16C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 name="PlaceHolder 2"/>
          <p:cNvSpPr>
            <a:spLocks noGrp="1"/>
          </p:cNvSpPr>
          <p:nvPr>
            <p:ph type="sldNum" idx="2"/>
          </p:nvPr>
        </p:nvSpPr>
        <p:spPr/>
        <p:txBody>
          <a:bodyPr/>
          <a:p>
            <a:fld id="{7F2744B8-29B2-43C7-BEEE-6830034A9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114DE7C7-B7D0-4C17-ABFE-25E0C9288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17A74900-3298-4A67-967D-30975C777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46AC7F9C-2F99-4F44-AD31-DC696D0D7BF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Click to edit the outline text format</a:t>
            </a:r>
            <a:endParaRPr b="0" i="1" lang="en-US" sz="2800" spc="-1" strike="noStrike">
              <a:solidFill>
                <a:srgbClr val="00206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cond Outline Level</a:t>
            </a:r>
            <a:endParaRPr b="0" i="1" lang="en-US" sz="2800" spc="-1" strike="noStrike">
              <a:solidFill>
                <a:srgbClr val="00206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Third Outline Level</a:t>
            </a:r>
            <a:endParaRPr b="0" i="1" lang="en-US" sz="2800" spc="-1" strike="noStrike">
              <a:solidFill>
                <a:srgbClr val="00206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ourth Outline Level</a:t>
            </a:r>
            <a:endParaRPr b="0" i="1" lang="en-US" sz="2800" spc="-1" strike="noStrike">
              <a:solidFill>
                <a:srgbClr val="00206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ifth Outline Level</a:t>
            </a:r>
            <a:endParaRPr b="0" i="1" lang="en-US" sz="2800" spc="-1" strike="noStrike">
              <a:solidFill>
                <a:srgbClr val="00206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ixth Outline Level</a:t>
            </a:r>
            <a:endParaRPr b="0" i="1" lang="en-US" sz="2800" spc="-1" strike="noStrike">
              <a:solidFill>
                <a:srgbClr val="00206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venth Outline Level</a:t>
            </a:r>
            <a:endParaRPr b="0" i="1" lang="en-US" sz="2800" spc="-1" strike="noStrike">
              <a:solidFill>
                <a:srgbClr val="002060"/>
              </a:solidFill>
              <a:latin typeface="Times New Roman"/>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E740E53-3A1C-4246-BF56-0E15EC0942C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685800" y="1484280"/>
            <a:ext cx="7772400" cy="21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5400" spc="-1" strike="noStrike">
                <a:solidFill>
                  <a:srgbClr val="ff0000"/>
                </a:solidFill>
                <a:latin typeface="Times New Roman"/>
                <a:ea typeface="Times New Roman"/>
              </a:rPr>
              <a:t>Тесты на уроках музыки</a:t>
            </a:r>
            <a:br>
              <a:rPr sz="5400"/>
            </a:br>
            <a:endParaRPr b="0" lang="en-US" sz="5400" spc="-1" strike="noStrike">
              <a:solidFill>
                <a:srgbClr val="ffffff"/>
              </a:solidFill>
              <a:latin typeface="Arial"/>
            </a:endParaRPr>
          </a:p>
        </p:txBody>
      </p:sp>
      <p:sp>
        <p:nvSpPr>
          <p:cNvPr id="50" name="Text Box 2"/>
          <p:cNvSpPr/>
          <p:nvPr/>
        </p:nvSpPr>
        <p:spPr>
          <a:xfrm>
            <a:off x="1371600" y="5418000"/>
            <a:ext cx="7448400" cy="93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457200" y="-792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2"/>
          <p:cNvSpPr/>
          <p:nvPr/>
        </p:nvSpPr>
        <p:spPr>
          <a:xfrm>
            <a:off x="457200" y="692280"/>
            <a:ext cx="8229600" cy="5433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Преимущества тестовых форм контроля:</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индивидуальный характер контроля каждого ребенка.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регулярного систематичного проведения тестового контроля на всех этапах контроля обучени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сочетания её с другими традиционными формами педагогического контрол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сесторонность, заключающаяся в том, что тест может охватывать все разделы учебной программы, обеспечивать полную проверку теоретических знаний, интеллектуальных и практических умений и навыков учащихся. </a:t>
            </a:r>
            <a:br>
              <a:rPr sz="2400"/>
            </a:b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объективность тестового контрол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единство требований ко всем испытуемым, вне зависимости от их прошлых учебных достижений.</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эффективность, позволяющая проводить контроль за короткое время с минимальными затратами.</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тестовые формы контроля как средство стимулирования систематической деятельности учащихся на уроке.</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возможность применения современных компьютерных средств в тестировании.</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Text Box 2"/>
          <p:cNvSpPr/>
          <p:nvPr/>
        </p:nvSpPr>
        <p:spPr>
          <a:xfrm>
            <a:off x="250920" y="260280"/>
            <a:ext cx="8642160" cy="63374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ff0000"/>
                </a:solidFill>
                <a:latin typeface="Times New Roman"/>
                <a:ea typeface="Times New Roman"/>
              </a:rPr>
              <a:t>Основные требования для составления тестовых заданий:</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 тесте должна быть устранена всякая двусмысленность или неясность формулировок.</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Основная часть задания формулируется предельно кратко, как правило, не более одного предложения из 7-8 слов.</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Задание имеет предельно простую синтаксическую конструкцию, в основной тест задания вводится не более одного придаточного предложения.</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се ответы к одному заданию должны быть приблизительно одной длины.</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Номер места для правильного ответа выбирается в случайном порядке.</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Из ответов обязательно исключаются все повторяющиеся слова путём ввода их в основной тест задани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В ответах не рекомендуется использовать слова “все”, “ни одного”, “никогда”, “всегда” и т.д., так как в отдельных случаях они способствуют угадыванию правильного ответа.</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Из числа тестовых заданий исключаются такие, которые содержат оценочные суждения и мнения обучающегося по какому-либо вопросу.</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Основная часть задания формулируется в форме утверждения.</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Text Box 2"/>
          <p:cNvSpPr/>
          <p:nvPr/>
        </p:nvSpPr>
        <p:spPr>
          <a:xfrm>
            <a:off x="179280" y="476280"/>
            <a:ext cx="8713800" cy="5649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Основные требования тестовых технологи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адаптивность</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качество</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эффективность.</a:t>
            </a:r>
            <a:endParaRPr b="0" lang="en-US" sz="32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с выбором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эти задания состоят из двух часте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первая</a:t>
            </a:r>
            <a:r>
              <a:rPr b="0" i="1" lang="ru-RU" sz="2800" spc="-1" strike="noStrike">
                <a:solidFill>
                  <a:srgbClr val="ffff00"/>
                </a:solidFill>
                <a:latin typeface="Times New Roman"/>
                <a:ea typeface="Times New Roman"/>
              </a:rPr>
              <a:t> </a:t>
            </a:r>
            <a:r>
              <a:rPr b="0" i="1" lang="ru-RU" sz="2800" spc="-1" strike="noStrike">
                <a:solidFill>
                  <a:srgbClr val="002060"/>
                </a:solidFill>
                <a:latin typeface="Times New Roman"/>
                <a:ea typeface="Times New Roman"/>
              </a:rPr>
              <a:t>– содержит постановку проблемы,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вторая </a:t>
            </a:r>
            <a:r>
              <a:rPr b="0" i="1" lang="ru-RU" sz="2800" spc="-1" strike="noStrike">
                <a:solidFill>
                  <a:srgbClr val="002060"/>
                </a:solidFill>
                <a:latin typeface="Times New Roman"/>
                <a:ea typeface="Times New Roman"/>
              </a:rPr>
              <a:t>– варианты готов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Чем больше ошибок в вариантах готовых ответов, тем меньше вероятность угадывания правильных ответов. Неправильные ответы называют дистракторами или ошибками. Число ошибок не должно превышать более пяти. Все ошибки должны быть правдоподобными. Тестовые задания сопровождаются инструкцией по их выполнению.</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Text Box 2"/>
          <p:cNvSpPr/>
          <p:nvPr/>
        </p:nvSpPr>
        <p:spPr>
          <a:xfrm>
            <a:off x="457200" y="549360"/>
            <a:ext cx="8229600" cy="55767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Закрытые задания </a:t>
            </a:r>
            <a:r>
              <a:rPr b="0" i="1" lang="ru-RU" sz="2800" spc="-1" strike="noStrike">
                <a:solidFill>
                  <a:srgbClr val="002060"/>
                </a:solidFill>
                <a:latin typeface="Times New Roman"/>
                <a:ea typeface="Times New Roman"/>
              </a:rPr>
              <a:t>(задания с выбором ответов, при которых учащийся  выбирает правильный ответ из числа готовых, прилагаемых в задании теста</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как правило 3-4 варианта).</a:t>
            </a:r>
            <a:endParaRPr b="0" lang="en-US" sz="2800" spc="-1" strike="noStrike">
              <a:solidFill>
                <a:srgbClr val="ffffff"/>
              </a:solidFill>
              <a:latin typeface="Arial"/>
            </a:endParaRPr>
          </a:p>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Открытые задания </a:t>
            </a:r>
            <a:r>
              <a:rPr b="0" i="1" lang="ru-RU" sz="2800" spc="-1" strike="noStrike">
                <a:solidFill>
                  <a:srgbClr val="002060"/>
                </a:solidFill>
                <a:latin typeface="Times New Roman"/>
                <a:ea typeface="Times New Roman"/>
              </a:rPr>
              <a:t>(задания, в которых испытуемый  сам формулирует ответ).</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Text Box 2"/>
          <p:cNvSpPr/>
          <p:nvPr/>
        </p:nvSpPr>
        <p:spPr>
          <a:xfrm>
            <a:off x="457200" y="333360"/>
            <a:ext cx="8229600" cy="5792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с двумя ответами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ответы на эти задания основаны на утверждении того, что является верным. Среди двух ответов один – ошибка, другой верный. Такие формы тестовых заданий используются во всех типах тест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Вариация – это форма в музыке, состоящая из темы и ряда изменённых повторени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да</a:t>
            </a:r>
            <a:br>
              <a:rPr sz="2800"/>
            </a:br>
            <a:r>
              <a:rPr b="0" i="1" lang="ru-RU" sz="2800" spc="-1" strike="noStrike">
                <a:solidFill>
                  <a:srgbClr val="002060"/>
                </a:solidFill>
                <a:latin typeface="Times New Roman"/>
                <a:ea typeface="Times New Roman"/>
              </a:rPr>
              <a:t>б)  нет</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Text Box 2"/>
          <p:cNvSpPr/>
          <p:nvPr/>
        </p:nvSpPr>
        <p:spPr>
          <a:xfrm>
            <a:off x="250920" y="260280"/>
            <a:ext cx="87138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Задания с выбором нескольких правильн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в инструкции, предваряющей тестовое задание, должно быть указано количество правильных ответов. Такая инструкция может иметь следующий вид: обведите номера трёх (двух) правильных ответов. Например, задание: Какие из балетов принадлежат П.И.Чайковскому?</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Спящая красавица»</a:t>
            </a:r>
            <a:br>
              <a:rPr sz="2800"/>
            </a:br>
            <a:r>
              <a:rPr b="0" i="1" lang="ru-RU" sz="2800" spc="-1" strike="noStrike">
                <a:solidFill>
                  <a:srgbClr val="002060"/>
                </a:solidFill>
                <a:latin typeface="Times New Roman"/>
                <a:ea typeface="Times New Roman"/>
              </a:rPr>
              <a:t>б)  «Лебединое озеро»</a:t>
            </a:r>
            <a:br>
              <a:rPr sz="2800"/>
            </a:br>
            <a:r>
              <a:rPr b="0" i="1" lang="ru-RU" sz="2800" spc="-1" strike="noStrike">
                <a:solidFill>
                  <a:srgbClr val="002060"/>
                </a:solidFill>
                <a:latin typeface="Times New Roman"/>
                <a:ea typeface="Times New Roman"/>
              </a:rPr>
              <a:t>в)  «Золушка»</a:t>
            </a:r>
            <a:br>
              <a:rPr sz="2800"/>
            </a:br>
            <a:r>
              <a:rPr b="0" i="1" lang="ru-RU" sz="2800" spc="-1" strike="noStrike">
                <a:solidFill>
                  <a:srgbClr val="002060"/>
                </a:solidFill>
                <a:latin typeface="Times New Roman"/>
                <a:ea typeface="Times New Roman"/>
              </a:rPr>
              <a:t>г)  «Щелкунчик»</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на выбор неправильного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инструкция имеет вид: обведите номер неправильного ответ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акая из сказочных опер не принадлежит Н.А.Римскому-Корсакову?</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Руслан и Людмила»</a:t>
            </a:r>
            <a:br>
              <a:rPr sz="2800"/>
            </a:br>
            <a:r>
              <a:rPr b="0" i="1" lang="ru-RU" sz="2800" spc="-1" strike="noStrike">
                <a:solidFill>
                  <a:srgbClr val="002060"/>
                </a:solidFill>
                <a:latin typeface="Times New Roman"/>
                <a:ea typeface="Times New Roman"/>
              </a:rPr>
              <a:t>б)  «Золотой петушок»</a:t>
            </a:r>
            <a:br>
              <a:rPr sz="2800"/>
            </a:br>
            <a:r>
              <a:rPr b="0" i="1" lang="ru-RU" sz="2800" spc="-1" strike="noStrike">
                <a:solidFill>
                  <a:srgbClr val="002060"/>
                </a:solidFill>
                <a:latin typeface="Times New Roman"/>
                <a:ea typeface="Times New Roman"/>
              </a:rPr>
              <a:t>в)  «Снегурочка»</a:t>
            </a:r>
            <a:br>
              <a:rPr sz="2800"/>
            </a:br>
            <a:r>
              <a:rPr b="0" i="1" lang="ru-RU" sz="2800" spc="-1" strike="noStrike">
                <a:solidFill>
                  <a:srgbClr val="002060"/>
                </a:solidFill>
                <a:latin typeface="Times New Roman"/>
                <a:ea typeface="Times New Roman"/>
              </a:rPr>
              <a:t>г)  «Садко»</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457200" y="-22536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Text Box 2"/>
          <p:cNvSpPr/>
          <p:nvPr/>
        </p:nvSpPr>
        <p:spPr>
          <a:xfrm>
            <a:off x="457200" y="836640"/>
            <a:ext cx="8229600" cy="5289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Урок музыки так же, как и любой другой учебный предмет в школе, нуждается в такой организации, чтобы учитель мог наблюдать за продвижением своих учеников на каждом  этапе работы: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в процессе усвоения новых музыкальных знаний, умений     и навык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при повторении пройденного, т.е. учет знаний должен входить во все звенья учебного процесс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Text Box 2"/>
          <p:cNvSpPr/>
          <p:nvPr/>
        </p:nvSpPr>
        <p:spPr>
          <a:xfrm>
            <a:off x="457200" y="260280"/>
            <a:ext cx="82296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дополнение </a:t>
            </a:r>
            <a:r>
              <a:rPr b="1" i="1" lang="ru-RU"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готовые ответы не даются, их должен придумать или получить сам обучающийся. Инструкция состоит из одного слова – дополнит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имер, задание: Как и любой другой вид искусства, музыка имеет множество жанровых разновидностей. Продолжи этот ря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песня;</a:t>
            </a:r>
            <a:br>
              <a:rPr sz="2800"/>
            </a:br>
            <a:r>
              <a:rPr b="0" i="1" lang="ru-RU" sz="2800" spc="-1" strike="noStrike">
                <a:solidFill>
                  <a:srgbClr val="002060"/>
                </a:solidFill>
                <a:latin typeface="Times New Roman"/>
                <a:ea typeface="Times New Roman"/>
              </a:rPr>
              <a:t>б) опера;</a:t>
            </a:r>
            <a:br>
              <a:rPr sz="2800"/>
            </a:br>
            <a:r>
              <a:rPr b="0" i="1" lang="ru-RU" sz="2800" spc="-1" strike="noStrike">
                <a:solidFill>
                  <a:srgbClr val="002060"/>
                </a:solidFill>
                <a:latin typeface="Times New Roman"/>
                <a:ea typeface="Times New Roman"/>
              </a:rPr>
              <a:t>в) частушка;</a:t>
            </a:r>
            <a:br>
              <a:rPr sz="2800"/>
            </a:br>
            <a:r>
              <a:rPr b="0" i="1" lang="ru-RU" sz="2800" spc="-1" strike="noStrike">
                <a:solidFill>
                  <a:srgbClr val="002060"/>
                </a:solidFill>
                <a:latin typeface="Times New Roman"/>
                <a:ea typeface="Times New Roman"/>
              </a:rPr>
              <a:t>г) ….</a:t>
            </a:r>
            <a:br>
              <a:rPr sz="2800"/>
            </a:br>
            <a:r>
              <a:rPr b="0" i="1" lang="ru-RU" sz="2800" spc="-1" strike="noStrike">
                <a:solidFill>
                  <a:srgbClr val="002060"/>
                </a:solidFill>
                <a:latin typeface="Times New Roman"/>
                <a:ea typeface="Times New Roman"/>
              </a:rPr>
              <a:t>д)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Text Box 2"/>
          <p:cNvSpPr/>
          <p:nvPr/>
        </p:nvSpPr>
        <p:spPr>
          <a:xfrm>
            <a:off x="179280" y="260280"/>
            <a:ext cx="878544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установление соответствия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авлены на проверку понимания на основе установления связей между элементами двух множеств. Такими множествами могут быть:</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композитор и его произведение;</a:t>
            </a:r>
            <a:br>
              <a:rPr sz="2800"/>
            </a:br>
            <a:r>
              <a:rPr b="0" i="1" lang="ru-RU" sz="2800" spc="-1" strike="noStrike">
                <a:solidFill>
                  <a:srgbClr val="002060"/>
                </a:solidFill>
                <a:latin typeface="Times New Roman"/>
                <a:ea typeface="Times New Roman"/>
              </a:rPr>
              <a:t> б) фамилия композитора и его имя;</a:t>
            </a:r>
            <a:br>
              <a:rPr sz="2800"/>
            </a:br>
            <a:r>
              <a:rPr b="0" i="1" lang="ru-RU" sz="2800" spc="-1" strike="noStrike">
                <a:solidFill>
                  <a:srgbClr val="002060"/>
                </a:solidFill>
                <a:latin typeface="Times New Roman"/>
                <a:ea typeface="Times New Roman"/>
              </a:rPr>
              <a:t> в) фамилия композитора и его национальность;</a:t>
            </a:r>
            <a:r>
              <a:rPr b="0" i="1" lang="en-US" sz="2800" spc="-1" strike="noStrike">
                <a:solidFill>
                  <a:srgbClr val="002060"/>
                </a:solidFill>
                <a:latin typeface="Times New Roman"/>
                <a:ea typeface="Times New Roman"/>
              </a:rPr>
              <a:t> </a:t>
            </a:r>
            <a:br>
              <a:rPr sz="2800"/>
            </a:br>
            <a:r>
              <a:rPr b="0" i="1" lang="ru-RU" sz="2800" spc="-1" strike="noStrike">
                <a:solidFill>
                  <a:srgbClr val="002060"/>
                </a:solidFill>
                <a:latin typeface="Times New Roman"/>
                <a:ea typeface="Times New Roman"/>
              </a:rPr>
              <a:t> г) автор и музыкальный фрагмент;</a:t>
            </a:r>
            <a:br>
              <a:rPr sz="2800"/>
            </a:br>
            <a:r>
              <a:rPr b="0" i="1" lang="ru-RU" sz="2800" spc="-1" strike="noStrike">
                <a:solidFill>
                  <a:srgbClr val="002060"/>
                </a:solidFill>
                <a:latin typeface="Times New Roman"/>
                <a:ea typeface="Times New Roman"/>
              </a:rPr>
              <a:t> д) произведение и его жанр;</a:t>
            </a:r>
            <a:br>
              <a:rPr sz="2800"/>
            </a:br>
            <a:r>
              <a:rPr b="0" i="1" lang="ru-RU" sz="2800" spc="-1" strike="noStrike">
                <a:solidFill>
                  <a:srgbClr val="002060"/>
                </a:solidFill>
                <a:latin typeface="Times New Roman"/>
                <a:ea typeface="Times New Roman"/>
              </a:rPr>
              <a:t> е) средства музыкальной выразительности и их функции в произведении;</a:t>
            </a:r>
            <a:br>
              <a:rPr sz="2800"/>
            </a:br>
            <a:r>
              <a:rPr b="0" i="1" lang="ru-RU" sz="2800" spc="-1" strike="noStrike">
                <a:solidFill>
                  <a:srgbClr val="002060"/>
                </a:solidFill>
                <a:latin typeface="Times New Roman"/>
                <a:ea typeface="Times New Roman"/>
              </a:rPr>
              <a:t>ж) тип голоса и исполняемое произвед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Text Box 2"/>
          <p:cNvSpPr/>
          <p:nvPr/>
        </p:nvSpPr>
        <p:spPr>
          <a:xfrm>
            <a:off x="179280" y="404640"/>
            <a:ext cx="878544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Какому из элементов музыкального языка соответствуют    выделенные характеристики? Соедините их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Лад             равномерный, упругий, изменчивый Регистр     быстрый, умеренный, медленный</a:t>
            </a:r>
            <a:br>
              <a:rPr sz="2800"/>
            </a:br>
            <a:r>
              <a:rPr b="0" i="1" lang="ru-RU" sz="2800" spc="-1" strike="noStrike">
                <a:solidFill>
                  <a:srgbClr val="002060"/>
                </a:solidFill>
                <a:latin typeface="Times New Roman"/>
                <a:ea typeface="Times New Roman"/>
              </a:rPr>
              <a:t>Ритм         мажорный, минорный</a:t>
            </a:r>
            <a:br>
              <a:rPr sz="2800"/>
            </a:br>
            <a:r>
              <a:rPr b="0" i="1" lang="ru-RU" sz="2800" spc="-1" strike="noStrike">
                <a:solidFill>
                  <a:srgbClr val="002060"/>
                </a:solidFill>
                <a:latin typeface="Times New Roman"/>
                <a:ea typeface="Times New Roman"/>
              </a:rPr>
              <a:t>Динамика  высокий, средний, низкий</a:t>
            </a:r>
            <a:br>
              <a:rPr sz="2800"/>
            </a:br>
            <a:r>
              <a:rPr b="0" i="1" lang="ru-RU" sz="2800" spc="-1" strike="noStrike">
                <a:solidFill>
                  <a:srgbClr val="002060"/>
                </a:solidFill>
                <a:latin typeface="Times New Roman"/>
                <a:ea typeface="Times New Roman"/>
              </a:rPr>
              <a:t>Темп           тихая, громкая</a:t>
            </a:r>
            <a:br>
              <a:rPr sz="2800"/>
            </a:br>
            <a:r>
              <a:rPr b="0" i="1" lang="ru-RU" sz="2800" spc="-1" strike="noStrike">
                <a:solidFill>
                  <a:srgbClr val="002060"/>
                </a:solidFill>
                <a:latin typeface="Times New Roman"/>
                <a:ea typeface="Times New Roman"/>
              </a:rPr>
              <a:t>Мелодия     плавная, скачкообразная, певучая</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Text Box 2"/>
          <p:cNvSpPr/>
          <p:nvPr/>
        </p:nvSpPr>
        <p:spPr>
          <a:xfrm>
            <a:off x="179280" y="549360"/>
            <a:ext cx="8785440" cy="5576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Каким музыкальным инструментам соответствуют герои симфонической сказки С.Прокофьева “Петя и волк”? Соедините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Струнные  (скрипка, виолончель)        кош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лейта                                                 охотники</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Гобой                                                     птич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ларнет                                                ут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Литавры                                               Петя</a:t>
            </a:r>
            <a:r>
              <a:rPr b="0"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агот                                                   дедуш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681200" y="1589040"/>
            <a:ext cx="3646440" cy="3444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Text Box 2"/>
          <p:cNvSpPr/>
          <p:nvPr/>
        </p:nvSpPr>
        <p:spPr>
          <a:xfrm>
            <a:off x="250920" y="1600200"/>
            <a:ext cx="87138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ff0000"/>
                </a:solidFill>
                <a:latin typeface="Times New Roman"/>
                <a:ea typeface="Times New Roman"/>
              </a:rPr>
              <a:t>    </a:t>
            </a:r>
            <a:r>
              <a:rPr b="1" i="1" lang="ru-RU" sz="4000" spc="-1" strike="noStrike">
                <a:solidFill>
                  <a:srgbClr val="ff0000"/>
                </a:solidFill>
                <a:latin typeface="Times New Roman"/>
                <a:ea typeface="Times New Roman"/>
              </a:rPr>
              <a:t>Тест</a:t>
            </a:r>
            <a:r>
              <a:rPr b="0" i="1" lang="ru-RU" sz="4000" spc="-1" strike="noStrike">
                <a:solidFill>
                  <a:srgbClr val="002060"/>
                </a:solidFill>
                <a:latin typeface="Times New Roman"/>
                <a:ea typeface="Times New Roman"/>
              </a:rPr>
              <a:t> - это набор заданий, позволяющий определить качество знаний учащихся, установить степень усвоения ими определённого материал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400" spc="-1" strike="noStrike">
                <a:solidFill>
                  <a:srgbClr val="ff0000"/>
                </a:solidFill>
                <a:latin typeface="Times New Roman"/>
                <a:ea typeface="Times New Roman"/>
              </a:rPr>
              <a:t>Цель</a:t>
            </a:r>
            <a:r>
              <a:rPr b="0" i="1" lang="ru-RU" sz="4400" spc="-1" strike="noStrike">
                <a:solidFill>
                  <a:srgbClr val="002060"/>
                </a:solidFill>
                <a:latin typeface="Times New Roman"/>
                <a:ea typeface="Times New Roman"/>
              </a:rPr>
              <a:t> — проверка теоретических знаний учащихся, полученных на уроках музыки.</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576360" y="39528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2"/>
          <p:cNvSpPr/>
          <p:nvPr/>
        </p:nvSpPr>
        <p:spPr>
          <a:xfrm>
            <a:off x="431640" y="1052640"/>
            <a:ext cx="8785440" cy="5073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600" spc="-1" strike="noStrike">
                <a:solidFill>
                  <a:srgbClr val="ff0000"/>
                </a:solidFill>
                <a:latin typeface="Times New Roman"/>
                <a:ea typeface="Times New Roman"/>
              </a:rPr>
              <a:t>                    </a:t>
            </a:r>
            <a:r>
              <a:rPr b="1" i="1" lang="ru-RU" sz="4800" spc="-1" strike="noStrike">
                <a:solidFill>
                  <a:srgbClr val="ff0000"/>
                </a:solidFill>
                <a:latin typeface="Times New Roman"/>
                <a:ea typeface="Times New Roman"/>
              </a:rPr>
              <a:t>Основные задачи :</a:t>
            </a:r>
            <a:endParaRPr b="0" lang="en-US" sz="48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определение объёма и качества освоения содержания программного материа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проверка и контроль уровня освоения видов деятельности обучающихся (музыкальной, учебной и т.д)</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Text Box 2"/>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Основные компоненты  </a:t>
            </a:r>
            <a:endParaRPr b="0" lang="en-US" sz="40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преподавательской деятельности учителя:</a:t>
            </a:r>
            <a:endParaRPr b="0" lang="en-US" sz="36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верк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контроль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оценка</a:t>
            </a: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Text Box 2"/>
          <p:cNvSpPr/>
          <p:nvPr/>
        </p:nvSpPr>
        <p:spPr>
          <a:xfrm>
            <a:off x="457200" y="404640"/>
            <a:ext cx="8229600" cy="6120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Контролировать, проверять и оценивать знания </a:t>
            </a:r>
            <a:r>
              <a:rPr b="0" i="1" lang="ru-RU" sz="2800" spc="-1" strike="noStrike">
                <a:solidFill>
                  <a:srgbClr val="002060"/>
                </a:solidFill>
                <a:latin typeface="Times New Roman"/>
                <a:ea typeface="Times New Roman"/>
              </a:rPr>
              <a:t>и умения обучающихся необходимо в той последовательности, в какой проводится их осво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в течение образовательного процесса (т.е .в течение освоения нового музыкального материала, в течение освоения содержания какой-либо темы, в течение урока, в течение триместра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по окончании определённого периода образовательного процесса (темы, раздела программы, учебного года, начальной или основной школы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Типы тестов:</a:t>
            </a:r>
            <a:r>
              <a:rPr b="1" i="1" lang="en-US" sz="4000" spc="-1" strike="noStrike">
                <a:solidFill>
                  <a:srgbClr val="ff0000"/>
                </a:solidFill>
                <a:latin typeface="Times New Roman"/>
                <a:ea typeface="Times New Roman"/>
              </a:rPr>
              <a:t>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входя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теку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межуточн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итогов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2"/>
          <p:cNvSpPr/>
          <p:nvPr/>
        </p:nvSpPr>
        <p:spPr>
          <a:xfrm>
            <a:off x="457200" y="907920"/>
            <a:ext cx="8229600" cy="52182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3600" spc="-1" strike="noStrike">
                <a:solidFill>
                  <a:srgbClr val="ff0000"/>
                </a:solidFill>
                <a:latin typeface="Times New Roman"/>
                <a:ea typeface="Times New Roman"/>
              </a:rPr>
              <a:t>Входящие (предварительные) тесты </a:t>
            </a:r>
            <a:r>
              <a:rPr b="0" i="1" lang="ru-RU" sz="3600" spc="-1" strike="noStrike">
                <a:solidFill>
                  <a:srgbClr val="002060"/>
                </a:solidFill>
                <a:latin typeface="Times New Roman"/>
                <a:ea typeface="Times New Roman"/>
              </a:rPr>
              <a:t>предназначены для предварительного измерения степени готовности к освоению учебного содержания. </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a:t>
            </a:r>
            <a:r>
              <a:rPr b="0" i="1" lang="ru-RU" sz="3600" spc="-1" strike="noStrike">
                <a:solidFill>
                  <a:srgbClr val="002060"/>
                </a:solidFill>
                <a:latin typeface="Times New Roman"/>
                <a:ea typeface="Times New Roman"/>
              </a:rPr>
              <a:t>Такие тесты уместно использовать не только в начале учебного года, но возможно и в середине, когда начинается освоение нового разде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даша</dc:creator>
  <dc:description/>
  <dc:language>en-US</dc:language>
  <cp:lastModifiedBy>Anton</cp:lastModifiedBy>
  <dcterms:modified xsi:type="dcterms:W3CDTF">2002-12-31T21:02:33Z</dcterms:modified>
  <cp:revision>108</cp:revision>
  <dc:subject/>
  <dc:title>Слайд 1</dc:title>
</cp:coreProperties>
</file>