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097-52A0-4D60-A631-1026E2E5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15D-5D5A-4882-9D4E-1806A2FD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66850-42FD-44D5-89A8-FCC44FBA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BF697-A3FB-4A3E-A7A4-01B7EA4F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27AE7-AF1B-4DED-8F77-B151231B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FB0D7-311B-4531-9A30-C9C635D2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44C51-A08C-4214-9258-AD378251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F439E-4CCD-41E4-B52B-FF127594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9137E-53F9-4B56-A643-BDCA5BD7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FBBB2-B8A2-4FB1-B291-9754AEB5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02221-1060-4A25-BE71-67F7D424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A80EA-B332-4EE3-82E9-B1C5BA88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055-5F82-4E13-A1B0-868BFC45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41AC5-ECA3-4CFE-8DF3-E77EDADA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5EAF1-C0EB-47E6-870F-B33F533A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E5CF4-959E-433C-843C-3F6FC515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54071-C8C3-4024-9745-F194740B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FBEF8-1EAA-4E13-B087-400C56BE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94753-FBDE-43EA-957B-AAE0C9BE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65B8B-7A25-48DF-9D67-58741403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42267-F279-41E7-AC35-007E050B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1A2B8-755A-427E-B307-4B71FD9D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293D3-ECD5-444C-A301-606E5A7D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AD4-5AF3-4AFE-897A-C726AB98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4ACA9-FA35-465A-930C-20ECEA6D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41DD9-5AEC-4FDF-A863-955B74AC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DEA45-D014-4B04-BC9F-E394767A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EB0D3-7653-4783-9F91-53DDA631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16EDD-EA56-4249-A4C7-73016790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77ACC-5272-4442-92E7-E4F90147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63F83-293F-48A5-9BEC-9D55211E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7338E-9A98-4257-8A5C-C66A9ADA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D79F2-109D-4B33-A426-E7FD42AF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F66E6-E23C-4DEB-B491-BEFABD7C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2485-F84C-4CA5-9185-1915FFAF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77D09-074B-470E-9F5D-14732537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1FC63-012D-4B2E-AE15-B2FFAFD4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F0C0D-A2F8-4829-B84B-DC28121E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73B5E-F0EE-412B-9F30-453A5261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101E7-8BDD-4BDB-9F6C-9E9BCE5B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133C6-18A0-47C7-B976-BE599AD5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9C981-1978-4570-8710-34C89590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3FA6C-FD74-4AE9-9ADA-83025D86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5D274-5C7A-41B7-B92C-F29D618C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55F4D-A9C5-43FE-8B5C-C719BAFB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5B36-A6E7-4BA6-80C6-16A8B39B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F3C33-CC24-4B1A-9391-CB768DF4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80026-65ED-4281-BD82-B77C880B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1DC26-84A5-47AD-8B1A-C018AE3F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648D6-7D69-4675-9C2D-A970E8FE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C0D55-0F78-474E-9C4B-637C66E1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E7AB-E244-400F-AEDC-ABF187CF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96FA-4B46-48BB-8EC6-D1A6D190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9400-D815-442C-A01D-9DAC0F9B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4184-BFB3-45C6-85C0-EC0591CC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128D-147D-40F3-BC77-FF284BEF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A133-3CF0-48EE-9743-1AB08F80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78CC-C317-4688-BB0F-1F030B7F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7A88-1741-433D-B0A5-0A0CB413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35B4-A5AC-4ABB-976C-2F095471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4025-9B1F-4BFD-9C82-B4C464E2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0837-2B8E-4893-9206-8C3B19C1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D161-FBF9-4F3E-95E8-5648ACCF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098A1-DF8E-4CC9-9515-73E41995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5240-1326-42FE-A1EB-9EDD598C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8782D-FDD2-4CF6-96D6-2E52BE6C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FB8F4-8856-4433-ABE8-C5C3968B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5C7-81D1-4AC1-9BCD-BF0D6CFE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9C99-D115-44B8-81F4-C8A50BCA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424AA-087C-4A84-A8D5-040C0F50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2903B-A270-43B1-9993-89F6DBA6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F4104-D3CE-483C-ABF2-C202F445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340DE-85E4-472C-8DB8-1B85946E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A671C-06C1-4D96-8009-9E85A517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96845-0590-4BE0-BEC5-4EABBE79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500D3-F37F-427A-B417-12D9DF4B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A0707-0ED1-4EE2-8C4A-65A37B3C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8A2D9-F209-4140-977D-7D87A31E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7D4-D727-4902-B5C8-1AEB82F5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5EA6A-B72A-4C49-8825-692B1D6D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83288-75A3-4D01-B85C-5247BCAC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0FE2A-28A5-45A6-9BEF-D6131BD2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7B72D-E7D1-4CFA-9725-BB28F6AF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38BF6-1819-45F5-92E9-0A2B2EE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95D84-46B9-43B5-8E65-95A7AEEB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7D1E1-2037-4618-9547-E9514AA6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31856-E0ED-41D0-9E15-9874E247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50710-E81D-43D0-8011-CE38E66C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05DA2-D097-49E8-BCB8-4F8B35E5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30A-91CF-469D-AB88-89C8C29B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C2444-A7CF-488D-995B-440DD77C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E729D-CF32-4AD0-9FC9-E73EB817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2085F-9330-4A68-8BC5-8E2E6EAA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75427-B9DF-4DE9-8C9F-BC59DAE2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D8353-C61B-4526-8CC4-03BC5B91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3AF4A-CE54-4CB1-AFCD-48459D1F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671A7-AEFA-41B7-BA4D-1523C0BD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7DCE9-42D7-490B-B222-75134A08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ED692-B772-49E9-AEA3-8468EEFC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B5A12-CF52-4EC8-8CF5-C072E033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98F0-2844-4A63-84E1-14078D1B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9106B-5691-48EB-AD27-B155ABB1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9EAD2-9EA5-44FF-995F-BCFD5F6A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C575D-F5F1-4C79-997A-C9C2930A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8DD21-0708-4312-BADD-47F0BF52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91B22-277E-4C06-A6AB-A2B65819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88CA7-99D5-4860-9A78-5082A972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09ACB-9576-4C7B-B81C-99348A3E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7EBEF-3078-45DD-BE4A-0B634839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46160-4900-4CEA-B440-F60449C9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8C39F-8B77-4E11-8B07-D61C0804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654-4B3E-4079-9B65-4CC53A7B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D00F9-B9EB-45EA-84C4-A79C64DC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2069D-E317-47CB-B181-2064CFDC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1B4DB-F756-417D-96AC-723A05BF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68516-AA8E-469A-ACFD-91874A51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31698-B71B-4246-B5FE-D9EF9399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F4D11-58AB-4B27-9C17-49346FCE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1F10B-1F84-472A-8BFB-4FECF65E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F64E5-2124-42F9-A514-E5C1173D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B2F1A-260E-4B1D-A722-DDC407F9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E7F77-CB72-4FA8-8DF1-02D53F37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211-100C-4068-9F44-5F250388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F1BB3-43AB-4084-8B00-BE628E45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5E28B-29EF-4C48-800F-88ECC64A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8E9FC-9741-4EB0-A771-6236698F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CD8EB-F14F-4968-9D21-AA46B14D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9469D-1CB9-4777-89EE-8666B245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63C87-2B30-4968-B09D-78B67306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3B27A-0F65-4F0F-B339-5FBD3E34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79DFF-44A2-4CB8-AB85-2D3F0E14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A6266-902B-420E-8B8F-256AF099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C9E49-2C64-4A97-A08F-F40782F3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1B0-7182-4480-AA9C-A539393C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0B607-12F4-4026-B6C9-17053FC9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FECC6-424C-40C8-9932-4FA14122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55205-70AE-4E01-9BF9-A842F757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77121-D5A0-4ECC-85C2-BFFD7327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FB47D-B035-4563-A40A-33973983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9D96C-E4CD-4ABE-A6F8-EAFE3A7F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13C5A-2EB7-46D6-895D-788E58A7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E2A6C-2125-42EF-B8E9-D98DFB0D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95503-D18C-4097-BF40-0D6D4A32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60632-E505-4656-8D6B-C497DA13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3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4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D001-6DC3-4BEE-85A3-26C9528149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5D4D-5742-49F2-AEBC-8CBA144078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8E02-2995-41AD-B78E-13E4825430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5D79-DF4F-43FC-9ACC-2DB97FE347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:\графика\asadal\scool\scool\38 [Converted].png"/>
          <p:cNvPicPr/>
          <p:nvPr/>
        </p:nvPicPr>
        <p:blipFill>
          <a:blip r:embed="rId2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3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0D81-B45F-47A6-B500-E255A832904F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C213-8950-4F5F-A782-4889114D65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DB11-8B66-4B69-8038-D40F0ED20E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18D1-7B75-4CEA-86C7-75924C963D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7B92-699C-44B6-802C-9C02A47ABB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9C8B-DE06-459C-9DC7-68E70434CD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A9B6-779C-471B-B15A-B2230F7E9B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7D04-8062-4540-8D08-922FEE6A15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0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10.jpeg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nglishteachers.ru/forum/index.php?showtopic=706&amp;view=findpost&amp;p=28385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O68uTk-T_E&amp;feature=fvw" TargetMode="External"/><Relationship Id="rId2" Type="http://schemas.openxmlformats.org/officeDocument/2006/relationships/hyperlink" Target="http://www.youtube.com/watch?v=7AxNI3PhvBo&amp;feature=related" TargetMode="External"/><Relationship Id="rId3" Type="http://schemas.openxmlformats.org/officeDocument/2006/relationships/hyperlink" Target="http://www.youtube.com/watch?v=2xeIry9Kmbk" TargetMode="External"/><Relationship Id="rId4" Type="http://schemas.openxmlformats.org/officeDocument/2006/relationships/hyperlink" Target="http://docs.google.com/present/view?id=ddz7gq4w_0dkk24ffw" TargetMode="External"/><Relationship Id="rId5" Type="http://schemas.openxmlformats.org/officeDocument/2006/relationships/hyperlink" Target="http://www.chinswing.com/" TargetMode="External"/><Relationship Id="rId6" Type="http://schemas.openxmlformats.org/officeDocument/2006/relationships/hyperlink" Target="http://www.voxopop.com/" TargetMode="External"/><Relationship Id="rId7" Type="http://schemas.openxmlformats.org/officeDocument/2006/relationships/hyperlink" Target="http://www.chinswing.com/" TargetMode="External"/><Relationship Id="rId8" Type="http://schemas.openxmlformats.org/officeDocument/2006/relationships/hyperlink" Target="http://www.voxopop.com/signup" TargetMode="External"/><Relationship Id="rId9" Type="http://schemas.openxmlformats.org/officeDocument/2006/relationships/hyperlink" Target="http://www.listen-and-write.com/" TargetMode="External"/><Relationship Id="rId10" Type="http://schemas.openxmlformats.org/officeDocument/2006/relationships/hyperlink" Target="http://www.bbc.co.uk/" TargetMode="External"/><Relationship Id="rId11" Type="http://schemas.openxmlformats.org/officeDocument/2006/relationships/hyperlink" Target="http://www.bbc.co.uk/worldservice/learningenglish/teach/discuss/2009/04/090427_teach_discuss_al.shtml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efl.ru/links/listening/" TargetMode="External"/><Relationship Id="rId14" Type="http://schemas.openxmlformats.org/officeDocument/2006/relationships/hyperlink" Target="http://www.voanews.com/specialenglish/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hyperlink" Target="http://festival.1september.ru/articles/311345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mind42.com/about;jsessionid=A9A14662DB6C776741B4C538B1BF192F" TargetMode="External"/><Relationship Id="rId7" Type="http://schemas.openxmlformats.org/officeDocument/2006/relationships/image" Target="../media/image21.gif"/><Relationship Id="rId8" Type="http://schemas.openxmlformats.org/officeDocument/2006/relationships/hyperlink" Target="file:///Trofimova%20-%20&#1087;&#1086;&#1076;&#1082;&#1072;&#1089;&#1090;&#1080;&#1085;&#1075;.doc" TargetMode="External"/><Relationship Id="rId9" Type="http://schemas.openxmlformats.org/officeDocument/2006/relationships/hyperlink" Target="file:///Rovenskikh_SV_week4_Voxopop.doc" TargetMode="External"/><Relationship Id="rId10" Type="http://schemas.openxmlformats.org/officeDocument/2006/relationships/hyperlink" Target="file:///Korneva_4_Forum.docx" TargetMode="External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-6480" y="1427040"/>
            <a:ext cx="9156960" cy="1297080"/>
          </a:xfrm>
          <a:prstGeom prst="rect">
            <a:avLst/>
          </a:prstGeom>
          <a:ln w="0">
            <a:noFill/>
          </a:ln>
        </p:spPr>
      </p:pic>
      <p:pic>
        <p:nvPicPr>
          <p:cNvPr id="498" name="Подзаголовок 2" descr=""/>
          <p:cNvPicPr/>
          <p:nvPr/>
        </p:nvPicPr>
        <p:blipFill>
          <a:blip r:embed="rId2"/>
          <a:stretch/>
        </p:blipFill>
        <p:spPr>
          <a:xfrm>
            <a:off x="-6480" y="2664000"/>
            <a:ext cx="915696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4" descr="Audio.jpg"/>
          <p:cNvPicPr/>
          <p:nvPr/>
        </p:nvPicPr>
        <p:blipFill>
          <a:blip r:embed="rId3"/>
          <a:stretch/>
        </p:blipFill>
        <p:spPr>
          <a:xfrm>
            <a:off x="122400" y="133200"/>
            <a:ext cx="3674880" cy="2318040"/>
          </a:xfrm>
          <a:prstGeom prst="rect">
            <a:avLst/>
          </a:prstGeom>
          <a:ln w="0">
            <a:noFill/>
          </a:ln>
        </p:spPr>
      </p:pic>
      <p:pic>
        <p:nvPicPr>
          <p:cNvPr id="500" name="TextBox 6" descr=""/>
          <p:cNvPicPr/>
          <p:nvPr/>
        </p:nvPicPr>
        <p:blipFill>
          <a:blip r:embed="rId4"/>
          <a:stretch/>
        </p:blipFill>
        <p:spPr>
          <a:xfrm>
            <a:off x="5205240" y="274680"/>
            <a:ext cx="3445200" cy="755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7"/>
          <p:cNvPicPr/>
          <p:nvPr/>
        </p:nvPicPr>
        <p:blipFill>
          <a:blip r:embed="rId5"/>
          <a:stretch/>
        </p:blipFill>
        <p:spPr>
          <a:xfrm>
            <a:off x="0" y="5718240"/>
            <a:ext cx="9144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541160"/>
          </a:xfrm>
          <a:prstGeom prst="rect">
            <a:avLst/>
          </a:prstGeom>
          <a:ln w="0">
            <a:noFill/>
          </a:ln>
        </p:spPr>
      </p:pic>
      <p:pic>
        <p:nvPicPr>
          <p:cNvPr id="532" name="Схема 3" descr=""/>
          <p:cNvPicPr/>
          <p:nvPr/>
        </p:nvPicPr>
        <p:blipFill>
          <a:blip r:embed="rId2"/>
          <a:stretch/>
        </p:blipFill>
        <p:spPr>
          <a:xfrm>
            <a:off x="781200" y="1285920"/>
            <a:ext cx="8229600" cy="5499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9156960" cy="1401840"/>
          </a:xfrm>
          <a:prstGeom prst="rect">
            <a:avLst/>
          </a:prstGeom>
          <a:ln w="0">
            <a:noFill/>
          </a:ln>
        </p:spPr>
      </p:pic>
      <p:pic>
        <p:nvPicPr>
          <p:cNvPr id="535" name="Схема 4" descr=""/>
          <p:cNvPicPr/>
          <p:nvPr/>
        </p:nvPicPr>
        <p:blipFill>
          <a:blip r:embed="rId2"/>
          <a:stretch/>
        </p:blipFill>
        <p:spPr>
          <a:xfrm>
            <a:off x="208080" y="1420920"/>
            <a:ext cx="8802720" cy="5235480"/>
          </a:xfrm>
          <a:prstGeom prst="rect">
            <a:avLst/>
          </a:prstGeom>
          <a:ln w="0">
            <a:noFill/>
          </a:ln>
        </p:spPr>
      </p:pic>
      <p:pic>
        <p:nvPicPr>
          <p:cNvPr id="536" name="Блок-схема: узел 9" descr=""/>
          <p:cNvPicPr/>
          <p:nvPr/>
        </p:nvPicPr>
        <p:blipFill>
          <a:blip r:embed="rId3"/>
          <a:stretch/>
        </p:blipFill>
        <p:spPr>
          <a:xfrm>
            <a:off x="3541680" y="3181320"/>
            <a:ext cx="1981080" cy="162864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0"/>
          <p:cNvSpPr/>
          <p:nvPr/>
        </p:nvSpPr>
        <p:spPr>
          <a:xfrm>
            <a:off x="6726960" y="600084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6" descr="anilook.gif"/>
          <p:cNvPicPr/>
          <p:nvPr/>
        </p:nvPicPr>
        <p:blipFill>
          <a:blip r:embed="rId5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1431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3" descr="аудир.jpg"/>
          <p:cNvPicPr/>
          <p:nvPr/>
        </p:nvPicPr>
        <p:blipFill>
          <a:blip r:embed="rId3"/>
          <a:stretch/>
        </p:blipFill>
        <p:spPr>
          <a:xfrm>
            <a:off x="5138640" y="2004840"/>
            <a:ext cx="3475080" cy="36468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4"/>
          <p:cNvSpPr/>
          <p:nvPr/>
        </p:nvSpPr>
        <p:spPr>
          <a:xfrm>
            <a:off x="714240" y="1500120"/>
            <a:ext cx="2786040" cy="538200"/>
          </a:xfrm>
          <a:prstGeom prst="can">
            <a:avLst>
              <a:gd name="adj" fmla="val 25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714240" y="2000160"/>
            <a:ext cx="2786040" cy="609840"/>
          </a:xfrm>
          <a:prstGeom prst="can">
            <a:avLst>
              <a:gd name="adj" fmla="val 25000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714240" y="2571840"/>
            <a:ext cx="2786040" cy="609480"/>
          </a:xfrm>
          <a:prstGeom prst="can">
            <a:avLst>
              <a:gd name="adj" fmla="val 25000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Articulating whil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714240" y="3143160"/>
            <a:ext cx="2786040" cy="609840"/>
          </a:xfrm>
          <a:prstGeom prst="can">
            <a:avLst>
              <a:gd name="adj" fmla="val 25000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uessing un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714240" y="3714840"/>
            <a:ext cx="2786040" cy="609480"/>
          </a:xfrm>
          <a:prstGeom prst="can">
            <a:avLst>
              <a:gd name="adj" fmla="val 25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714240" y="4286160"/>
            <a:ext cx="2786040" cy="609840"/>
          </a:xfrm>
          <a:prstGeom prst="can">
            <a:avLst>
              <a:gd name="adj" fmla="val 2500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714240" y="4857840"/>
            <a:ext cx="27860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714240" y="5429160"/>
            <a:ext cx="2786040" cy="60984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4240" y="6000840"/>
            <a:ext cx="2786040" cy="609480"/>
          </a:xfrm>
          <a:prstGeom prst="can">
            <a:avLst>
              <a:gd name="adj" fmla="val 25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642960" y="16430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64296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100008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Arial"/>
              </a:rPr>
              <a:t>Activity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143000" y="5572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21"/>
          <p:cNvSpPr/>
          <p:nvPr/>
        </p:nvSpPr>
        <p:spPr>
          <a:xfrm>
            <a:off x="3643200" y="3571920"/>
            <a:ext cx="1428840" cy="11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2"/>
          <p:cNvSpPr/>
          <p:nvPr/>
        </p:nvSpPr>
        <p:spPr>
          <a:xfrm>
            <a:off x="6869880" y="585792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9" descr="anilook.gif"/>
          <p:cNvPicPr/>
          <p:nvPr/>
        </p:nvPicPr>
        <p:blipFill>
          <a:blip r:embed="rId4"/>
          <a:stretch/>
        </p:blipFill>
        <p:spPr>
          <a:xfrm>
            <a:off x="142920" y="6429240"/>
            <a:ext cx="64296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Рисунок37.png"/>
          <p:cNvPicPr/>
          <p:nvPr/>
        </p:nvPicPr>
        <p:blipFill>
          <a:blip r:embed="rId2"/>
          <a:stretch/>
        </p:blipFill>
        <p:spPr>
          <a:xfrm>
            <a:off x="133200" y="1566720"/>
            <a:ext cx="2372040" cy="20116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5" descr="Рисунок37.png"/>
          <p:cNvPicPr/>
          <p:nvPr/>
        </p:nvPicPr>
        <p:blipFill>
          <a:blip r:embed="rId3"/>
          <a:stretch/>
        </p:blipFill>
        <p:spPr>
          <a:xfrm>
            <a:off x="853920" y="2992320"/>
            <a:ext cx="2438640" cy="20862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Рисунок37.png"/>
          <p:cNvPicPr/>
          <p:nvPr/>
        </p:nvPicPr>
        <p:blipFill>
          <a:blip r:embed="rId4"/>
          <a:stretch/>
        </p:blipFill>
        <p:spPr>
          <a:xfrm>
            <a:off x="1706400" y="4565520"/>
            <a:ext cx="2511720" cy="20113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8" descr="Рисунок37.png"/>
          <p:cNvPicPr/>
          <p:nvPr/>
        </p:nvPicPr>
        <p:blipFill>
          <a:blip r:embed="rId5"/>
          <a:stretch/>
        </p:blipFill>
        <p:spPr>
          <a:xfrm>
            <a:off x="3067200" y="1566720"/>
            <a:ext cx="2584440" cy="20116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9" descr="Рисунок37.png"/>
          <p:cNvPicPr/>
          <p:nvPr/>
        </p:nvPicPr>
        <p:blipFill>
          <a:blip r:embed="rId6"/>
          <a:stretch/>
        </p:blipFill>
        <p:spPr>
          <a:xfrm>
            <a:off x="3706920" y="3067200"/>
            <a:ext cx="2444760" cy="208440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0" descr="Рисунок37.png"/>
          <p:cNvPicPr/>
          <p:nvPr/>
        </p:nvPicPr>
        <p:blipFill>
          <a:blip r:embed="rId7"/>
          <a:stretch/>
        </p:blipFill>
        <p:spPr>
          <a:xfrm>
            <a:off x="4705200" y="4565520"/>
            <a:ext cx="2603520" cy="208440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2" descr="Рисунок37.png"/>
          <p:cNvPicPr/>
          <p:nvPr/>
        </p:nvPicPr>
        <p:blipFill>
          <a:blip r:embed="rId8"/>
          <a:stretch/>
        </p:blipFill>
        <p:spPr>
          <a:xfrm>
            <a:off x="5924520" y="1566720"/>
            <a:ext cx="2725920" cy="2084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Рисунок37.png"/>
          <p:cNvPicPr/>
          <p:nvPr/>
        </p:nvPicPr>
        <p:blipFill>
          <a:blip r:embed="rId9"/>
          <a:stretch/>
        </p:blipFill>
        <p:spPr>
          <a:xfrm>
            <a:off x="6566040" y="3067200"/>
            <a:ext cx="2444760" cy="20844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5"/>
          <p:cNvSpPr/>
          <p:nvPr/>
        </p:nvSpPr>
        <p:spPr>
          <a:xfrm>
            <a:off x="642960" y="2428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428840" y="3714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2357280" y="5500800"/>
            <a:ext cx="15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ut picture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643200" y="2357280"/>
            <a:ext cx="14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4429080" y="38577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21"/>
          <p:cNvSpPr/>
          <p:nvPr/>
        </p:nvSpPr>
        <p:spPr>
          <a:xfrm>
            <a:off x="5715000" y="5357880"/>
            <a:ext cx="121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6429240" y="228600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Multipl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7000920" y="392904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Retell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7072200" y="55008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3" descr="iCAQ59MFN"/>
          <p:cNvPicPr/>
          <p:nvPr/>
        </p:nvPicPr>
        <p:blipFill>
          <a:blip r:embed="rId10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24" descr="anilook.gif"/>
          <p:cNvPicPr/>
          <p:nvPr/>
        </p:nvPicPr>
        <p:blipFill>
          <a:blip r:embed="rId11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2"/>
          <p:cNvSpPr/>
          <p:nvPr/>
        </p:nvSpPr>
        <p:spPr>
          <a:xfrm>
            <a:off x="857160" y="1643040"/>
            <a:ext cx="7286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для обучения слушанию можно условно по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сделай подписи к картинке или нарисуй услышанн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trans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заполни таблицу, схему, карту на основе прослуша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in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выскажи м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2500200" y="600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lishteachers.ru/forum/index.php?showtopic=706&amp;view=findpost&amp;p=283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For teachers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How to Be a Good Listener: Good Listeners: 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://www.youtube.com/watch?v=tO68uTk-T_E&amp;feature=fv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youtube.com/watch?v=7AxNI3PhvBo&amp;feature=related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ESL / ELT listening comprehension - 5th grade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://www.youtube.com/watch?v=2xeIry9Kmbk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the presentation “Using audio resources”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docs.google.com/present/view?id=ddz7gq4w_0dkk24ff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voxopop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8"/>
              </a:rPr>
              <a:t>http://www.voxopop.com/signu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Listen and write dictation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9"/>
              </a:rPr>
              <a:t>http://www.listen-and-writ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Read about it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Go to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0"/>
              </a:rPr>
              <a:t>www.bbc.co.uk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.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Read the following discussion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 “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What do you think is the best way to improve academic listening skills?”        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1"/>
              </a:rPr>
              <a:t>http://www.bbc.co.uk/worldservice/learningenglish/teach/discuss/2009/04/090427_teach_discuss_al.shtml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YouTube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2"/>
              </a:rPr>
              <a:t>http://www.youtub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3"/>
              </a:rPr>
              <a:t>http://www.efl.ru/links/listening/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VOA Special English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4"/>
              </a:rPr>
              <a:t>http://www.voanews.com/specialenglish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4" name="Picture 33" descr="iCAQ59MFN"/>
          <p:cNvPicPr/>
          <p:nvPr/>
        </p:nvPicPr>
        <p:blipFill>
          <a:blip r:embed="rId15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Источники  информаци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grpSp>
        <p:nvGrpSpPr>
          <p:cNvPr id="586" name="Группа 26"/>
          <p:cNvGrpSpPr/>
          <p:nvPr/>
        </p:nvGrpSpPr>
        <p:grpSpPr>
          <a:xfrm>
            <a:off x="428760" y="1785960"/>
            <a:ext cx="8286480" cy="4714920"/>
            <a:chOff x="428760" y="1785960"/>
            <a:chExt cx="8286480" cy="4714920"/>
          </a:xfrm>
        </p:grpSpPr>
        <p:pic>
          <p:nvPicPr>
            <p:cNvPr id="587" name="Рисунок 27" descr="BD03200.png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828648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Прямоугольник 6"/>
            <p:cNvSpPr/>
            <p:nvPr/>
          </p:nvSpPr>
          <p:spPr>
            <a:xfrm>
              <a:off x="834840" y="1965240"/>
              <a:ext cx="7473960" cy="374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Рисунок 25" descr="2.bmp"/>
          <p:cNvPicPr/>
          <p:nvPr/>
        </p:nvPicPr>
        <p:blipFill>
          <a:blip r:embed="rId2"/>
          <a:srcRect l="0" t="0" r="0" b="5404"/>
          <a:stretch/>
        </p:blipFill>
        <p:spPr>
          <a:xfrm>
            <a:off x="214200" y="357120"/>
            <a:ext cx="2189160" cy="16430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8"/>
          <p:cNvSpPr/>
          <p:nvPr/>
        </p:nvSpPr>
        <p:spPr>
          <a:xfrm>
            <a:off x="1214280" y="2000160"/>
            <a:ext cx="6929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в Е. 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— концепция коммуникативного иноязычного образования. — М.: Просвещение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ина О.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удированию на уроках иностранного языка // Образование в современной школе. — 2001. — № 5-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ова Е.Н., Апальков В.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и контроль коммуникативных умений: традиции и перспективы. М.: Педагогический университет «Первое сентября»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цун О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Возможности аудирования, как вида речевой деятельности в формировании языковой компетенции»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http://festival.1september.ru/articles/311345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кина И.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«Аудирование.Теория и методика преподав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it-n.ru/board.aspx?cat_no=14410&amp;tmpl=Thread&amp;BoardId=15211&amp;ThreadId=165237&amp;page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pidsteps.com/en/ru/blogs/tags/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eachingenglish.org.uk/rus/think/articles/pre-listening-activitie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gilish.com/listening-activiti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ер – клас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иной Е.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t-n.ru/communities.aspx?cat_no=14410&amp;tmpl=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зентации из коллекци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500040" y="135720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 своей природе аудирование — эт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риятие акустического сигнала и аналитико-синтетический процесс по его обработке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, результатом которой является осмысление, понимание воспринимаемого объекта, сопоставление его с хранящимся в долговременной памяти образцом. Аудирование относится к рецептивному виду речевой деятельност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процессе обучения иностранному языку аудирование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редством и целью обучения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учение смысловому восприятию иноязычной речи на слух, то есть аудированию, — самый трудный для учащихся вид устной речевой деятельности, который может протекать без внешних проявлений, но требует больших интеллектуальных усилий со стороны воспринимающих иноязычную речь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4" name="Picture 33" descr="iCAQ59MFN"/>
          <p:cNvPicPr/>
          <p:nvPr/>
        </p:nvPicPr>
        <p:blipFill>
          <a:blip r:embed="rId2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3" descr=""/>
          <p:cNvPicPr/>
          <p:nvPr/>
        </p:nvPicPr>
        <p:blipFill>
          <a:blip r:embed="rId1"/>
          <a:stretch/>
        </p:blipFill>
        <p:spPr>
          <a:xfrm>
            <a:off x="341280" y="554040"/>
            <a:ext cx="85280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Результатом аудирования является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понимание или непонимание информации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Понимание речи на слух тесно связано с говорением – выражением мыслей средствами изучаемого языка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Говорение и аудирование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– две взаимосвязанные стороны устной речи. Аудирование – не только прием сообщения, но и подготовка во внутренней речи ответной реакции на услышанное. Чтобы сказать, надо услышать. Таким образом, аудирование подготавливает говорение, говорение помогает формированию восприятия речи на слух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Аудирование связано и с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чтение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Их объединяет принадлежность к рецептивным видам речевой деятельности, когда происходит восприятие – понимание – активная переработка информации, получаемой из речевых сообщений – при аудировании через слуховой канал, при чтении – через зрительный кан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Самым тесным образом связано аудирование и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с письмо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В процессе графического оформления человек проговаривает и слышит то, что пишет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Рисунок 3" descr="Audio.jpg"/>
          <p:cNvPicPr/>
          <p:nvPr/>
        </p:nvPicPr>
        <p:blipFill>
          <a:blip r:embed="rId2"/>
          <a:stretch/>
        </p:blipFill>
        <p:spPr>
          <a:xfrm>
            <a:off x="3706920" y="5851440"/>
            <a:ext cx="1371600" cy="866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9" descr="1.png"/>
          <p:cNvPicPr/>
          <p:nvPr/>
        </p:nvPicPr>
        <p:blipFill>
          <a:blip r:embed="rId2"/>
          <a:stretch/>
        </p:blipFill>
        <p:spPr>
          <a:xfrm>
            <a:off x="357120" y="1500120"/>
            <a:ext cx="82868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Схема 3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242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504800"/>
          </a:xfrm>
          <a:prstGeom prst="rect">
            <a:avLst/>
          </a:prstGeom>
          <a:ln w="0">
            <a:noFill/>
          </a:ln>
        </p:spPr>
      </p:pic>
      <p:pic>
        <p:nvPicPr>
          <p:cNvPr id="514" name="Содержимое 3" descr="listening.png"/>
          <p:cNvPicPr/>
          <p:nvPr/>
        </p:nvPicPr>
        <p:blipFill>
          <a:blip r:embed="rId2"/>
          <a:stretch/>
        </p:blipFill>
        <p:spPr>
          <a:xfrm>
            <a:off x="214200" y="1357200"/>
            <a:ext cx="8685360" cy="500076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5"/>
          <p:cNvGrpSpPr/>
          <p:nvPr/>
        </p:nvGrpSpPr>
        <p:grpSpPr>
          <a:xfrm>
            <a:off x="140760" y="214200"/>
            <a:ext cx="1187640" cy="1117080"/>
            <a:chOff x="140760" y="214200"/>
            <a:chExt cx="1187640" cy="1117080"/>
          </a:xfrm>
        </p:grpSpPr>
        <p:pic>
          <p:nvPicPr>
            <p:cNvPr id="516" name="TextBox 5" descr="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76824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Рисунок 7" descr="isanic.gif"/>
            <p:cNvPicPr/>
            <p:nvPr/>
          </p:nvPicPr>
          <p:blipFill>
            <a:blip r:embed="rId4"/>
            <a:stretch/>
          </p:blipFill>
          <p:spPr>
            <a:xfrm rot="835200">
              <a:off x="206640" y="533880"/>
              <a:ext cx="105516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Рисунок 9" descr="headphones.gif"/>
            <p:cNvPicPr/>
            <p:nvPr/>
          </p:nvPicPr>
          <p:blipFill>
            <a:blip r:embed="rId5"/>
            <a:stretch/>
          </p:blipFill>
          <p:spPr>
            <a:xfrm>
              <a:off x="151560" y="422280"/>
              <a:ext cx="75888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Box 8"/>
          <p:cNvSpPr/>
          <p:nvPr/>
        </p:nvSpPr>
        <p:spPr>
          <a:xfrm>
            <a:off x="357120" y="64292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mind42.com/about;jsessionid=A9A14662DB6C776741B4C538B1BF192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9" descr="anilook.gif"/>
          <p:cNvPicPr/>
          <p:nvPr/>
        </p:nvPicPr>
        <p:blipFill>
          <a:blip r:embed="rId7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9"/>
          <p:cNvSpPr/>
          <p:nvPr/>
        </p:nvSpPr>
        <p:spPr>
          <a:xfrm>
            <a:off x="5786280" y="54291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N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6286680" y="2857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Voxo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643040" y="4000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5" name="Содержимое 3" descr=""/>
          <p:cNvPicPr/>
          <p:nvPr/>
        </p:nvPicPr>
        <p:blipFill>
          <a:blip r:embed="rId2"/>
          <a:stretch/>
        </p:blipFill>
        <p:spPr>
          <a:xfrm>
            <a:off x="396720" y="1322280"/>
            <a:ext cx="8345520" cy="53960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" descr="girl-05.jpg"/>
          <p:cNvPicPr/>
          <p:nvPr/>
        </p:nvPicPr>
        <p:blipFill>
          <a:blip r:embed="rId3"/>
          <a:stretch/>
        </p:blipFill>
        <p:spPr>
          <a:xfrm>
            <a:off x="7286760" y="928800"/>
            <a:ext cx="1643040" cy="1877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3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30" name="Схема 11" descr=""/>
          <p:cNvPicPr/>
          <p:nvPr/>
        </p:nvPicPr>
        <p:blipFill>
          <a:blip r:embed="rId3"/>
          <a:stretch/>
        </p:blipFill>
        <p:spPr>
          <a:xfrm>
            <a:off x="152280" y="1384200"/>
            <a:ext cx="8693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07:06Z</dcterms:created>
  <dc:creator>Митюгина Т.Г.</dc:creator>
  <dc:description/>
  <dc:language>en-US</dc:language>
  <cp:lastModifiedBy>Tatyana</cp:lastModifiedBy>
  <dcterms:modified xsi:type="dcterms:W3CDTF">2011-09-28T12:53:34Z</dcterms:modified>
  <cp:revision>68</cp:revision>
  <dc:subject/>
  <dc:title>Аудирование (конспект лекц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