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510-7D5E-4046-B64A-279D59BB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8BD-938C-4605-9A04-64492FC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3BC-11BA-4874-B946-9C1C0350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CF9-77D9-40CF-B520-88ADE832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42E9-CA25-4DE8-8DFC-4123E18D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B22A-1D3D-4ADB-8603-B18450AA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57C3-2962-4BB7-8D65-2EF2EC0E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BA6-6B2C-4024-BD8F-4B4202A1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CC70-8F8B-4520-B8A4-F54A06A8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393-691C-4CF4-BD4B-25DAC25D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CBE-E468-4CC1-885E-9C7C8CE1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3E1-4B78-4EB6-A2DD-40728AAA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577B-604B-4FC6-8574-84C4FC7F4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380880" y="1522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тер-класс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менение деятельностного подхода на этапе изучения нового материала» 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6"/>
          <p:cNvSpPr/>
          <p:nvPr/>
        </p:nvSpPr>
        <p:spPr>
          <a:xfrm>
            <a:off x="228600" y="5533920"/>
            <a:ext cx="861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бченко Елена Ивановна,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физики и математики МБОУ «Старобобовичская СОШ» Новозыбковского района Брянской области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 г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4267440" cy="3962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19320" y="76212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Школа не должна научить на всю жизнь,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Школа должна научить учиться всю жизнь.”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сточная мудрость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2889720" y="15228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О самом главном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154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рганизация деятельности учащихся по созданию понятий «Механическое движение, траектория, путь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152280" y="1227960"/>
            <a:ext cx="91440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Проблемный полилог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рганизовать работу класса на решение проблемной задачи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определению понятия механического движения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br>
              <a:rPr sz="1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1066680" y="350532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ья нет, - сказал мудрец брадатый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гой смолчал и стал пред ним ходить»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   А . С. Пушкин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1447920" y="4876920"/>
            <a:ext cx="6191280" cy="16761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0"/>
          <p:cNvSpPr/>
          <p:nvPr/>
        </p:nvSpPr>
        <p:spPr>
          <a:xfrm>
            <a:off x="0" y="2044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гра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кретизировать ярким примером абстрактное понятие «траектория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2746440" cy="3078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E:\Москва\Обобщение опыта\P1010055.JPG"/>
          <p:cNvPicPr/>
          <p:nvPr/>
        </p:nvPicPr>
        <p:blipFill>
          <a:blip r:embed="rId2"/>
          <a:stretch/>
        </p:blipFill>
        <p:spPr>
          <a:xfrm>
            <a:off x="838080" y="29718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9"/>
          <p:cNvSpPr/>
          <p:nvPr/>
        </p:nvSpPr>
        <p:spPr>
          <a:xfrm>
            <a:off x="380880" y="4788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Calibri"/>
              </a:rPr>
              <a:t>Метод «Исследователи»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вать навыки исследовательской деятельности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ученики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438280" y="1773360"/>
            <a:ext cx="4876920" cy="4813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7"/>
          <p:cNvSpPr/>
          <p:nvPr/>
        </p:nvSpPr>
        <p:spPr>
          <a:xfrm>
            <a:off x="0" y="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Метод «Интерактивный рисунок»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аботу учащихся по классификации  движения на прямолинейное и криволинейное в зависимости от траектории тела.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ченики. 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8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" descr=""/>
          <p:cNvPicPr/>
          <p:nvPr/>
        </p:nvPicPr>
        <p:blipFill>
          <a:blip r:embed="rId3"/>
          <a:stretch/>
        </p:blipFill>
        <p:spPr>
          <a:xfrm>
            <a:off x="4952880" y="236232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1" descr="http://dxmbkxacdb7tv.cloudfront.net/ab3cbb60-c33b-4026-aa05-df7d715a1ef1/%D0%BC%D1%8F%D1%87.png"/>
          <p:cNvPicPr/>
          <p:nvPr/>
        </p:nvPicPr>
        <p:blipFill>
          <a:blip r:embed="rId4"/>
          <a:stretch/>
        </p:blipFill>
        <p:spPr>
          <a:xfrm>
            <a:off x="7010280" y="2362320"/>
            <a:ext cx="18288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10"/>
          <p:cNvGraphicFramePr/>
          <p:nvPr/>
        </p:nvGraphicFramePr>
        <p:xfrm>
          <a:off x="228600" y="5562720"/>
          <a:ext cx="2971800" cy="110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5562720"/>
                    <a:ext cx="29718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4" name="Рисунок 14" descr=""/>
          <p:cNvPicPr/>
          <p:nvPr/>
        </p:nvPicPr>
        <p:blipFill>
          <a:blip r:embed="rId7"/>
          <a:stretch/>
        </p:blipFill>
        <p:spPr>
          <a:xfrm>
            <a:off x="228600" y="3886200"/>
            <a:ext cx="2971800" cy="1600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{E6B73230-AA3F-430A-8A8C-91D42DDB21CE}"/>
          <p:cNvPicPr/>
          <p:nvPr/>
        </p:nvPicPr>
        <p:blipFill>
          <a:blip r:embed="rId8"/>
          <a:stretch/>
        </p:blipFill>
        <p:spPr>
          <a:xfrm>
            <a:off x="3352680" y="3886200"/>
            <a:ext cx="312444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2"/>
          <p:cNvGraphicFramePr/>
          <p:nvPr/>
        </p:nvGraphicFramePr>
        <p:xfrm>
          <a:off x="6629400" y="3962520"/>
          <a:ext cx="2247840" cy="256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3962520"/>
                    <a:ext cx="2247840" cy="25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0"/>
          <p:cNvSpPr/>
          <p:nvPr/>
        </p:nvSpPr>
        <p:spPr>
          <a:xfrm>
            <a:off x="609480" y="1868040"/>
            <a:ext cx="8229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лементы педагогических технологий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ного подхода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ой деятельности;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ого обуч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2400"/>
            </a:br>
            <a:br>
              <a:rPr sz="1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152280" y="-228600"/>
            <a:ext cx="899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орьте, заблуждайтесь, ошибайтесь, но, ради бога, размышляйте, и хотя и криво, да сам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. Лессинг, нем. поэт, драматург XVIII в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2"/>
          <a:stretch/>
        </p:blipFill>
        <p:spPr>
          <a:xfrm>
            <a:off x="5105520" y="3733920"/>
            <a:ext cx="1981080" cy="2627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881600" cy="42940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1"/>
          <p:cNvSpPr/>
          <p:nvPr/>
        </p:nvSpPr>
        <p:spPr>
          <a:xfrm>
            <a:off x="0" y="0"/>
            <a:ext cx="91440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Ценность человека должна определяться тем, что он дает, а не тем, чего он способен добиться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айтесь стать не успешным, а ценным человеком»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ьберт Эйнштейн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01-12-31T21:08:48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